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3.png" ContentType="image/png"/>
  <Override PartName="/ppt/media/image2.gif" ContentType="image/gif"/>
  <Override PartName="/ppt/media/image5.png" ContentType="image/png"/>
  <Override PartName="/ppt/media/image25.wmf" ContentType="image/x-wmf"/>
  <Override PartName="/ppt/media/image22.png" ContentType="image/png"/>
  <Override PartName="/ppt/media/image1.gif" ContentType="image/gif"/>
  <Override PartName="/ppt/media/image19.gif" ContentType="image/gif"/>
  <Override PartName="/ppt/media/image24.png" ContentType="image/png"/>
  <Override PartName="/ppt/media/image21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B42E3F-CA86-4521-92A8-94F2F6B30E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8E3-C1BA-4B86-BAC6-F69A62D3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2B1-DDFF-46A4-8FA9-94C9327D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CCB-1D44-4582-93A5-390D3C3F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AE9-E503-4617-9C37-4B5A583A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44D-D90F-4D11-AD34-FC8F602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F0B-283F-477E-9CCE-CEF530C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67E-52D4-4D2F-BCEE-8EDD1A0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69B-B73E-47B5-99E2-2AD132EB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7D5-A54C-4926-921D-775F2CA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F0A-49AF-45E4-8934-423C25A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B16-0E3F-4EAD-A154-627CDCD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D89-085B-42FF-A051-A7DBAD0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838-5B69-4BC0-B844-7C7FE9C5A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1.gif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74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75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00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27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28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183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184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4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235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236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237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239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243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267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273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293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52:22Z</dcterms:modified>
  <cp:revision>93</cp:revision>
  <dc:subject/>
  <dc:title>Data Representation Methods</dc:title>
</cp:coreProperties>
</file>