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xa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219320" y="198108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oints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Score = 5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= 42.5 (7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Last Semester Average = 6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ISE Industrial Advisory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83808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 Interaction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il 6, 2-5pm, CSE A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erson Consulting       Parad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r Systems                    Path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Systems                  Price Water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xon Mobil                    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                              Sie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ter-Joyce                    Sun Micr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                                  Tech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Network                    Vcom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23623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been po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Wed. April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ser Poi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 who loaned me his laser pointer Friday should pick it up after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ferred Customer</dc:creator>
  <dc:description/>
  <dc:language>en-US</dc:language>
  <cp:lastModifiedBy>Preferred Customer</cp:lastModifiedBy>
  <cp:revision>0</cp:revision>
  <dc:subject/>
  <dc:title>Data Representation Methods</dc:title>
</cp:coreProperties>
</file>