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94C-139A-4420-80BA-CC1B3AC6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B13-A78A-4C82-BB0E-50EF9E9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462-9D33-491F-A070-EF797BA8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6A5-A6FF-4284-82AE-ACFFAE26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08D-FBC6-4571-AEE9-6E3C14FD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1B4-FCC9-4054-BB0B-DA239129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CAA-26A2-4D9C-994A-A90A55FE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A9B-61E1-4756-8766-79C53781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451-3912-496C-8B94-3BE83766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B08-6356-4CD4-9279-BF6FD473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196-E57B-4FC0-BE2F-5EBA1A0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404-3107-41DB-9A87-0401A88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B7F-6A7D-4CD2-8363-B5807E53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17:06Z</dcterms:modified>
  <cp:revision>270</cp:revision>
  <dc:subject/>
  <dc:title>Data Representation Methods</dc:title>
</cp:coreProperties>
</file>