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CC6499-DD00-4441-B7A3-A1F18AC4A1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nnection. Vertices are computers. Send email from 1 to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efine balance factor as height or right subtree – height of left sub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alance factors on insert path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C32-9C00-40CD-8506-FAC4FF38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9B5-C999-4A41-A568-E61B2E6A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278-C99A-445E-B581-84BB32E4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49B-3710-4D34-83EE-F3F861CA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03B-E5BE-42B7-93A1-F07D2E6E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FC7-774B-444B-BCDB-3035F0DF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1A2-3F99-477B-A73C-600196C2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794-1A61-4CDC-9E6F-581A4123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C32-9083-4718-9706-4289B868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BC3-2FD6-4D85-83E8-9E996FB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A20-CF2B-4830-8617-EB84731E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A17-7A58-42B7-B9C5-135078C7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8F14-EEA2-4F05-B8FA-ED06F6F9F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d Binary Search Trees  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elements in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L (Adelson-Velsky and Landis)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-black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, put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LIGH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LEFTSPOT" descr=""/>
          <p:cNvPicPr/>
          <p:nvPr/>
        </p:nvPicPr>
        <p:blipFill>
          <a:blip r:embed="rId2"/>
          <a:stretch/>
        </p:blipFill>
        <p:spPr>
          <a:xfrm>
            <a:off x="7543800" y="7621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2057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232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7242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96080" y="3733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0772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44960" y="55688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6021360"/>
            <a:ext cx="4953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R  rota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19360" y="518148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93320" y="5288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8640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Rot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Black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lored Nodes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is colo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and all external nodes are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oot-to-external-node path has two consecutive red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root-to-external-node paths have the same number of black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Red 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35080" y="1987560"/>
            <a:ext cx="8750160" cy="4637160"/>
            <a:chOff x="235080" y="1987560"/>
            <a:chExt cx="8750160" cy="4637160"/>
          </a:xfrm>
        </p:grpSpPr>
        <p:sp>
          <p:nvSpPr>
            <p:cNvPr id="335" name=""/>
            <p:cNvSpPr/>
            <p:nvPr/>
          </p:nvSpPr>
          <p:spPr>
            <a:xfrm>
              <a:off x="4425840" y="19875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924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358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0176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5424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6560" y="38163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2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35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742840" y="2286000"/>
              <a:ext cx="1676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2286000"/>
              <a:ext cx="17524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676520" y="335268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6880" y="335268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791320" y="342900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990720" y="41911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76520" y="419112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83040" y="4807080"/>
              <a:ext cx="44460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181120" y="42670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92880" y="55688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525780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02360" y="46544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1320" y="419112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02560" y="37400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10280" y="335268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36080" y="4578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77320" y="411480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19720" y="2057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6232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24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1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4952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10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940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769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86400" y="5638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47242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96080" y="3733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29600" y="46483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50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731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303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924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7336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6408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97240" y="5797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83040" y="63324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02360" y="63324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26040" y="56466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358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21680" y="480852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3116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932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60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426708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743200" y="42670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80520" y="53341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90720" y="53341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6765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337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266720" y="525780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029200" y="594360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1320" y="6019920"/>
              <a:ext cx="53316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171840" y="51055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7120" y="5029200"/>
              <a:ext cx="304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467120" y="4191120"/>
              <a:ext cx="3812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8077320" y="495288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10480" y="502920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Black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lored Edges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pointers are colo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er to an external node is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oot to external node path has two consecuti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root to external node path has the same number of black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Red 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35080" y="1987560"/>
            <a:ext cx="8750160" cy="4637160"/>
            <a:chOff x="235080" y="1987560"/>
            <a:chExt cx="8750160" cy="4637160"/>
          </a:xfrm>
        </p:grpSpPr>
        <p:sp>
          <p:nvSpPr>
            <p:cNvPr id="405" name=""/>
            <p:cNvSpPr/>
            <p:nvPr/>
          </p:nvSpPr>
          <p:spPr>
            <a:xfrm>
              <a:off x="4425840" y="19875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924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358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0176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5424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16560" y="38163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2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35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742840" y="2286000"/>
              <a:ext cx="1676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76920" y="2286000"/>
              <a:ext cx="17524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676520" y="335268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6880" y="335268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791320" y="3429000"/>
              <a:ext cx="914400" cy="38088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990720" y="4191120"/>
              <a:ext cx="380880" cy="6858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6520" y="4191120"/>
              <a:ext cx="304560" cy="6858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83040" y="4807080"/>
              <a:ext cx="44460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5181120" y="42670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92880" y="55688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81480" y="5257800"/>
              <a:ext cx="45720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02360" y="46544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91320" y="419112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02560" y="37400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10280" y="335268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36080" y="4578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77320" y="4114800"/>
              <a:ext cx="304560" cy="457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2057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32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24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5120" y="4952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10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2940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769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6400" y="5638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5880" y="47242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96080" y="3733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229600" y="46483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50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31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303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924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7336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6408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97240" y="5797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83040" y="63324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02360" y="63324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26040" y="56466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358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21680" y="480852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3116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932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7160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426708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743200" y="42670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80520" y="53341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90720" y="53341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765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7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266720" y="525780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029200" y="594360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91320" y="6019920"/>
              <a:ext cx="53316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171840" y="51055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77120" y="5029200"/>
              <a:ext cx="304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467120" y="4191120"/>
              <a:ext cx="3812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077320" y="495288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10480" y="502920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a red black tree that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ternal) nodes is betwe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+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util.TreeMap =&gt; red black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 = (V,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ertex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are also called nodes and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dg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connects two different verti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are also called arc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edge has an orien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279080" y="6033960"/>
            <a:ext cx="1769040" cy="519120"/>
            <a:chOff x="1279080" y="6033960"/>
            <a:chExt cx="1769040" cy="519120"/>
          </a:xfrm>
        </p:grpSpPr>
        <p:sp>
          <p:nvSpPr>
            <p:cNvPr id="476" name=""/>
            <p:cNvSpPr/>
            <p:nvPr/>
          </p:nvSpPr>
          <p:spPr>
            <a:xfrm>
              <a:off x="1600200" y="6324480"/>
              <a:ext cx="99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79080" y="60339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33720" y="6033960"/>
              <a:ext cx="91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 edge has no orien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507680" y="2604960"/>
            <a:ext cx="1769040" cy="519120"/>
            <a:chOff x="1507680" y="2604960"/>
            <a:chExt cx="1769040" cy="519120"/>
          </a:xfrm>
        </p:grpSpPr>
        <p:sp>
          <p:nvSpPr>
            <p:cNvPr id="482" name=""/>
            <p:cNvSpPr/>
            <p:nvPr/>
          </p:nvSpPr>
          <p:spPr>
            <a:xfrm>
              <a:off x="1828800" y="2895480"/>
              <a:ext cx="99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07680" y="26049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2320" y="2604960"/>
              <a:ext cx="91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762120" y="3733920"/>
            <a:ext cx="777240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 grap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 oriented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grap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ry edge ha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ient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directed Grap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488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d Binary Search Trees  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AVL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red-black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operations als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rected Graph (Digraph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522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pplications—Communication Network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= city, edge = communication l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557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riving Distance/Time M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= city, edge  weight = driving distance/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592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57400" y="205740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29000" y="236232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95680" y="274320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8320" y="4038480"/>
              <a:ext cx="3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14800" y="47242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71800" y="396252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05120" y="3048120"/>
              <a:ext cx="3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67080" y="37339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00600" y="33526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0080" y="304812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24480" y="31240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67480" y="33526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eet M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62120" y="563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reets are on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639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67080" y="3733920"/>
              <a:ext cx="10670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86400" y="4114440"/>
              <a:ext cx="144792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te Undirected Grap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ll possible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85800" y="4197240"/>
            <a:ext cx="1219320" cy="1107000"/>
            <a:chOff x="685800" y="4197240"/>
            <a:chExt cx="1219320" cy="1107000"/>
          </a:xfrm>
        </p:grpSpPr>
        <p:sp>
          <p:nvSpPr>
            <p:cNvPr id="676" name=""/>
            <p:cNvSpPr/>
            <p:nvPr/>
          </p:nvSpPr>
          <p:spPr>
            <a:xfrm>
              <a:off x="9968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800" y="472428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133720" y="3130560"/>
            <a:ext cx="1218960" cy="2173680"/>
            <a:chOff x="2133720" y="3130560"/>
            <a:chExt cx="1218960" cy="2173680"/>
          </a:xfrm>
        </p:grpSpPr>
        <p:sp>
          <p:nvSpPr>
            <p:cNvPr id="679" name=""/>
            <p:cNvSpPr/>
            <p:nvPr/>
          </p:nvSpPr>
          <p:spPr>
            <a:xfrm>
              <a:off x="2368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8440" y="3130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90920" y="3581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33720" y="472428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044960" y="3206880"/>
            <a:ext cx="1511280" cy="2097360"/>
            <a:chOff x="4044960" y="3206880"/>
            <a:chExt cx="1511280" cy="2097360"/>
          </a:xfrm>
        </p:grpSpPr>
        <p:sp>
          <p:nvSpPr>
            <p:cNvPr id="684" name=""/>
            <p:cNvSpPr/>
            <p:nvPr/>
          </p:nvSpPr>
          <p:spPr>
            <a:xfrm>
              <a:off x="4502160" y="3206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4496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116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6920" y="358128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4266720" y="358128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95680" y="44956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14800" y="472428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561000" y="3130560"/>
            <a:ext cx="1892520" cy="2021400"/>
            <a:chOff x="6561000" y="3130560"/>
            <a:chExt cx="1892520" cy="2021400"/>
          </a:xfrm>
        </p:grpSpPr>
        <p:sp>
          <p:nvSpPr>
            <p:cNvPr id="692" name=""/>
            <p:cNvSpPr/>
            <p:nvPr/>
          </p:nvSpPr>
          <p:spPr>
            <a:xfrm>
              <a:off x="66358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5664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08920" y="4121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56100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086600" y="33526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53280" y="3581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58000" y="3581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10280" y="44197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86600" y="3505320"/>
              <a:ext cx="9907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6933960" y="3505320"/>
              <a:ext cx="9903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086600" y="45720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umber Of Edges—Undirected Graph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is of the for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!=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uch pairs i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ame as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v,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umber of edges in a complete un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dges in an un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n(n-1)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umber Of Edges—Directed Graph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is of the for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!=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uch pairs i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as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v,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umber of edges in a complete 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dges in a 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n(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ertex Deg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568908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dges incident to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gree(2)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gree(5)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gree(3)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710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m Of Vertex Deg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212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degre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ed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048120" y="2286000"/>
            <a:ext cx="2584440" cy="1838160"/>
            <a:chOff x="3048120" y="2286000"/>
            <a:chExt cx="2584440" cy="1838160"/>
          </a:xfrm>
        </p:grpSpPr>
        <p:sp>
          <p:nvSpPr>
            <p:cNvPr id="745" name=""/>
            <p:cNvSpPr/>
            <p:nvPr/>
          </p:nvSpPr>
          <p:spPr>
            <a:xfrm>
              <a:off x="3581640" y="228600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3048120" y="2355480"/>
              <a:ext cx="2584440" cy="1768680"/>
              <a:chOff x="3048120" y="2355480"/>
              <a:chExt cx="2584440" cy="1768680"/>
            </a:xfrm>
          </p:grpSpPr>
          <p:sp>
            <p:nvSpPr>
              <p:cNvPr id="747" name=""/>
              <p:cNvSpPr/>
              <p:nvPr/>
            </p:nvSpPr>
            <p:spPr>
              <a:xfrm>
                <a:off x="5181840" y="259020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048120" y="350460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72360" y="365688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3270600" y="2736360"/>
                <a:ext cx="457200" cy="76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956400" y="2660040"/>
                <a:ext cx="914400" cy="9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4870800" y="3040560"/>
                <a:ext cx="53316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651480" y="2355480"/>
                <a:ext cx="22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175360" y="266004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117960" y="3574440"/>
                <a:ext cx="22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565880" y="3726720"/>
                <a:ext cx="762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-Degree Of A Verte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-degree is number of incoming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gree(2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gree(8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760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d Search Trees  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balanced binary 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3 &amp; 2-3-4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-Degree Of A Verte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-degree is number of outbound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utdegree(2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utdegree(8)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795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m Of In- And Out-Deg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contribut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in-degree of some vertex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out-degree of some other ve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in-degre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out-degre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edges in the di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fine its balance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alance factor of x = height of left subtree of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- height of right subtree of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factor of every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 Facto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07000" y="452592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6095520"/>
            <a:ext cx="6400800" cy="7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n AVL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an AVL tree that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i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.44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ever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binary tree is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92920" y="1706400"/>
            <a:ext cx="8237880" cy="4329720"/>
            <a:chOff x="592920" y="1706400"/>
            <a:chExt cx="8237880" cy="4329720"/>
          </a:xfrm>
        </p:grpSpPr>
        <p:sp>
          <p:nvSpPr>
            <p:cNvPr id="102" name=""/>
            <p:cNvSpPr/>
            <p:nvPr/>
          </p:nvSpPr>
          <p:spPr>
            <a:xfrm>
              <a:off x="4425840" y="1987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92480" y="2978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35880" y="2978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01760" y="3816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54240" y="3816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16560" y="3816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2280" y="4883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35280" y="4883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742840" y="2286000"/>
              <a:ext cx="1676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2286000"/>
              <a:ext cx="17524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599840" y="335268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880" y="335268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791320" y="342900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90720" y="41911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6520" y="419112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83040" y="4807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181120" y="42670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2920" y="4602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16800" y="4602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0120" y="3535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2080" y="3611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16800" y="2697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2880" y="5568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525780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74400" y="5364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07000" y="45259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2360" y="4654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19112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60200" y="4525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40880" y="3535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02560" y="3740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280" y="335268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6080" y="4578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77320" y="411480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17600" y="4297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60040" y="34592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69680" y="2697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3320" y="170640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2057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6232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160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5120" y="4952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10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2940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86400" y="5638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5880" y="47242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96080" y="3733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29600" y="46483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(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07000" y="452592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4080" y="48070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4191120"/>
            <a:ext cx="38088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22640" y="4602240"/>
            <a:ext cx="31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17360" y="356544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60320" y="26510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64987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2057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47242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3733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2960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7280" y="61786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2057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2940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47242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3733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2960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6248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5867280"/>
            <a:ext cx="533520" cy="3812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651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54920" y="53640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07000" y="452592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26120" y="4602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5411880"/>
            <a:ext cx="49532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 imbalance =&gt; new node is in right subtree of right subtree of blue node (node with b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33:11Z</dcterms:modified>
  <cp:revision>68</cp:revision>
  <dc:subject/>
  <dc:title>Data Representation Methods</dc:title>
</cp:coreProperties>
</file>