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F59-D2E2-4A41-945C-24E576D8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2FD-69D6-473F-BD50-190E9B2C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87D-0B48-459D-8FFA-DD4435C9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354-591F-495E-B933-A9BB3E70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926-5F5D-4CD1-9DC8-E04DB286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822-18CC-49C1-BEB6-C0CF2DAC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C0F-8EE4-46CD-8A85-DC2C7BC0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F74-91CD-4908-A662-796A7008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03A-F9AC-400A-8019-0C5A5F19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0D7-50A2-4F98-9173-E2A4ADB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79C-C6B7-433B-B0EB-81DA7935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FD3-8C79-4EB6-AFC6-CE6449D4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F803-F9D5-4C72-AAC7-8BE3DFB1B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… Wednesday, Sept 16, Periods E2 and E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 2333, 2334, 2336, 2342, 2346, 23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bulletin board for section to room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cture on Wednesday Period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’s lecture will be taped Thursday Period 4 in CSE 2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09-24T14:15:26Z</dcterms:modified>
  <cp:revision>3</cp:revision>
  <dc:subject/>
  <dc:title>Announcements</dc:title>
</cp:coreProperties>
</file>