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image10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1280"/>
            <a:ext cx="46242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E023-DE05-415F-B839-884F57A511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no recomputation recursive version computes f(1,c) and some (maybe even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i,y), i &gt; 1, 0 &lt;= y &lt;= c. Iterative version computes f(1,c) and all f(i,y), i &gt; 1, 0 &lt;= y &lt;= 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216-924B-449B-B817-FFB754E6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D2E-9886-4AF6-80D5-60BEE4A1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BDF-DDF2-4BF2-9162-8EA71EB8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795-8D30-47C9-9DBA-44C76ABE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CC3-2008-4E0B-81B0-23D46F6E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8E5-4C6B-426C-8D1E-B48AF530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764-2676-4593-8987-CEDF6020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B76-CBFE-4FCB-9DE3-E186FFF2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885-CB0D-4EFB-B8A7-53D3441A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B24-0B24-46D2-B538-25783D58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154-C74C-40D7-BC83-79FC38C7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4DB-A39D-45A6-A7DD-5A4153D5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2776-B6E1-4544-A77A-B38A9478B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the problem solution as the result of a sequence of deci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a formulation for the problem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y that the principle of optimality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up the dynamic programming recurrence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se equations for the value of the optimal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a traceback to determine the optimal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YELLOW-B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51" name="YELLOW-B" descr=""/>
          <p:cNvPicPr/>
          <p:nvPr/>
        </p:nvPicPr>
        <p:blipFill>
          <a:blip r:embed="rId2"/>
          <a:stretch/>
        </p:blipFill>
        <p:spPr>
          <a:xfrm>
            <a:off x="7391520" y="685800"/>
            <a:ext cx="3204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Implem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initialize f[n]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Max = Math.min(w[n] - 1, 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0; y &lt;= yMax; y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[n][y]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w[n]; y &lt;= c; y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[n][y] = p[n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YELLOW-B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844" name="YELLOW-B" descr=""/>
          <p:cNvPicPr/>
          <p:nvPr/>
        </p:nvPicPr>
        <p:blipFill>
          <a:blip r:embed="rId2"/>
          <a:stretch/>
        </p:blipFill>
        <p:spPr>
          <a:xfrm>
            <a:off x="7620120" y="685800"/>
            <a:ext cx="320400" cy="3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Implem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compute f[i][y], 1 &lt; i &lt;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= n - 1; i &gt; 1; i-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Max = Math.min(w[i] - 1, 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0; y &lt;= yMax; y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[i][y] = f[i + 1][y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w[i]; y &lt;= c; y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[i][y] = Math.max(f[i + 1][y]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[i + 1][y - w[i]] + p[i]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Implem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/ compute f[1][c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[1][c] = f[2][c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 &gt;= w[1]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[1][c] = Math.max(f[1][c]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[2][c-w[1]] + p[1]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c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for the recursive version with no recomp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 version is expected to run faster because of lower overhe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ecks to see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[i][j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ready computed (but al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[i][j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omput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calls replaced by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CLOCK43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3,5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8,10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228600" y="2286000"/>
            <a:ext cx="7162920" cy="3856680"/>
            <a:chOff x="228600" y="2286000"/>
            <a:chExt cx="7162920" cy="3856680"/>
          </a:xfrm>
        </p:grpSpPr>
        <p:sp>
          <p:nvSpPr>
            <p:cNvPr id="855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309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309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638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5970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305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640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1972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307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2642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7974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3309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52680" y="55627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809880" y="5943600"/>
              <a:ext cx="83844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23880" y="28195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523880" y="335268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523880" y="38862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23880" y="44197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523880" y="495288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8600" y="251460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f[i][y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1337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432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767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80988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434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769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41008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9436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4771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010280" y="3429000"/>
              <a:ext cx="381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62920" y="39625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9" name=""/>
            <p:cNvGrpSpPr/>
            <p:nvPr/>
          </p:nvGrpSpPr>
          <p:grpSpPr>
            <a:xfrm>
              <a:off x="2063880" y="2819520"/>
              <a:ext cx="520560" cy="527040"/>
              <a:chOff x="2063880" y="2819520"/>
              <a:chExt cx="520560" cy="527040"/>
            </a:xfrm>
          </p:grpSpPr>
          <p:sp>
            <p:nvSpPr>
              <p:cNvPr id="920" name=""/>
              <p:cNvSpPr/>
              <p:nvPr/>
            </p:nvSpPr>
            <p:spPr>
              <a:xfrm>
                <a:off x="206388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133720" y="281952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2597040" y="2819520"/>
              <a:ext cx="520920" cy="527040"/>
              <a:chOff x="2597040" y="2819520"/>
              <a:chExt cx="520920" cy="527040"/>
            </a:xfrm>
          </p:grpSpPr>
          <p:sp>
            <p:nvSpPr>
              <p:cNvPr id="923" name=""/>
              <p:cNvSpPr/>
              <p:nvPr/>
            </p:nvSpPr>
            <p:spPr>
              <a:xfrm>
                <a:off x="2597040" y="28256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66688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3130560" y="2819520"/>
              <a:ext cx="520560" cy="527040"/>
              <a:chOff x="3130560" y="2819520"/>
              <a:chExt cx="520560" cy="527040"/>
            </a:xfrm>
          </p:grpSpPr>
          <p:sp>
            <p:nvSpPr>
              <p:cNvPr id="926" name=""/>
              <p:cNvSpPr/>
              <p:nvPr/>
            </p:nvSpPr>
            <p:spPr>
              <a:xfrm>
                <a:off x="313056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20040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3664080" y="2819520"/>
              <a:ext cx="520560" cy="527040"/>
              <a:chOff x="3664080" y="2819520"/>
              <a:chExt cx="520560" cy="527040"/>
            </a:xfrm>
          </p:grpSpPr>
          <p:sp>
            <p:nvSpPr>
              <p:cNvPr id="929" name=""/>
              <p:cNvSpPr/>
              <p:nvPr/>
            </p:nvSpPr>
            <p:spPr>
              <a:xfrm>
                <a:off x="366408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733920" y="281952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4197240" y="2819520"/>
              <a:ext cx="520920" cy="527040"/>
              <a:chOff x="4197240" y="2819520"/>
              <a:chExt cx="520920" cy="527040"/>
            </a:xfrm>
          </p:grpSpPr>
          <p:sp>
            <p:nvSpPr>
              <p:cNvPr id="932" name=""/>
              <p:cNvSpPr/>
              <p:nvPr/>
            </p:nvSpPr>
            <p:spPr>
              <a:xfrm>
                <a:off x="4197240" y="28256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26708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4730760" y="2819520"/>
              <a:ext cx="520560" cy="527040"/>
              <a:chOff x="4730760" y="2819520"/>
              <a:chExt cx="520560" cy="527040"/>
            </a:xfrm>
          </p:grpSpPr>
          <p:sp>
            <p:nvSpPr>
              <p:cNvPr id="935" name=""/>
              <p:cNvSpPr/>
              <p:nvPr/>
            </p:nvSpPr>
            <p:spPr>
              <a:xfrm>
                <a:off x="473076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80060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5264280" y="2819520"/>
              <a:ext cx="520560" cy="527040"/>
              <a:chOff x="5264280" y="2819520"/>
              <a:chExt cx="520560" cy="527040"/>
            </a:xfrm>
          </p:grpSpPr>
          <p:sp>
            <p:nvSpPr>
              <p:cNvPr id="938" name=""/>
              <p:cNvSpPr/>
              <p:nvPr/>
            </p:nvSpPr>
            <p:spPr>
              <a:xfrm>
                <a:off x="526428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334120" y="281952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5797440" y="2819520"/>
              <a:ext cx="520920" cy="527040"/>
              <a:chOff x="5797440" y="2819520"/>
              <a:chExt cx="520920" cy="527040"/>
            </a:xfrm>
          </p:grpSpPr>
          <p:sp>
            <p:nvSpPr>
              <p:cNvPr id="941" name=""/>
              <p:cNvSpPr/>
              <p:nvPr/>
            </p:nvSpPr>
            <p:spPr>
              <a:xfrm>
                <a:off x="5797440" y="28256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6728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6330960" y="2819520"/>
              <a:ext cx="520560" cy="527040"/>
              <a:chOff x="6330960" y="2819520"/>
              <a:chExt cx="520560" cy="527040"/>
            </a:xfrm>
          </p:grpSpPr>
          <p:sp>
            <p:nvSpPr>
              <p:cNvPr id="944" name=""/>
              <p:cNvSpPr/>
              <p:nvPr/>
            </p:nvSpPr>
            <p:spPr>
              <a:xfrm>
                <a:off x="633096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080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2063880" y="3352680"/>
              <a:ext cx="520560" cy="527040"/>
              <a:chOff x="2063880" y="3352680"/>
              <a:chExt cx="520560" cy="527040"/>
            </a:xfrm>
          </p:grpSpPr>
          <p:sp>
            <p:nvSpPr>
              <p:cNvPr id="947" name=""/>
              <p:cNvSpPr/>
              <p:nvPr/>
            </p:nvSpPr>
            <p:spPr>
              <a:xfrm>
                <a:off x="206388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133720" y="335268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2597040" y="3352680"/>
              <a:ext cx="520920" cy="527040"/>
              <a:chOff x="2597040" y="3352680"/>
              <a:chExt cx="520920" cy="527040"/>
            </a:xfrm>
          </p:grpSpPr>
          <p:sp>
            <p:nvSpPr>
              <p:cNvPr id="950" name=""/>
              <p:cNvSpPr/>
              <p:nvPr/>
            </p:nvSpPr>
            <p:spPr>
              <a:xfrm>
                <a:off x="2597040" y="335916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666880" y="335268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3130560" y="3352680"/>
              <a:ext cx="520560" cy="527040"/>
              <a:chOff x="3130560" y="3352680"/>
              <a:chExt cx="520560" cy="527040"/>
            </a:xfrm>
          </p:grpSpPr>
          <p:sp>
            <p:nvSpPr>
              <p:cNvPr id="953" name=""/>
              <p:cNvSpPr/>
              <p:nvPr/>
            </p:nvSpPr>
            <p:spPr>
              <a:xfrm>
                <a:off x="313056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00400" y="335268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3664080" y="3352680"/>
              <a:ext cx="520560" cy="527040"/>
              <a:chOff x="3664080" y="3352680"/>
              <a:chExt cx="520560" cy="527040"/>
            </a:xfrm>
          </p:grpSpPr>
          <p:sp>
            <p:nvSpPr>
              <p:cNvPr id="956" name=""/>
              <p:cNvSpPr/>
              <p:nvPr/>
            </p:nvSpPr>
            <p:spPr>
              <a:xfrm>
                <a:off x="366408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733920" y="335268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4197240" y="3352680"/>
              <a:ext cx="520920" cy="527040"/>
              <a:chOff x="4197240" y="3352680"/>
              <a:chExt cx="520920" cy="527040"/>
            </a:xfrm>
          </p:grpSpPr>
          <p:sp>
            <p:nvSpPr>
              <p:cNvPr id="959" name=""/>
              <p:cNvSpPr/>
              <p:nvPr/>
            </p:nvSpPr>
            <p:spPr>
              <a:xfrm>
                <a:off x="4197240" y="335916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267080" y="335268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4730760" y="3352680"/>
              <a:ext cx="520560" cy="527040"/>
              <a:chOff x="4730760" y="3352680"/>
              <a:chExt cx="520560" cy="527040"/>
            </a:xfrm>
          </p:grpSpPr>
          <p:sp>
            <p:nvSpPr>
              <p:cNvPr id="962" name=""/>
              <p:cNvSpPr/>
              <p:nvPr/>
            </p:nvSpPr>
            <p:spPr>
              <a:xfrm>
                <a:off x="473076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0600" y="335268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5264280" y="3352680"/>
              <a:ext cx="520560" cy="527040"/>
              <a:chOff x="5264280" y="3352680"/>
              <a:chExt cx="520560" cy="527040"/>
            </a:xfrm>
          </p:grpSpPr>
          <p:sp>
            <p:nvSpPr>
              <p:cNvPr id="965" name=""/>
              <p:cNvSpPr/>
              <p:nvPr/>
            </p:nvSpPr>
            <p:spPr>
              <a:xfrm>
                <a:off x="526428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334120" y="335268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5797440" y="3352680"/>
              <a:ext cx="520920" cy="527040"/>
              <a:chOff x="5797440" y="3352680"/>
              <a:chExt cx="520920" cy="527040"/>
            </a:xfrm>
          </p:grpSpPr>
          <p:sp>
            <p:nvSpPr>
              <p:cNvPr id="968" name=""/>
              <p:cNvSpPr/>
              <p:nvPr/>
            </p:nvSpPr>
            <p:spPr>
              <a:xfrm>
                <a:off x="5797440" y="335916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867280" y="335268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6324480" y="3352680"/>
              <a:ext cx="685800" cy="527040"/>
              <a:chOff x="6324480" y="3352680"/>
              <a:chExt cx="685800" cy="527040"/>
            </a:xfrm>
          </p:grpSpPr>
          <p:sp>
            <p:nvSpPr>
              <p:cNvPr id="971" name=""/>
              <p:cNvSpPr/>
              <p:nvPr/>
            </p:nvSpPr>
            <p:spPr>
              <a:xfrm>
                <a:off x="633096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324480" y="335268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2063880" y="3886200"/>
              <a:ext cx="520560" cy="527040"/>
              <a:chOff x="2063880" y="3886200"/>
              <a:chExt cx="520560" cy="527040"/>
            </a:xfrm>
          </p:grpSpPr>
          <p:sp>
            <p:nvSpPr>
              <p:cNvPr id="974" name=""/>
              <p:cNvSpPr/>
              <p:nvPr/>
            </p:nvSpPr>
            <p:spPr>
              <a:xfrm>
                <a:off x="206388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133720" y="388620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2597040" y="3886200"/>
              <a:ext cx="520920" cy="527040"/>
              <a:chOff x="2597040" y="3886200"/>
              <a:chExt cx="520920" cy="527040"/>
            </a:xfrm>
          </p:grpSpPr>
          <p:sp>
            <p:nvSpPr>
              <p:cNvPr id="977" name=""/>
              <p:cNvSpPr/>
              <p:nvPr/>
            </p:nvSpPr>
            <p:spPr>
              <a:xfrm>
                <a:off x="2597040" y="389268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666880" y="388620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3130560" y="3886200"/>
              <a:ext cx="520560" cy="527040"/>
              <a:chOff x="3130560" y="3886200"/>
              <a:chExt cx="520560" cy="527040"/>
            </a:xfrm>
          </p:grpSpPr>
          <p:sp>
            <p:nvSpPr>
              <p:cNvPr id="980" name=""/>
              <p:cNvSpPr/>
              <p:nvPr/>
            </p:nvSpPr>
            <p:spPr>
              <a:xfrm>
                <a:off x="313056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200400" y="388620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3664080" y="3886200"/>
              <a:ext cx="520560" cy="527040"/>
              <a:chOff x="3664080" y="3886200"/>
              <a:chExt cx="520560" cy="527040"/>
            </a:xfrm>
          </p:grpSpPr>
          <p:sp>
            <p:nvSpPr>
              <p:cNvPr id="983" name=""/>
              <p:cNvSpPr/>
              <p:nvPr/>
            </p:nvSpPr>
            <p:spPr>
              <a:xfrm>
                <a:off x="366408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733920" y="388620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4197240" y="3886200"/>
              <a:ext cx="520920" cy="527040"/>
              <a:chOff x="4197240" y="3886200"/>
              <a:chExt cx="520920" cy="527040"/>
            </a:xfrm>
          </p:grpSpPr>
          <p:sp>
            <p:nvSpPr>
              <p:cNvPr id="986" name=""/>
              <p:cNvSpPr/>
              <p:nvPr/>
            </p:nvSpPr>
            <p:spPr>
              <a:xfrm>
                <a:off x="4197240" y="389268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267080" y="388620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4724280" y="3886200"/>
              <a:ext cx="685800" cy="527040"/>
              <a:chOff x="4724280" y="3886200"/>
              <a:chExt cx="685800" cy="527040"/>
            </a:xfrm>
          </p:grpSpPr>
          <p:sp>
            <p:nvSpPr>
              <p:cNvPr id="989" name=""/>
              <p:cNvSpPr/>
              <p:nvPr/>
            </p:nvSpPr>
            <p:spPr>
              <a:xfrm>
                <a:off x="473076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724280" y="388620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5257800" y="3886200"/>
              <a:ext cx="685800" cy="527040"/>
              <a:chOff x="5257800" y="3886200"/>
              <a:chExt cx="685800" cy="527040"/>
            </a:xfrm>
          </p:grpSpPr>
          <p:sp>
            <p:nvSpPr>
              <p:cNvPr id="992" name=""/>
              <p:cNvSpPr/>
              <p:nvPr/>
            </p:nvSpPr>
            <p:spPr>
              <a:xfrm>
                <a:off x="526428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257800" y="388620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5791320" y="3886200"/>
              <a:ext cx="685800" cy="527040"/>
              <a:chOff x="5791320" y="3886200"/>
              <a:chExt cx="685800" cy="527040"/>
            </a:xfrm>
          </p:grpSpPr>
          <p:sp>
            <p:nvSpPr>
              <p:cNvPr id="995" name=""/>
              <p:cNvSpPr/>
              <p:nvPr/>
            </p:nvSpPr>
            <p:spPr>
              <a:xfrm>
                <a:off x="5797440" y="389268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91320" y="388620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6324480" y="3886200"/>
              <a:ext cx="685800" cy="527040"/>
              <a:chOff x="6324480" y="3886200"/>
              <a:chExt cx="685800" cy="527040"/>
            </a:xfrm>
          </p:grpSpPr>
          <p:sp>
            <p:nvSpPr>
              <p:cNvPr id="998" name=""/>
              <p:cNvSpPr/>
              <p:nvPr/>
            </p:nvSpPr>
            <p:spPr>
              <a:xfrm>
                <a:off x="633096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324480" y="388620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2063880" y="4419720"/>
              <a:ext cx="520560" cy="527040"/>
              <a:chOff x="2063880" y="4419720"/>
              <a:chExt cx="520560" cy="527040"/>
            </a:xfrm>
          </p:grpSpPr>
          <p:sp>
            <p:nvSpPr>
              <p:cNvPr id="1001" name=""/>
              <p:cNvSpPr/>
              <p:nvPr/>
            </p:nvSpPr>
            <p:spPr>
              <a:xfrm>
                <a:off x="2063880" y="44258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133720" y="441972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2597040" y="4419720"/>
              <a:ext cx="520920" cy="527040"/>
              <a:chOff x="2597040" y="4419720"/>
              <a:chExt cx="520920" cy="527040"/>
            </a:xfrm>
          </p:grpSpPr>
          <p:sp>
            <p:nvSpPr>
              <p:cNvPr id="1004" name=""/>
              <p:cNvSpPr/>
              <p:nvPr/>
            </p:nvSpPr>
            <p:spPr>
              <a:xfrm>
                <a:off x="2597040" y="44258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666880" y="44197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3130560" y="4419720"/>
              <a:ext cx="520560" cy="527040"/>
              <a:chOff x="3130560" y="4419720"/>
              <a:chExt cx="520560" cy="527040"/>
            </a:xfrm>
          </p:grpSpPr>
          <p:sp>
            <p:nvSpPr>
              <p:cNvPr id="1007" name=""/>
              <p:cNvSpPr/>
              <p:nvPr/>
            </p:nvSpPr>
            <p:spPr>
              <a:xfrm>
                <a:off x="3130560" y="44258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200400" y="44197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3664080" y="4419720"/>
              <a:ext cx="520560" cy="527040"/>
              <a:chOff x="3664080" y="4419720"/>
              <a:chExt cx="520560" cy="527040"/>
            </a:xfrm>
          </p:grpSpPr>
          <p:sp>
            <p:nvSpPr>
              <p:cNvPr id="1010" name=""/>
              <p:cNvSpPr/>
              <p:nvPr/>
            </p:nvSpPr>
            <p:spPr>
              <a:xfrm>
                <a:off x="3664080" y="44258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733920" y="441972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4197240" y="4419720"/>
              <a:ext cx="520920" cy="527040"/>
              <a:chOff x="4197240" y="4419720"/>
              <a:chExt cx="520920" cy="527040"/>
            </a:xfrm>
          </p:grpSpPr>
          <p:sp>
            <p:nvSpPr>
              <p:cNvPr id="1013" name=""/>
              <p:cNvSpPr/>
              <p:nvPr/>
            </p:nvSpPr>
            <p:spPr>
              <a:xfrm>
                <a:off x="4197240" y="44258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267080" y="44197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4724280" y="4419720"/>
              <a:ext cx="685800" cy="527040"/>
              <a:chOff x="4724280" y="4419720"/>
              <a:chExt cx="685800" cy="527040"/>
            </a:xfrm>
          </p:grpSpPr>
          <p:sp>
            <p:nvSpPr>
              <p:cNvPr id="1016" name=""/>
              <p:cNvSpPr/>
              <p:nvPr/>
            </p:nvSpPr>
            <p:spPr>
              <a:xfrm>
                <a:off x="4730760" y="44258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724280" y="441972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5257800" y="4419720"/>
              <a:ext cx="685800" cy="527040"/>
              <a:chOff x="5257800" y="4419720"/>
              <a:chExt cx="685800" cy="527040"/>
            </a:xfrm>
          </p:grpSpPr>
          <p:sp>
            <p:nvSpPr>
              <p:cNvPr id="1019" name=""/>
              <p:cNvSpPr/>
              <p:nvPr/>
            </p:nvSpPr>
            <p:spPr>
              <a:xfrm>
                <a:off x="5264280" y="44258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257800" y="441972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5791320" y="4419720"/>
              <a:ext cx="685800" cy="527040"/>
              <a:chOff x="5791320" y="4419720"/>
              <a:chExt cx="685800" cy="527040"/>
            </a:xfrm>
          </p:grpSpPr>
          <p:sp>
            <p:nvSpPr>
              <p:cNvPr id="1022" name=""/>
              <p:cNvSpPr/>
              <p:nvPr/>
            </p:nvSpPr>
            <p:spPr>
              <a:xfrm>
                <a:off x="5797440" y="44258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791320" y="441972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4" name=""/>
            <p:cNvSpPr/>
            <p:nvPr/>
          </p:nvSpPr>
          <p:spPr>
            <a:xfrm>
              <a:off x="6330960" y="4425840"/>
              <a:ext cx="520560" cy="520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3244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330960" y="495936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324480" y="49528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09480" y="617220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[1][8] = f[2][8] =&gt;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YELLOW-B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030" name="YELLOW-B" descr=""/>
          <p:cNvPicPr/>
          <p:nvPr/>
        </p:nvPicPr>
        <p:blipFill>
          <a:blip r:embed="rId2"/>
          <a:stretch/>
        </p:blipFill>
        <p:spPr>
          <a:xfrm>
            <a:off x="5943600" y="533520"/>
            <a:ext cx="3207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5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10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1098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1101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1104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1107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1110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1113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1116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1119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1122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1125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1128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1131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1134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1137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1140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1143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1146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1149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1152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1155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1158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1161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1164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4724280" y="3886200"/>
            <a:ext cx="685800" cy="527040"/>
            <a:chOff x="4724280" y="3886200"/>
            <a:chExt cx="685800" cy="527040"/>
          </a:xfrm>
        </p:grpSpPr>
        <p:sp>
          <p:nvSpPr>
            <p:cNvPr id="1167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1170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1173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3244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1178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1181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1184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1187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1190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1193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1196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1199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324480" y="44197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324480" y="49528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09480" y="617220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[2][8] != f[3][8] =&gt;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4724280" y="3886200"/>
            <a:ext cx="685800" cy="527040"/>
            <a:chOff x="4724280" y="3886200"/>
            <a:chExt cx="685800" cy="527040"/>
          </a:xfrm>
        </p:grpSpPr>
        <p:sp>
          <p:nvSpPr>
            <p:cNvPr id="1207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7242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8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1276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1279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1282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1285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1288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1291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1294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1297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1300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1303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1306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1309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1312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1315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1318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1321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1324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1327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1330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1333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1336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1339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1342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7242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1347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1350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3244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1355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1358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1361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3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1364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1367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1370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1373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1376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324480" y="44197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324480" y="49528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617220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[3][5] != f[4][5] =&gt;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1384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5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8,10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1453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1456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1459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1462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1465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1468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1471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1474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1477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1480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1483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1486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1489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1492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1495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1498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1501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1504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1507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1510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1513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1516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7242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1521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1524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3244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8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1529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1532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1535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1538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1541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1544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1547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1550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324480" y="44197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324480" y="49528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09480" y="617220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[4][0] = f[5][0] =&gt;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7" name=""/>
          <p:cNvGrpSpPr/>
          <p:nvPr/>
        </p:nvGrpSpPr>
        <p:grpSpPr>
          <a:xfrm>
            <a:off x="2057400" y="2819520"/>
            <a:ext cx="520560" cy="527040"/>
            <a:chOff x="2057400" y="2819520"/>
            <a:chExt cx="520560" cy="527040"/>
          </a:xfrm>
        </p:grpSpPr>
        <p:sp>
          <p:nvSpPr>
            <p:cNvPr id="1558" name=""/>
            <p:cNvSpPr/>
            <p:nvPr/>
          </p:nvSpPr>
          <p:spPr>
            <a:xfrm>
              <a:off x="2057400" y="282600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127240" y="2819520"/>
              <a:ext cx="304560" cy="519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5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8,10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2057400" y="2819520"/>
            <a:ext cx="520560" cy="527040"/>
            <a:chOff x="2057400" y="2819520"/>
            <a:chExt cx="520560" cy="527040"/>
          </a:xfrm>
        </p:grpSpPr>
        <p:sp>
          <p:nvSpPr>
            <p:cNvPr id="1627" name=""/>
            <p:cNvSpPr/>
            <p:nvPr/>
          </p:nvSpPr>
          <p:spPr>
            <a:xfrm>
              <a:off x="2057400" y="2825640"/>
              <a:ext cx="520560" cy="520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127240" y="2819520"/>
              <a:ext cx="304560" cy="519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9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1630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1633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1636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1639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1642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1645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1648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1651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3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1654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1657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1660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1663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1666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1669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1672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1675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7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1678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1681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1684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1687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1690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1693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7242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7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1698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0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1701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3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3244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1706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1709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1712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1715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1718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1721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1724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1727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9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324480" y="44197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324480" y="49528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09480" y="617220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[5][0] = 0 =&gt;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6" name="CLOCK43" descr=""/>
          <p:cNvPicPr/>
          <p:nvPr/>
        </p:nvPicPr>
        <p:blipFill>
          <a:blip r:embed="rId1"/>
          <a:stretch/>
        </p:blipFill>
        <p:spPr>
          <a:xfrm>
            <a:off x="8229600" y="228600"/>
            <a:ext cx="468360" cy="960480"/>
          </a:xfrm>
          <a:prstGeom prst="rect">
            <a:avLst/>
          </a:prstGeom>
          <a:ln w="0">
            <a:noFill/>
          </a:ln>
        </p:spPr>
      </p:pic>
      <p:pic>
        <p:nvPicPr>
          <p:cNvPr id="1737" name="3skel" descr=""/>
          <p:cNvPicPr/>
          <p:nvPr/>
        </p:nvPicPr>
        <p:blipFill>
          <a:blip r:embed="rId2"/>
          <a:stretch/>
        </p:blipFill>
        <p:spPr>
          <a:xfrm>
            <a:off x="3646440" y="2703600"/>
            <a:ext cx="18511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olving the dynamic programming recurrence recursively, be sure to avoid the recomputation of the optimal value for the same problem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run time overheads, and hence to reduce actual run time, dynamic programming recurrences are almost always solved iteratively (no recurs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NIWARN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5" name="ANIWARN" descr=""/>
          <p:cNvPicPr/>
          <p:nvPr/>
        </p:nvPicPr>
        <p:blipFill>
          <a:blip r:embed="rId2"/>
          <a:stretch/>
        </p:blipFill>
        <p:spPr>
          <a:xfrm>
            <a:off x="7543800" y="304920"/>
            <a:ext cx="73188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 Multiplication Cha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x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x 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2133720" y="2057400"/>
            <a:ext cx="5029200" cy="1342080"/>
            <a:chOff x="2133720" y="2057400"/>
            <a:chExt cx="5029200" cy="1342080"/>
          </a:xfrm>
        </p:grpSpPr>
        <p:sp>
          <p:nvSpPr>
            <p:cNvPr id="1741" name=""/>
            <p:cNvSpPr/>
            <p:nvPr/>
          </p:nvSpPr>
          <p:spPr>
            <a:xfrm>
              <a:off x="3668760" y="259092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581280" y="281952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657600" y="205740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133720" y="2514600"/>
              <a:ext cx="1523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572000" y="2438280"/>
              <a:ext cx="2590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(i,k) * B(k,j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6" name=""/>
          <p:cNvSpPr/>
          <p:nvPr/>
        </p:nvSpPr>
        <p:spPr>
          <a:xfrm>
            <a:off x="380880" y="34290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hall use the number of multiplications as our complexity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ications are needed to compute o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n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ltiplicatons are needed to compute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7" name="YELLOW-B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748" name="YELLOW-B" descr=""/>
          <p:cNvPicPr/>
          <p:nvPr/>
        </p:nvPicPr>
        <p:blipFill>
          <a:blip r:embed="rId2"/>
          <a:stretch/>
        </p:blipFill>
        <p:spPr>
          <a:xfrm>
            <a:off x="7924680" y="457200"/>
            <a:ext cx="320760" cy="3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 Multiplication Cha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6000"/>
          </a:bodyPr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we are to compute the produc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*Y*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ree matric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rix dimension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960" indent="-7416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:(100 x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Y:(1 x 10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Z:(100 x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0 x 1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960" indent="-7416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00 * 1 * 100 = 10,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0 x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960" indent="-7416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00 * 100 * 1 = 10,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s of space are needed fo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 Multiplication Cha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4000"/>
          </a:bodyPr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rix dimension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:(100 x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Y:(1 x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Z:(100 x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x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 * 100 * 1 = 1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0 x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00 * 1 * 1 = 1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 of space is needed fo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duct Of 5 Matri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7000"/>
          </a:bodyPr>
          <a:p>
            <a:pPr marL="126720" indent="-126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f the ways in which the product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ces may be comp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*(B*(C*(D*E)))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to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((A*B)*C)*D)*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A*B)*((C*D)*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A*B)*(C*(D*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A*(B*C))*(D*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(A*B)*C)*(D*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nd Best Multiplication 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ways to compute the product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ces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q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1.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304920" y="3200400"/>
            <a:ext cx="8381880" cy="2236680"/>
            <a:chOff x="304920" y="3200400"/>
            <a:chExt cx="8381880" cy="2236680"/>
          </a:xfrm>
        </p:grpSpPr>
        <p:pic>
          <p:nvPicPr>
            <p:cNvPr id="1758" name="snail" descr=""/>
            <p:cNvPicPr/>
            <p:nvPr/>
          </p:nvPicPr>
          <p:blipFill>
            <a:blip r:embed="rId1"/>
            <a:stretch/>
          </p:blipFill>
          <p:spPr>
            <a:xfrm>
              <a:off x="1905120" y="47242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9" name="hare" descr=""/>
            <p:cNvPicPr/>
            <p:nvPr/>
          </p:nvPicPr>
          <p:blipFill>
            <a:blip r:embed="rId2"/>
            <a:stretch/>
          </p:blipFill>
          <p:spPr>
            <a:xfrm>
              <a:off x="5334120" y="3962520"/>
              <a:ext cx="154296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304920" y="3200400"/>
              <a:ext cx="8381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valuating all ways to compute the product takes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O(4</a:t>
              </a:r>
              <a:r>
                <a:rPr b="0" lang="en-US" sz="3200" spc="-1" strike="noStrike" baseline="30000">
                  <a:solidFill>
                    <a:srgbClr val="ff0033"/>
                  </a:solidFill>
                  <a:latin typeface="Times New Roman"/>
                </a:rPr>
                <a:t>q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/q</a:t>
              </a:r>
              <a:r>
                <a:rPr b="0" lang="en-US" sz="3200" spc="-1" strike="noStrike" baseline="30000">
                  <a:solidFill>
                    <a:srgbClr val="ff0033"/>
                  </a:solidFill>
                  <a:latin typeface="Times New Roman"/>
                </a:rPr>
                <a:t>0.5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 Applic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ration of pre- and post-operative 3D brain MRI images to determine volume of removed tum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3" name="BRAIN" descr=""/>
          <p:cNvPicPr/>
          <p:nvPr/>
        </p:nvPicPr>
        <p:blipFill>
          <a:blip r:embed="rId1"/>
          <a:stretch/>
        </p:blipFill>
        <p:spPr>
          <a:xfrm>
            <a:off x="4029120" y="2743200"/>
            <a:ext cx="1085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3D Regist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765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738600" cy="3657600"/>
          </a:xfrm>
          <a:prstGeom prst="rect">
            <a:avLst/>
          </a:prstGeom>
          <a:ln w="0">
            <a:noFill/>
          </a:ln>
        </p:spPr>
      </p:pic>
      <p:pic>
        <p:nvPicPr>
          <p:cNvPr id="1766" name="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3728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3D Regist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mage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56 x 256 x 25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ox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iteration of the registration algorithm, the product of three matrices is computed at each vox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 (12 x 3) * (3 x 3) * (3 x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to right comput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12 * 3 * 3 + 12 * 3*1 = 14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ications per voxel per it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ons to conve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3D Regist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number of multiplications is abou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.4 * 10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to left comput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3 * 3*1 + 12 * 3 * 1 = 4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ications per voxel per it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number of multiplications is abou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.5 * 10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ltiplications per second, time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2.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Recurr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gt;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f(i+1,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ev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&lt;  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e weights and capacity are inte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&lt;= i &lt;=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y 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of inte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hiker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6289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Solut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5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7,10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7162920" cy="3856680"/>
            <a:chOff x="228600" y="2286000"/>
            <a:chExt cx="7162920" cy="3856680"/>
          </a:xfrm>
        </p:grpSpPr>
        <p:sp>
          <p:nvSpPr>
            <p:cNvPr id="62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309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309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638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970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305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640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972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307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642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974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09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52680" y="55627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5943600"/>
              <a:ext cx="83844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3880" y="28195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3880" y="335268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38862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3880" y="44197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3880" y="495288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" y="251460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f[i][y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337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434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69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008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36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771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10280" y="3429000"/>
              <a:ext cx="381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62920" y="39625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ute f[5][*]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5,6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7,10,9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193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196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199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202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205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208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211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214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217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ute f[4][*]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5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8,1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286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289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292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295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298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301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304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307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310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313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316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319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322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325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328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331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334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337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08400" y="6095880"/>
            <a:ext cx="78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ute f[3][*]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8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407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410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413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416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419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422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425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428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431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434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437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440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443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446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449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452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455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458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461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464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467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470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473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724280" y="3886200"/>
            <a:ext cx="685800" cy="527040"/>
            <a:chOff x="4724280" y="3886200"/>
            <a:chExt cx="685800" cy="527040"/>
          </a:xfrm>
        </p:grpSpPr>
        <p:sp>
          <p:nvSpPr>
            <p:cNvPr id="476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242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479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482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324480" y="3886200"/>
            <a:ext cx="685800" cy="527040"/>
            <a:chOff x="6324480" y="3886200"/>
            <a:chExt cx="685800" cy="527040"/>
          </a:xfrm>
        </p:grpSpPr>
        <p:sp>
          <p:nvSpPr>
            <p:cNvPr id="485" name=""/>
            <p:cNvSpPr/>
            <p:nvPr/>
          </p:nvSpPr>
          <p:spPr>
            <a:xfrm>
              <a:off x="63309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244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08400" y="6095880"/>
            <a:ext cx="78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ute f[2][*]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5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10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555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558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561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564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567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570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573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576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579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582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585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588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591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594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597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600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603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606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609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612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615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618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621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4724280" y="3886200"/>
            <a:ext cx="685800" cy="527040"/>
            <a:chOff x="4724280" y="3886200"/>
            <a:chExt cx="685800" cy="527040"/>
          </a:xfrm>
        </p:grpSpPr>
        <p:sp>
          <p:nvSpPr>
            <p:cNvPr id="624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242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627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630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324480" y="3886200"/>
            <a:ext cx="685800" cy="527040"/>
            <a:chOff x="6324480" y="3886200"/>
            <a:chExt cx="685800" cy="527040"/>
          </a:xfrm>
        </p:grpSpPr>
        <p:sp>
          <p:nvSpPr>
            <p:cNvPr id="633" name=""/>
            <p:cNvSpPr/>
            <p:nvPr/>
          </p:nvSpPr>
          <p:spPr>
            <a:xfrm>
              <a:off x="63309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244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636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639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642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645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648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651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654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657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324480" y="4419720"/>
            <a:ext cx="685800" cy="527040"/>
            <a:chOff x="6324480" y="4419720"/>
            <a:chExt cx="685800" cy="527040"/>
          </a:xfrm>
        </p:grpSpPr>
        <p:sp>
          <p:nvSpPr>
            <p:cNvPr id="660" name=""/>
            <p:cNvSpPr/>
            <p:nvPr/>
          </p:nvSpPr>
          <p:spPr>
            <a:xfrm>
              <a:off x="63309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244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608400" y="6095880"/>
            <a:ext cx="78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ute f[1][c]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3,5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8,10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730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733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736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739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742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745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748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751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754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757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760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763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766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769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772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775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778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781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784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787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790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793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796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24280" y="3886200"/>
            <a:ext cx="685800" cy="527040"/>
            <a:chOff x="4724280" y="3886200"/>
            <a:chExt cx="685800" cy="527040"/>
          </a:xfrm>
        </p:grpSpPr>
        <p:sp>
          <p:nvSpPr>
            <p:cNvPr id="799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7242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802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805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6324480" y="3886200"/>
            <a:ext cx="685800" cy="527040"/>
            <a:chOff x="6324480" y="3886200"/>
            <a:chExt cx="685800" cy="527040"/>
          </a:xfrm>
        </p:grpSpPr>
        <p:sp>
          <p:nvSpPr>
            <p:cNvPr id="808" name=""/>
            <p:cNvSpPr/>
            <p:nvPr/>
          </p:nvSpPr>
          <p:spPr>
            <a:xfrm>
              <a:off x="63309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3244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811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814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817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820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823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826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829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832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6324480" y="4419720"/>
            <a:ext cx="685800" cy="527040"/>
            <a:chOff x="6324480" y="4419720"/>
            <a:chExt cx="685800" cy="527040"/>
          </a:xfrm>
        </p:grpSpPr>
        <p:sp>
          <p:nvSpPr>
            <p:cNvPr id="835" name=""/>
            <p:cNvSpPr/>
            <p:nvPr/>
          </p:nvSpPr>
          <p:spPr>
            <a:xfrm>
              <a:off x="63309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3244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6324480" y="4952880"/>
            <a:ext cx="685800" cy="527040"/>
            <a:chOff x="6324480" y="4952880"/>
            <a:chExt cx="685800" cy="527040"/>
          </a:xfrm>
        </p:grpSpPr>
        <p:sp>
          <p:nvSpPr>
            <p:cNvPr id="838" name=""/>
            <p:cNvSpPr/>
            <p:nvPr/>
          </p:nvSpPr>
          <p:spPr>
            <a:xfrm>
              <a:off x="6330960" y="49593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324480" y="49528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608400" y="6095880"/>
            <a:ext cx="78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39:53Z</dcterms:modified>
  <cp:revision>184</cp:revision>
  <dc:subject/>
  <dc:title>Data Representation Methods</dc:title>
</cp:coreProperties>
</file>