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7227-00A8-4083-8AD1-8CB97EFEB6A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ar list is an ordered sequence of elements. A dictionary is just a collection of pai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 Dictionary has these 3 methods. Note that Java has an abstract class Dictionary that has these three methods plus isEmpty and some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cket size equal to size of L1 cache line or of a disk track or sector may yield better performance in the case of non-ideal has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(100,h) go? There is no bucket with index 100/11 = 9. There is a problem with the hash function, because it is supposed to map all valid keys into a valid buc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.hashCode() returns an int based on the reference value of this. So user defined classes must over ride Object.hashCode() for things to work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hCode() is already defined properly for Java’s classes: Integer, Long, Float, Double, String, Character, etc. The hashCode() definition in these classes over rides the default definition in Object. Note that hashCode may return a negative 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hashCode maps into an integer, not into a nonnegative integer. % works properly only with nonnegative integ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a dictionary is not an ordered sequence, it may be represented as a linear l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(log (size)) for get() results from the use of a binary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search cannot be done in O(log size) time on a chain, because it t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(size) time to locate the middle node. Worst-case performance of a sorted chain is no better than that of an unsorted ch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2872-B7EF-46F5-973D-E1AA84B6C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2860-F13A-4AF9-A1E5-AB50C0F8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63D8-B538-4B31-8151-98C96D72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1928-D5D6-4000-A053-E25C80D6B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E9C7-6D5C-4214-BF0B-6FC92270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B8BB-2B33-4CE5-BB4D-FF15EB00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90FE-5ADC-4CDF-B946-3E0E61E1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9EF2-9FB7-4F80-8017-9A1BF70E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D4AE-5E71-4109-BFAA-6097EE01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D459-C5FB-49A2-92B6-451C64A0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105D-FC2C-46DC-A395-4334E290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A942-F9A1-4948-9D07-4019E01F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E13C-F243-4A37-A916-BF02A1973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ctionar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of pai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key, ele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rs have different ke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get(theK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ut(theKey, theEle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move(theK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LEFTSPOT" descr=""/>
          <p:cNvPicPr/>
          <p:nvPr/>
        </p:nvPicPr>
        <p:blipFill>
          <a:blip r:embed="rId1"/>
          <a:stretch/>
        </p:blipFill>
        <p:spPr>
          <a:xfrm>
            <a:off x="5257800" y="106668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1" name="SPOTLIGH" descr=""/>
          <p:cNvPicPr/>
          <p:nvPr/>
        </p:nvPicPr>
        <p:blipFill>
          <a:blip r:embed="rId2"/>
          <a:stretch/>
        </p:blipFill>
        <p:spPr>
          <a:xfrm>
            <a:off x="2743200" y="1066680"/>
            <a:ext cx="1189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kip Lis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st-case time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m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siz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cted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 siz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’ll skip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kip l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ash Tabl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st-case time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m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siz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cted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1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deal Hash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a 1D array (or table)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able[0:b-1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position of this array is a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uck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ucket can normally hold only one dictionary p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a hash functio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s each key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o an index in the rang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[0, b-1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(k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ome buck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ke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dictionary pai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key, elemen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tored in its home buck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able[f[key]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609480" y="4572000"/>
            <a:ext cx="8001000" cy="993240"/>
            <a:chOff x="609480" y="4572000"/>
            <a:chExt cx="8001000" cy="993240"/>
          </a:xfrm>
        </p:grpSpPr>
        <p:grpSp>
          <p:nvGrpSpPr>
            <p:cNvPr id="195" name=""/>
            <p:cNvGrpSpPr/>
            <p:nvPr/>
          </p:nvGrpSpPr>
          <p:grpSpPr>
            <a:xfrm>
              <a:off x="609480" y="4572000"/>
              <a:ext cx="7924320" cy="457200"/>
              <a:chOff x="609480" y="4572000"/>
              <a:chExt cx="7924320" cy="457200"/>
            </a:xfrm>
          </p:grpSpPr>
          <p:sp>
            <p:nvSpPr>
              <p:cNvPr id="196" name=""/>
              <p:cNvSpPr/>
              <p:nvPr/>
            </p:nvSpPr>
            <p:spPr>
              <a:xfrm>
                <a:off x="609480" y="4572000"/>
                <a:ext cx="990360" cy="4572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599840" y="4572000"/>
                <a:ext cx="990360" cy="4572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590560" y="4572000"/>
                <a:ext cx="990000" cy="4572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580920" y="4572000"/>
                <a:ext cx="990360" cy="4572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571640" y="4572000"/>
                <a:ext cx="990360" cy="4572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562360" y="4572000"/>
                <a:ext cx="990000" cy="4572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552720" y="4572000"/>
                <a:ext cx="990360" cy="4572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543440" y="4572000"/>
                <a:ext cx="990360" cy="4572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76176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2844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89548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8584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0024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86728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3396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6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2468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7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deal Hashing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rs are: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22,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33,c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3,d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73,e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85,f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table[0:7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 = 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function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ey/1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rs are stored in table as belo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43800" y="4495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85,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14600" y="4495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2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280" y="4495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3,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4495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,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553080" y="4495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3,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57150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m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k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1)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hat Can Go Wrong?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oe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26,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s that have the same home bucket are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ynony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synonyms with respect to the hash function that is in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ome bucket fo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26,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lready occup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57200" y="1219320"/>
            <a:ext cx="8001000" cy="992880"/>
            <a:chOff x="457200" y="1219320"/>
            <a:chExt cx="8001000" cy="992880"/>
          </a:xfrm>
        </p:grpSpPr>
        <p:grpSp>
          <p:nvGrpSpPr>
            <p:cNvPr id="223" name=""/>
            <p:cNvGrpSpPr/>
            <p:nvPr/>
          </p:nvGrpSpPr>
          <p:grpSpPr>
            <a:xfrm>
              <a:off x="457200" y="1219320"/>
              <a:ext cx="7924320" cy="456840"/>
              <a:chOff x="457200" y="1219320"/>
              <a:chExt cx="7924320" cy="456840"/>
            </a:xfrm>
          </p:grpSpPr>
          <p:sp>
            <p:nvSpPr>
              <p:cNvPr id="224" name=""/>
              <p:cNvSpPr/>
              <p:nvPr/>
            </p:nvSpPr>
            <p:spPr>
              <a:xfrm>
                <a:off x="45720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475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438280" y="1219320"/>
                <a:ext cx="99000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42864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4193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410080" y="1219320"/>
                <a:ext cx="99000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40044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3911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60948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761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432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335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479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150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8168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6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724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7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7391520" y="11430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85,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362320" y="11430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2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290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3,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,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008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3,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hat Can Go Wrong?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2666880"/>
            <a:ext cx="91440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lli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ccurs when the home bucket for a new pair is occupied by a pair with a different key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overflow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urs when there is no space in the home bucket for the new pa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bucket can hold only one pair, collisions and overflows occur toge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a method to handle overflo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33520" y="1219320"/>
            <a:ext cx="8152920" cy="532800"/>
            <a:chOff x="533520" y="1219320"/>
            <a:chExt cx="8152920" cy="532800"/>
          </a:xfrm>
        </p:grpSpPr>
        <p:grpSp>
          <p:nvGrpSpPr>
            <p:cNvPr id="248" name=""/>
            <p:cNvGrpSpPr/>
            <p:nvPr/>
          </p:nvGrpSpPr>
          <p:grpSpPr>
            <a:xfrm>
              <a:off x="533520" y="1295280"/>
              <a:ext cx="7924320" cy="456840"/>
              <a:chOff x="533520" y="1295280"/>
              <a:chExt cx="7924320" cy="456840"/>
            </a:xfrm>
          </p:grpSpPr>
          <p:sp>
            <p:nvSpPr>
              <p:cNvPr id="249" name=""/>
              <p:cNvSpPr/>
              <p:nvPr/>
            </p:nvSpPr>
            <p:spPr>
              <a:xfrm>
                <a:off x="533520" y="129528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523880" y="129528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514600" y="1295280"/>
                <a:ext cx="99000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504960" y="129528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495680" y="129528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486400" y="1295280"/>
                <a:ext cx="99000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476760" y="129528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467480" y="129528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7467480" y="121932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85,f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38280" y="121932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22,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04960" y="121932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33,c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33520" y="121932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3,d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76760" y="121932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73,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ash Table Issu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ice of hash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flow handling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 (number of buckets) of hash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ash Func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ar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key into an integer in case the key is not an inte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e by the metho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hashCode(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 an integer into a home buc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(k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integer in the rang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[0, b-1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number of buckets in the 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tring To Integ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Java character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s l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aracter string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y be converted into a uniqu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sing the co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 answer = s.charAt(0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nswer = (answer &lt;&lt; 16) + s.charAt(1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 that are long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aracters do not have a unique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tring To Nonnegative Integ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ublic static 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eger(String 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ngth = s.length();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// number of characters in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swer =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ength % 2 ==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// length is o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 = s.charAt(length - 1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ngth--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 of student records in this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key, element)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tudent name, linear list of assignment and exam sco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eys are distin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the element whose key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John Ad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the element whose key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iana Ro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pu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mplemented as update when there is already a pair with the given k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remove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put(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tring To Nonnegative Integ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// length is now 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 = 0; i &lt; length; i +=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// do two characters at a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 += s.charAt(i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 += ((int) s.charAt(i + 1)) &lt;&lt; 16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nswer &lt; 0) ? -answer : answ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p Into A Home Bucke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560" y="2743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common method is by divi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omeBucket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ath.abs(theKey.hashCode()) % divisor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ivis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als number of bucket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&lt;= homeBucket &lt; divisor =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57200" y="1219320"/>
            <a:ext cx="8001000" cy="992880"/>
            <a:chOff x="457200" y="1219320"/>
            <a:chExt cx="8001000" cy="992880"/>
          </a:xfrm>
        </p:grpSpPr>
        <p:grpSp>
          <p:nvGrpSpPr>
            <p:cNvPr id="275" name=""/>
            <p:cNvGrpSpPr/>
            <p:nvPr/>
          </p:nvGrpSpPr>
          <p:grpSpPr>
            <a:xfrm>
              <a:off x="457200" y="1219320"/>
              <a:ext cx="7924320" cy="456840"/>
              <a:chOff x="457200" y="1219320"/>
              <a:chExt cx="7924320" cy="456840"/>
            </a:xfrm>
          </p:grpSpPr>
          <p:sp>
            <p:nvSpPr>
              <p:cNvPr id="276" name=""/>
              <p:cNvSpPr/>
              <p:nvPr/>
            </p:nvSpPr>
            <p:spPr>
              <a:xfrm>
                <a:off x="45720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4475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438280" y="1219320"/>
                <a:ext cx="99000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42864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4193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410080" y="1219320"/>
                <a:ext cx="99000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0044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3911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60948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761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432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7335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6479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150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8168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6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7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7391520" y="11430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85,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62320" y="11430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2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3,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,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4008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3,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niform Hash Fun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560" y="2743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2590920"/>
            <a:ext cx="769644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eySp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set of all possible ke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uniform hash func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s the keys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eySp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o buckets such that approximately the same number of keys get mapped into each buc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57200" y="1219320"/>
            <a:ext cx="8001000" cy="992880"/>
            <a:chOff x="457200" y="1219320"/>
            <a:chExt cx="8001000" cy="992880"/>
          </a:xfrm>
        </p:grpSpPr>
        <p:grpSp>
          <p:nvGrpSpPr>
            <p:cNvPr id="301" name=""/>
            <p:cNvGrpSpPr/>
            <p:nvPr/>
          </p:nvGrpSpPr>
          <p:grpSpPr>
            <a:xfrm>
              <a:off x="457200" y="1219320"/>
              <a:ext cx="7924320" cy="456840"/>
              <a:chOff x="457200" y="1219320"/>
              <a:chExt cx="7924320" cy="456840"/>
            </a:xfrm>
          </p:grpSpPr>
          <p:sp>
            <p:nvSpPr>
              <p:cNvPr id="302" name=""/>
              <p:cNvSpPr/>
              <p:nvPr/>
            </p:nvSpPr>
            <p:spPr>
              <a:xfrm>
                <a:off x="45720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4475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438280" y="1219320"/>
                <a:ext cx="99000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42864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4193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410080" y="1219320"/>
                <a:ext cx="99000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40044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3911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60948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761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7432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335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6479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7150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78168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6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724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7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7391520" y="11430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85,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62320" y="11430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2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4290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3,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,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008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3,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niform Hash Fun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560" y="2743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2590920"/>
            <a:ext cx="76964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2514600"/>
            <a:ext cx="86868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ly, the probability that a randomly selected key has buck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its home bucke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/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&lt;= i &lt;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uniform hash function minimizes the likelihood of an overflow when keys are selected at rand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457200" y="1219320"/>
            <a:ext cx="8001000" cy="992880"/>
            <a:chOff x="457200" y="1219320"/>
            <a:chExt cx="8001000" cy="992880"/>
          </a:xfrm>
        </p:grpSpPr>
        <p:grpSp>
          <p:nvGrpSpPr>
            <p:cNvPr id="328" name=""/>
            <p:cNvGrpSpPr/>
            <p:nvPr/>
          </p:nvGrpSpPr>
          <p:grpSpPr>
            <a:xfrm>
              <a:off x="457200" y="1219320"/>
              <a:ext cx="7924320" cy="456840"/>
              <a:chOff x="457200" y="1219320"/>
              <a:chExt cx="7924320" cy="456840"/>
            </a:xfrm>
          </p:grpSpPr>
          <p:sp>
            <p:nvSpPr>
              <p:cNvPr id="329" name=""/>
              <p:cNvSpPr/>
              <p:nvPr/>
            </p:nvSpPr>
            <p:spPr>
              <a:xfrm>
                <a:off x="45720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4475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438280" y="1219320"/>
                <a:ext cx="99000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42864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4193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410080" y="1219320"/>
                <a:ext cx="99000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40044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3911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60948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6761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432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335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479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7150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78168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6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7724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7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7391520" y="11430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85,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362320" y="11430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2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290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3,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2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,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4008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3,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ashing By Divis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eySpace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number of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that get mapped (hashed) into buck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pproximatel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3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/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the division method results in a uniform hash function 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eySpace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ractice, keys tend to be correl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the choice of the divis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ffects the distribution of home buck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electing The Diviso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of this correlation, applications tend to have a bias towards keys that map into odd integers (or into even on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divisor is an even number, odd integers hash into odd home buckets and even integers into even home buck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0%14 = 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30%14 =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8%14 =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5%14 =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3%14 =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23%14 =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ias in the keys results in a bias toward either the odd or even home buck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electing The Diviso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divisor is an odd number, odd (even) integers may hash into any h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0%15 = 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30%15 =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8%15 =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5%15 =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3%15 =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23%15 =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ias in the keys does not result in a bias toward either the odd or even home buck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chance of uniformly distributed home buck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do not use an even divis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electing The Diviso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biased distribution of home buckets is seen, in practice, when the divisor is a multiple of prime numbers such 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ffect of each prime divis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eas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s lar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lly, choos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that it is a prim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ly, choo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 that it has no prime factor small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Java.util.HashTab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y uses a divisor that is an odd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simplifies implementation because we must be able to resize the hash table as more pairs are put into the dictio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doubling, for example, requires you to go from a 1D arra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ose length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which is odd) to an array whose length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b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which is also od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JAVA" descr=""/>
          <p:cNvPicPr/>
          <p:nvPr/>
        </p:nvPicPr>
        <p:blipFill>
          <a:blip r:embed="rId1"/>
          <a:stretch/>
        </p:blipFill>
        <p:spPr>
          <a:xfrm>
            <a:off x="7162920" y="304920"/>
            <a:ext cx="560160" cy="6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ctionary With Duplicat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s are not required to be distin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diction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s are of the form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word, meaning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have two or more entries for the same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olt, a threaded p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olt, a crash of thun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olt, to shoot forth sudde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olt, a gul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olt, a standard roll of clo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present As A Linear Lis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 = (e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e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e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e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…, e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(key, elemen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pair dictionar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 = (a, b, c, d, 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 = (aKey, aElemen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 = (bKey, bElement)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 or linked re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rray Represent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143000" y="990720"/>
            <a:ext cx="6845400" cy="548640"/>
            <a:chOff x="1143000" y="990720"/>
            <a:chExt cx="6845400" cy="548640"/>
          </a:xfrm>
        </p:grpSpPr>
        <p:sp>
          <p:nvSpPr>
            <p:cNvPr id="60" name=""/>
            <p:cNvSpPr/>
            <p:nvPr/>
          </p:nvSpPr>
          <p:spPr>
            <a:xfrm>
              <a:off x="1143000" y="1012680"/>
              <a:ext cx="6845400" cy="520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937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509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081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653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4225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797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369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7941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513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085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657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6229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0801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5373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73320" y="99072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218600" y="99072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76160" y="9907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33000" y="99072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90560" y="9907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47400" y="99072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380880" y="2057400"/>
            <a:ext cx="8382240" cy="45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et(theKe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siz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ut(theKey, theEl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siz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 to verify duplicate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add at right 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move(theKe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siz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ed Arra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143000" y="990720"/>
            <a:ext cx="6845400" cy="548640"/>
            <a:chOff x="1143000" y="990720"/>
            <a:chExt cx="6845400" cy="548640"/>
          </a:xfrm>
        </p:grpSpPr>
        <p:sp>
          <p:nvSpPr>
            <p:cNvPr id="84" name=""/>
            <p:cNvSpPr/>
            <p:nvPr/>
          </p:nvSpPr>
          <p:spPr>
            <a:xfrm>
              <a:off x="1143000" y="1012680"/>
              <a:ext cx="6845400" cy="520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5937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509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081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653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225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797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369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941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513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085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657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229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801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373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73320" y="99072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9320" y="9907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76520" y="990720"/>
              <a:ext cx="387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33720" y="990720"/>
              <a:ext cx="387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90920" y="9907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47760" y="990720"/>
              <a:ext cx="37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80880" y="1887480"/>
            <a:ext cx="838224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lements are in ascending order of k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et(theKe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log siz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ut(theKey, theEl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log siz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 to verify duplicate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siz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ad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move(theKe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siz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nsorted Chai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057400"/>
            <a:ext cx="91440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et(theKe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siz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ut(theKey, theEl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siz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 to verify duplicate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add at left 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move(theKe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siz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0" y="838080"/>
            <a:ext cx="7696080" cy="1212840"/>
            <a:chOff x="0" y="838080"/>
            <a:chExt cx="7696080" cy="1212840"/>
          </a:xfrm>
        </p:grpSpPr>
        <p:sp>
          <p:nvSpPr>
            <p:cNvPr id="109" name=""/>
            <p:cNvSpPr/>
            <p:nvPr/>
          </p:nvSpPr>
          <p:spPr>
            <a:xfrm>
              <a:off x="191124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1124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40840" y="150804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0688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0688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336480" y="15080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6000" y="1295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848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848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07720" y="150804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7376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7376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03720" y="15080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52880" y="1295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05320" y="129528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9308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9308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22320" y="150804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72200" y="1295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86600" y="1143000"/>
              <a:ext cx="609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nu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838080"/>
              <a:ext cx="1676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irstNo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95280" y="1143000"/>
              <a:ext cx="6098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1" name="chain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32" name="chain" descr=""/>
          <p:cNvPicPr/>
          <p:nvPr/>
        </p:nvPicPr>
        <p:blipFill>
          <a:blip r:embed="rId2"/>
          <a:stretch/>
        </p:blipFill>
        <p:spPr>
          <a:xfrm>
            <a:off x="6781680" y="380880"/>
            <a:ext cx="365400" cy="3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ed Chai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2057400"/>
            <a:ext cx="9372600" cy="45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are in ascending order of K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et(theKe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siz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ut(theKey, theEl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siz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 to verify duplicate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put at proper p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838080"/>
            <a:ext cx="7696080" cy="1212840"/>
            <a:chOff x="0" y="838080"/>
            <a:chExt cx="7696080" cy="1212840"/>
          </a:xfrm>
        </p:grpSpPr>
        <p:sp>
          <p:nvSpPr>
            <p:cNvPr id="136" name=""/>
            <p:cNvSpPr/>
            <p:nvPr/>
          </p:nvSpPr>
          <p:spPr>
            <a:xfrm>
              <a:off x="191124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1124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41560" y="150804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0688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0688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36840" y="1508040"/>
              <a:ext cx="387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86000" y="1295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848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7848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708440" y="1508040"/>
              <a:ext cx="387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7376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7376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04080" y="150804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52880" y="1295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05320" y="129528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9308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9308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22680" y="1508040"/>
              <a:ext cx="37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72200" y="1295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86600" y="1143000"/>
              <a:ext cx="609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nu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838080"/>
              <a:ext cx="1676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irstNo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95280" y="1143000"/>
              <a:ext cx="6098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8" name="chain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59" name="chain" descr=""/>
          <p:cNvPicPr/>
          <p:nvPr/>
        </p:nvPicPr>
        <p:blipFill>
          <a:blip r:embed="rId2"/>
          <a:stretch/>
        </p:blipFill>
        <p:spPr>
          <a:xfrm>
            <a:off x="6781680" y="380880"/>
            <a:ext cx="365400" cy="3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ed Chai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057400"/>
            <a:ext cx="9372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are in ascending order of K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838080"/>
            <a:ext cx="7696080" cy="1212840"/>
            <a:chOff x="0" y="838080"/>
            <a:chExt cx="7696080" cy="1212840"/>
          </a:xfrm>
        </p:grpSpPr>
        <p:sp>
          <p:nvSpPr>
            <p:cNvPr id="163" name=""/>
            <p:cNvSpPr/>
            <p:nvPr/>
          </p:nvSpPr>
          <p:spPr>
            <a:xfrm>
              <a:off x="191124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1124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41560" y="150804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0688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0688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36840" y="1508040"/>
              <a:ext cx="387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0" y="1295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848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848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8440" y="1508040"/>
              <a:ext cx="387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7376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7376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04080" y="150804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52880" y="1295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05320" y="129528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9308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9308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222680" y="1508040"/>
              <a:ext cx="37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72200" y="1295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86600" y="1143000"/>
              <a:ext cx="609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nu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838080"/>
              <a:ext cx="1676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irstNo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95280" y="1143000"/>
              <a:ext cx="6098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5" name="chain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86" name="chain" descr=""/>
          <p:cNvPicPr/>
          <p:nvPr/>
        </p:nvPicPr>
        <p:blipFill>
          <a:blip r:embed="rId2"/>
          <a:stretch/>
        </p:blipFill>
        <p:spPr>
          <a:xfrm>
            <a:off x="6781680" y="380880"/>
            <a:ext cx="365400" cy="3654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33520" y="2895480"/>
            <a:ext cx="93726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move(theKe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siz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4-08-05T15:16:59Z</dcterms:modified>
  <cp:revision>283</cp:revision>
  <dc:subject/>
  <dc:title>Data Representation Methods</dc:title>
</cp:coreProperties>
</file>