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72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9480" y="4408200"/>
            <a:ext cx="559548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aflop computer the 32yr time becomes approx 10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complexity: programming complexity, debugging complexity, complexity of compreh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235-EFB7-4C1D-BB23-0ED4E742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EFB-469D-4B42-9024-46CCB15F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1C7-A7AD-4D0E-B147-D4A12DF3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78A-AFB1-4035-B957-6EFEEBF6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640A-708F-461F-8698-5FFCE95D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E009-A42A-441C-8DF3-32F294EF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FC67-2FD7-47EC-9821-3ADF9602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1284-7701-4D86-AD22-3C1C82D7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CC2B-EEBC-49D0-9DBA-518BBCB9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260C-95E8-448C-B992-75F30422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D1A8-635F-4B06-B37C-4BC324D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B25-86E9-4B3F-9BAA-8061D849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AF27-68E8-4FD5-B5FB-76464BC9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4072-597C-4752-B829-194624A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7F55-1840-4DD6-993F-6DB1DD9B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A571-97D2-4299-9FB0-9A463D85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0332-86FE-43D6-B1B6-BC1E369D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F9B-B47D-4EA2-BA5C-1FA4F859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C88-00C4-492D-86FC-1D21B934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188-12E9-4E4F-A190-931DD205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F2C-C2F8-4A8E-9C19-66121520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AB3-34FA-4259-A4A2-0939F70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65B-0DE4-4E1B-A62F-E21879A6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8C8-D188-45BE-B1F4-51FDFB06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48680"/>
            <a:chOff x="0" y="4206960"/>
            <a:chExt cx="9166320" cy="28486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DF29-8777-40AB-9FF9-6BEAA97EE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6557-DE5A-498A-B332-17453B78A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V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147" name="BV" descr=""/>
          <p:cNvPicPr/>
          <p:nvPr/>
        </p:nvPicPr>
        <p:blipFill>
          <a:blip r:embed="rId2"/>
          <a:stretch/>
        </p:blipFill>
        <p:spPr>
          <a:xfrm>
            <a:off x="6324480" y="762120"/>
            <a:ext cx="45720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ep is an amount of computing that does not depend on the instance characteristic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dds, 100 subtracts, 1000 multi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l be counted as a singl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dds cannot be counted as 1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95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95600"/>
            <a:ext cx="7772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1143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/e isn’t always 0 o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x = MyMath.sum(a, 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 is the instance characte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s/e count of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95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95600"/>
            <a:ext cx="7772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1143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114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3429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2i + 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count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count for body of for loop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1+2+3+…+n-1) + 3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n-1)n + 3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n-1)(n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ymptotic 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r number of operations does not exce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any input of s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itably lar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, the worst-case time is Theta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the best-case is Theta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worst-case time is expected to quadruple each ti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 much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lgorithm pract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ractical Complexiti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98760" y="2211480"/>
          <a:ext cx="6207120" cy="405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2211480"/>
                    <a:ext cx="620712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mpractical Complexiti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ruction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838160" y="2203560"/>
          <a:ext cx="621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8160" y="2203560"/>
                    <a:ext cx="621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/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a particula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number of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tic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Faster Computer Vs Better Algorithm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improvement mor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hardware impr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hare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543320" cy="1474560"/>
          </a:xfrm>
          <a:prstGeom prst="rect">
            <a:avLst/>
          </a:prstGeom>
          <a:ln w="0">
            <a:noFill/>
          </a:ln>
        </p:spPr>
      </p:pic>
      <p:pic>
        <p:nvPicPr>
          <p:cNvPr id="201" name="snail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36504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 instance characteristic … n, n = a.length for inser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count as a function of this instance character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omparisons ar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ompares depend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]s and t as well as on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-case count = maximum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-case count = minimum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orst-Case 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733920"/>
            <a:ext cx="77724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[1, 2, 3, 4] and t = 0 =&gt; 4 comp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[1,2,3,…,i] and t = 0 =&gt; i comp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orst-Case 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1; i &lt; n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mpares = 1 + 2 + 3 + … + (n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360" y="47242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n-1)n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gam</dc:creator>
  <dc:description/>
  <dc:language>en-US</dc:language>
  <cp:lastModifiedBy>sahni</cp:lastModifiedBy>
  <dcterms:modified xsi:type="dcterms:W3CDTF">2004-08-05T13:26:25Z</dcterms:modified>
  <cp:revision>28</cp:revision>
  <dc:subject/>
  <dc:title>Complexity of Insertion Sort</dc:title>
</cp:coreProperties>
</file>