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1631-F678-49EE-8912-D25406A01F4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a linked representation always take space that is linear in the number of elements in the tree. An array representation may take an exponential amount of spac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79D8-6C2B-46FA-8765-966699A17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7BAC-14CF-44CA-B768-7EE03F58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A51E-4F02-46E7-83C8-444E6212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8B34-ACFF-48DB-B091-B883B186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CBBE-ECCA-4673-825E-42309A0B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40AE-5985-4D71-86D5-7214000C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DCE8-52B9-4828-B05C-544A6988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434A-0F7E-4A52-9AB0-969F3E9B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3D98-9878-42B5-9F69-D4792D7B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F831-22AF-473B-8ACC-A2647616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594D-DAA8-49D5-9978-9F050E2A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F3F2-7CA3-4198-8CA3-0D1BF2E2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2A77-4A4C-4BD0-BE4D-0275037F6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1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Binary Tree Properties &amp; Repres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9" name="LEFTSPOT" descr=""/>
          <p:cNvPicPr/>
          <p:nvPr/>
        </p:nvPicPr>
        <p:blipFill>
          <a:blip r:embed="rId1"/>
          <a:stretch/>
        </p:blipFill>
        <p:spPr>
          <a:xfrm>
            <a:off x="7315200" y="76212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SPOTLIGH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1189080" cy="10969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1295280" y="2666880"/>
            <a:ext cx="5181480" cy="3399120"/>
            <a:chOff x="1295280" y="2666880"/>
            <a:chExt cx="5181480" cy="3399120"/>
          </a:xfrm>
        </p:grpSpPr>
        <p:grpSp>
          <p:nvGrpSpPr>
            <p:cNvPr id="52" name=""/>
            <p:cNvGrpSpPr/>
            <p:nvPr/>
          </p:nvGrpSpPr>
          <p:grpSpPr>
            <a:xfrm>
              <a:off x="1752480" y="4724280"/>
              <a:ext cx="380880" cy="579600"/>
              <a:chOff x="1752480" y="4724280"/>
              <a:chExt cx="380880" cy="579600"/>
            </a:xfrm>
          </p:grpSpPr>
          <p:sp>
            <p:nvSpPr>
              <p:cNvPr id="53" name=""/>
              <p:cNvSpPr/>
              <p:nvPr/>
            </p:nvSpPr>
            <p:spPr>
              <a:xfrm>
                <a:off x="1752480" y="4800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752480" y="4724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1295280" y="5410080"/>
              <a:ext cx="380880" cy="579600"/>
              <a:chOff x="1295280" y="5410080"/>
              <a:chExt cx="380880" cy="579600"/>
            </a:xfrm>
          </p:grpSpPr>
          <p:sp>
            <p:nvSpPr>
              <p:cNvPr id="56" name=""/>
              <p:cNvSpPr/>
              <p:nvPr/>
            </p:nvSpPr>
            <p:spPr>
              <a:xfrm>
                <a:off x="1295280" y="5486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95280" y="5410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2286000" y="5410080"/>
              <a:ext cx="380880" cy="579600"/>
              <a:chOff x="2286000" y="5410080"/>
              <a:chExt cx="380880" cy="579600"/>
            </a:xfrm>
          </p:grpSpPr>
          <p:sp>
            <p:nvSpPr>
              <p:cNvPr id="59" name=""/>
              <p:cNvSpPr/>
              <p:nvPr/>
            </p:nvSpPr>
            <p:spPr>
              <a:xfrm>
                <a:off x="2286000" y="5486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6000" y="5410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 flipH="1">
              <a:off x="1599840" y="510552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33720" y="502920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3809880" y="4800600"/>
              <a:ext cx="380880" cy="579600"/>
              <a:chOff x="3809880" y="4800600"/>
              <a:chExt cx="380880" cy="579600"/>
            </a:xfrm>
          </p:grpSpPr>
          <p:sp>
            <p:nvSpPr>
              <p:cNvPr id="64" name=""/>
              <p:cNvSpPr/>
              <p:nvPr/>
            </p:nvSpPr>
            <p:spPr>
              <a:xfrm>
                <a:off x="3809880" y="48769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809880" y="48006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4343400" y="5486400"/>
              <a:ext cx="380880" cy="579600"/>
              <a:chOff x="4343400" y="5486400"/>
              <a:chExt cx="380880" cy="579600"/>
            </a:xfrm>
          </p:grpSpPr>
          <p:sp>
            <p:nvSpPr>
              <p:cNvPr id="67" name=""/>
              <p:cNvSpPr/>
              <p:nvPr/>
            </p:nvSpPr>
            <p:spPr>
              <a:xfrm>
                <a:off x="4343400" y="55627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343400" y="54864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4191120" y="510552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6095880" y="3733920"/>
              <a:ext cx="380880" cy="579240"/>
              <a:chOff x="6095880" y="3733920"/>
              <a:chExt cx="380880" cy="579240"/>
            </a:xfrm>
          </p:grpSpPr>
          <p:sp>
            <p:nvSpPr>
              <p:cNvPr id="71" name=""/>
              <p:cNvSpPr/>
              <p:nvPr/>
            </p:nvSpPr>
            <p:spPr>
              <a:xfrm>
                <a:off x="6095880" y="38098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095880" y="37339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5638680" y="4419720"/>
              <a:ext cx="380880" cy="579240"/>
              <a:chOff x="5638680" y="4419720"/>
              <a:chExt cx="380880" cy="579240"/>
            </a:xfrm>
          </p:grpSpPr>
          <p:sp>
            <p:nvSpPr>
              <p:cNvPr id="74" name=""/>
              <p:cNvSpPr/>
              <p:nvPr/>
            </p:nvSpPr>
            <p:spPr>
              <a:xfrm>
                <a:off x="5638680" y="44956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638680" y="44197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 flipH="1">
              <a:off x="5943240" y="411480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2895480" y="3733920"/>
              <a:ext cx="380880" cy="579240"/>
              <a:chOff x="2895480" y="3733920"/>
              <a:chExt cx="380880" cy="579240"/>
            </a:xfrm>
          </p:grpSpPr>
          <p:sp>
            <p:nvSpPr>
              <p:cNvPr id="78" name=""/>
              <p:cNvSpPr/>
              <p:nvPr/>
            </p:nvSpPr>
            <p:spPr>
              <a:xfrm>
                <a:off x="2895480" y="38098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895480" y="37339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 flipH="1">
              <a:off x="2057400" y="4038480"/>
              <a:ext cx="83808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76720" y="4038480"/>
              <a:ext cx="60948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72000" y="2666880"/>
              <a:ext cx="380880" cy="579600"/>
              <a:chOff x="4572000" y="2666880"/>
              <a:chExt cx="380880" cy="579600"/>
            </a:xfrm>
          </p:grpSpPr>
          <p:sp>
            <p:nvSpPr>
              <p:cNvPr id="83" name=""/>
              <p:cNvSpPr/>
              <p:nvPr/>
            </p:nvSpPr>
            <p:spPr>
              <a:xfrm>
                <a:off x="4572000" y="27432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572000" y="26668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3200400" y="297180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6920" y="3048120"/>
              <a:ext cx="12952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" name="LEFTSPOT" descr=""/>
          <p:cNvPicPr/>
          <p:nvPr/>
        </p:nvPicPr>
        <p:blipFill>
          <a:blip r:embed="rId3"/>
          <a:stretch/>
        </p:blipFill>
        <p:spPr>
          <a:xfrm>
            <a:off x="5257800" y="76212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88" name="SPOTLIGH" descr=""/>
          <p:cNvPicPr/>
          <p:nvPr/>
        </p:nvPicPr>
        <p:blipFill>
          <a:blip r:embed="rId4"/>
          <a:stretch/>
        </p:blipFill>
        <p:spPr>
          <a:xfrm>
            <a:off x="2971800" y="762120"/>
            <a:ext cx="1189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te Binary Tree With n Nod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a full binary tree that has at lea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the nodes as described earli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inary tree defined by the nodes numbere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roug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uniqu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 complete binary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3520" y="5562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binary tree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990720" y="1219320"/>
            <a:ext cx="6476760" cy="3398400"/>
            <a:chOff x="990720" y="1219320"/>
            <a:chExt cx="6476760" cy="3398400"/>
          </a:xfrm>
        </p:grpSpPr>
        <p:grpSp>
          <p:nvGrpSpPr>
            <p:cNvPr id="522" name=""/>
            <p:cNvGrpSpPr/>
            <p:nvPr/>
          </p:nvGrpSpPr>
          <p:grpSpPr>
            <a:xfrm>
              <a:off x="990720" y="1219320"/>
              <a:ext cx="6324480" cy="3398400"/>
              <a:chOff x="990720" y="1219320"/>
              <a:chExt cx="6324480" cy="3398400"/>
            </a:xfrm>
          </p:grpSpPr>
          <p:grpSp>
            <p:nvGrpSpPr>
              <p:cNvPr id="523" name=""/>
              <p:cNvGrpSpPr/>
              <p:nvPr/>
            </p:nvGrpSpPr>
            <p:grpSpPr>
              <a:xfrm>
                <a:off x="1447920" y="2590920"/>
                <a:ext cx="5486400" cy="1218960"/>
                <a:chOff x="1447920" y="2590920"/>
                <a:chExt cx="5486400" cy="121896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1447920" y="3352680"/>
                  <a:ext cx="380880" cy="381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505320" y="342900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5257800" y="3352680"/>
                  <a:ext cx="380880" cy="381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553080" y="3429000"/>
                  <a:ext cx="38124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flipH="1">
                  <a:off x="5486400" y="2666880"/>
                  <a:ext cx="38088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6172200" y="2590920"/>
                  <a:ext cx="53352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H="1">
                  <a:off x="1752120" y="2590920"/>
                  <a:ext cx="83844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2971800" y="2590920"/>
                  <a:ext cx="609480" cy="914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4267080" y="1219320"/>
                <a:ext cx="380880" cy="579600"/>
                <a:chOff x="4267080" y="1219320"/>
                <a:chExt cx="380880" cy="57960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4267080" y="129564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267080" y="1219320"/>
                  <a:ext cx="3808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2590920" y="1524240"/>
                <a:ext cx="3581280" cy="1341000"/>
                <a:chOff x="2590920" y="1524240"/>
                <a:chExt cx="3581280" cy="1341000"/>
              </a:xfrm>
            </p:grpSpPr>
            <p:grpSp>
              <p:nvGrpSpPr>
                <p:cNvPr id="536" name=""/>
                <p:cNvGrpSpPr/>
                <p:nvPr/>
              </p:nvGrpSpPr>
              <p:grpSpPr>
                <a:xfrm>
                  <a:off x="5791320" y="2286000"/>
                  <a:ext cx="380880" cy="579240"/>
                  <a:chOff x="5791320" y="2286000"/>
                  <a:chExt cx="380880" cy="579240"/>
                </a:xfrm>
              </p:grpSpPr>
              <p:sp>
                <p:nvSpPr>
                  <p:cNvPr id="537" name=""/>
                  <p:cNvSpPr/>
                  <p:nvPr/>
                </p:nvSpPr>
                <p:spPr>
                  <a:xfrm>
                    <a:off x="5791320" y="236196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5791320" y="228600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2590920" y="2286000"/>
                  <a:ext cx="380880" cy="579240"/>
                  <a:chOff x="2590920" y="2286000"/>
                  <a:chExt cx="380880" cy="57924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>
                    <a:off x="2590920" y="236196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2590920" y="228600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2" name=""/>
                <p:cNvSpPr/>
                <p:nvPr/>
              </p:nvSpPr>
              <p:spPr>
                <a:xfrm flipH="1">
                  <a:off x="2895480" y="1524240"/>
                  <a:ext cx="137160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572000" y="1600200"/>
                  <a:ext cx="1295280" cy="83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990720" y="3581640"/>
                <a:ext cx="6324480" cy="1036080"/>
                <a:chOff x="990720" y="3581640"/>
                <a:chExt cx="6324480" cy="1036080"/>
              </a:xfrm>
            </p:grpSpPr>
            <p:grpSp>
              <p:nvGrpSpPr>
                <p:cNvPr id="545" name=""/>
                <p:cNvGrpSpPr/>
                <p:nvPr/>
              </p:nvGrpSpPr>
              <p:grpSpPr>
                <a:xfrm>
                  <a:off x="990720" y="3962520"/>
                  <a:ext cx="380880" cy="578880"/>
                  <a:chOff x="990720" y="3962520"/>
                  <a:chExt cx="380880" cy="578880"/>
                </a:xfrm>
              </p:grpSpPr>
              <p:sp>
                <p:nvSpPr>
                  <p:cNvPr id="546" name=""/>
                  <p:cNvSpPr/>
                  <p:nvPr/>
                </p:nvSpPr>
                <p:spPr>
                  <a:xfrm>
                    <a:off x="990720" y="4038480"/>
                    <a:ext cx="380880" cy="38016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990720" y="3962520"/>
                    <a:ext cx="38088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8" name=""/>
                <p:cNvGrpSpPr/>
                <p:nvPr/>
              </p:nvGrpSpPr>
              <p:grpSpPr>
                <a:xfrm>
                  <a:off x="1981080" y="3962520"/>
                  <a:ext cx="380880" cy="578880"/>
                  <a:chOff x="1981080" y="3962520"/>
                  <a:chExt cx="380880" cy="578880"/>
                </a:xfrm>
              </p:grpSpPr>
              <p:sp>
                <p:nvSpPr>
                  <p:cNvPr id="549" name=""/>
                  <p:cNvSpPr/>
                  <p:nvPr/>
                </p:nvSpPr>
                <p:spPr>
                  <a:xfrm>
                    <a:off x="1981080" y="4038480"/>
                    <a:ext cx="380880" cy="38016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1981080" y="3962520"/>
                    <a:ext cx="38088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1" name=""/>
                <p:cNvSpPr/>
                <p:nvPr/>
              </p:nvSpPr>
              <p:spPr>
                <a:xfrm flipH="1">
                  <a:off x="1294920" y="3657600"/>
                  <a:ext cx="22860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828800" y="3581640"/>
                  <a:ext cx="30492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3" name=""/>
                <p:cNvGrpSpPr/>
                <p:nvPr/>
              </p:nvGrpSpPr>
              <p:grpSpPr>
                <a:xfrm>
                  <a:off x="3048120" y="4038480"/>
                  <a:ext cx="380880" cy="579240"/>
                  <a:chOff x="3048120" y="4038480"/>
                  <a:chExt cx="380880" cy="579240"/>
                </a:xfrm>
              </p:grpSpPr>
              <p:sp>
                <p:nvSpPr>
                  <p:cNvPr id="554" name=""/>
                  <p:cNvSpPr/>
                  <p:nvPr/>
                </p:nvSpPr>
                <p:spPr>
                  <a:xfrm>
                    <a:off x="3048120" y="41144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3048120" y="40384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6" name=""/>
                <p:cNvGrpSpPr/>
                <p:nvPr/>
              </p:nvGrpSpPr>
              <p:grpSpPr>
                <a:xfrm>
                  <a:off x="4038480" y="4038480"/>
                  <a:ext cx="380880" cy="579240"/>
                  <a:chOff x="4038480" y="4038480"/>
                  <a:chExt cx="380880" cy="579240"/>
                </a:xfrm>
              </p:grpSpPr>
              <p:sp>
                <p:nvSpPr>
                  <p:cNvPr id="557" name=""/>
                  <p:cNvSpPr/>
                  <p:nvPr/>
                </p:nvSpPr>
                <p:spPr>
                  <a:xfrm>
                    <a:off x="4038480" y="41144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4038480" y="40384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9" name=""/>
                <p:cNvSpPr/>
                <p:nvPr/>
              </p:nvSpPr>
              <p:spPr>
                <a:xfrm flipH="1">
                  <a:off x="3352320" y="3733920"/>
                  <a:ext cx="22860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886200" y="3657600"/>
                  <a:ext cx="30492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1" name=""/>
                <p:cNvGrpSpPr/>
                <p:nvPr/>
              </p:nvGrpSpPr>
              <p:grpSpPr>
                <a:xfrm>
                  <a:off x="4876920" y="4038480"/>
                  <a:ext cx="380880" cy="579240"/>
                  <a:chOff x="4876920" y="4038480"/>
                  <a:chExt cx="380880" cy="57924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>
                    <a:off x="4876920" y="41144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4876920" y="40384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4" name=""/>
                <p:cNvGrpSpPr/>
                <p:nvPr/>
              </p:nvGrpSpPr>
              <p:grpSpPr>
                <a:xfrm>
                  <a:off x="5562720" y="4038480"/>
                  <a:ext cx="380880" cy="579240"/>
                  <a:chOff x="5562720" y="4038480"/>
                  <a:chExt cx="380880" cy="579240"/>
                </a:xfrm>
              </p:grpSpPr>
              <p:sp>
                <p:nvSpPr>
                  <p:cNvPr id="565" name=""/>
                  <p:cNvSpPr/>
                  <p:nvPr/>
                </p:nvSpPr>
                <p:spPr>
                  <a:xfrm>
                    <a:off x="5562720" y="41144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5562720" y="40384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7" name=""/>
                <p:cNvGrpSpPr/>
                <p:nvPr/>
              </p:nvGrpSpPr>
              <p:grpSpPr>
                <a:xfrm>
                  <a:off x="6248520" y="4038480"/>
                  <a:ext cx="380880" cy="579240"/>
                  <a:chOff x="6248520" y="4038480"/>
                  <a:chExt cx="380880" cy="57924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>
                    <a:off x="6248520" y="41144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6248520" y="40384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0" name=""/>
                <p:cNvGrpSpPr/>
                <p:nvPr/>
              </p:nvGrpSpPr>
              <p:grpSpPr>
                <a:xfrm>
                  <a:off x="6934320" y="4038480"/>
                  <a:ext cx="380880" cy="579240"/>
                  <a:chOff x="6934320" y="4038480"/>
                  <a:chExt cx="380880" cy="57924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>
                    <a:off x="6934320" y="41144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6934320" y="40384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3" name=""/>
                <p:cNvSpPr/>
                <p:nvPr/>
              </p:nvSpPr>
              <p:spPr>
                <a:xfrm flipH="1">
                  <a:off x="5105520" y="3733920"/>
                  <a:ext cx="30456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562720" y="3733920"/>
                  <a:ext cx="15228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flipH="1">
                  <a:off x="6476760" y="3733920"/>
                  <a:ext cx="15228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6858000" y="3733920"/>
                  <a:ext cx="30492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7" name=""/>
            <p:cNvSpPr/>
            <p:nvPr/>
          </p:nvSpPr>
          <p:spPr>
            <a:xfrm>
              <a:off x="4343400" y="1219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666880" y="22860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867280" y="22860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447920" y="3276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581280" y="33526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334120" y="3276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629400" y="33526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066680" y="39621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057400" y="39621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971800" y="4038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038480" y="40384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800600" y="4038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486400" y="4038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172200" y="4038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858000" y="4038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501480" y="1003320"/>
            <a:ext cx="6777360" cy="4168800"/>
          </a:xfrm>
          <a:custGeom>
            <a:avLst/>
            <a:gdLst/>
            <a:ahLst/>
            <a:rect l="l" t="t" r="r" b="b"/>
            <a:pathLst>
              <a:path w="4269" h="2626">
                <a:moveTo>
                  <a:pt x="170" y="2338"/>
                </a:moveTo>
                <a:cubicBezTo>
                  <a:pt x="468" y="2354"/>
                  <a:pt x="761" y="2414"/>
                  <a:pt x="1051" y="2485"/>
                </a:cubicBezTo>
                <a:cubicBezTo>
                  <a:pt x="1152" y="2510"/>
                  <a:pt x="1256" y="2516"/>
                  <a:pt x="1356" y="2542"/>
                </a:cubicBezTo>
                <a:cubicBezTo>
                  <a:pt x="1816" y="2531"/>
                  <a:pt x="1762" y="2626"/>
                  <a:pt x="1965" y="2463"/>
                </a:cubicBezTo>
                <a:cubicBezTo>
                  <a:pt x="1984" y="2408"/>
                  <a:pt x="2012" y="2364"/>
                  <a:pt x="2022" y="2304"/>
                </a:cubicBezTo>
                <a:cubicBezTo>
                  <a:pt x="2029" y="2263"/>
                  <a:pt x="2033" y="2166"/>
                  <a:pt x="2056" y="2124"/>
                </a:cubicBezTo>
                <a:cubicBezTo>
                  <a:pt x="2074" y="2091"/>
                  <a:pt x="2101" y="2063"/>
                  <a:pt x="2124" y="2033"/>
                </a:cubicBezTo>
                <a:cubicBezTo>
                  <a:pt x="2151" y="1997"/>
                  <a:pt x="2163" y="1944"/>
                  <a:pt x="2191" y="1909"/>
                </a:cubicBezTo>
                <a:cubicBezTo>
                  <a:pt x="2207" y="1890"/>
                  <a:pt x="2265" y="1825"/>
                  <a:pt x="2304" y="1808"/>
                </a:cubicBezTo>
                <a:cubicBezTo>
                  <a:pt x="2326" y="1798"/>
                  <a:pt x="2372" y="1785"/>
                  <a:pt x="2372" y="1785"/>
                </a:cubicBezTo>
                <a:cubicBezTo>
                  <a:pt x="2485" y="1789"/>
                  <a:pt x="2598" y="1789"/>
                  <a:pt x="2711" y="1796"/>
                </a:cubicBezTo>
                <a:cubicBezTo>
                  <a:pt x="2813" y="1802"/>
                  <a:pt x="2914" y="1843"/>
                  <a:pt x="3016" y="1853"/>
                </a:cubicBezTo>
                <a:cubicBezTo>
                  <a:pt x="3233" y="1875"/>
                  <a:pt x="3453" y="1876"/>
                  <a:pt x="3671" y="1887"/>
                </a:cubicBezTo>
                <a:cubicBezTo>
                  <a:pt x="3907" y="1878"/>
                  <a:pt x="3906" y="1889"/>
                  <a:pt x="4055" y="1853"/>
                </a:cubicBezTo>
                <a:cubicBezTo>
                  <a:pt x="4123" y="1818"/>
                  <a:pt x="4089" y="1838"/>
                  <a:pt x="4168" y="1785"/>
                </a:cubicBezTo>
                <a:cubicBezTo>
                  <a:pt x="4179" y="1777"/>
                  <a:pt x="4202" y="1762"/>
                  <a:pt x="4202" y="1762"/>
                </a:cubicBezTo>
                <a:cubicBezTo>
                  <a:pt x="4206" y="1751"/>
                  <a:pt x="4208" y="1739"/>
                  <a:pt x="4213" y="1728"/>
                </a:cubicBezTo>
                <a:cubicBezTo>
                  <a:pt x="4219" y="1716"/>
                  <a:pt x="4231" y="1708"/>
                  <a:pt x="4236" y="1695"/>
                </a:cubicBezTo>
                <a:cubicBezTo>
                  <a:pt x="4247" y="1666"/>
                  <a:pt x="4251" y="1634"/>
                  <a:pt x="4258" y="1604"/>
                </a:cubicBezTo>
                <a:cubicBezTo>
                  <a:pt x="4262" y="1589"/>
                  <a:pt x="4269" y="1559"/>
                  <a:pt x="4269" y="1559"/>
                </a:cubicBezTo>
                <a:cubicBezTo>
                  <a:pt x="4265" y="1511"/>
                  <a:pt x="4261" y="1371"/>
                  <a:pt x="4236" y="1311"/>
                </a:cubicBezTo>
                <a:cubicBezTo>
                  <a:pt x="4225" y="1286"/>
                  <a:pt x="4081" y="1110"/>
                  <a:pt x="4077" y="1107"/>
                </a:cubicBezTo>
                <a:cubicBezTo>
                  <a:pt x="4050" y="1087"/>
                  <a:pt x="4020" y="1067"/>
                  <a:pt x="3998" y="1040"/>
                </a:cubicBezTo>
                <a:cubicBezTo>
                  <a:pt x="3877" y="891"/>
                  <a:pt x="3982" y="999"/>
                  <a:pt x="3885" y="904"/>
                </a:cubicBezTo>
                <a:cubicBezTo>
                  <a:pt x="3844" y="820"/>
                  <a:pt x="3872" y="873"/>
                  <a:pt x="3795" y="746"/>
                </a:cubicBezTo>
                <a:cubicBezTo>
                  <a:pt x="3732" y="641"/>
                  <a:pt x="3775" y="610"/>
                  <a:pt x="3671" y="543"/>
                </a:cubicBezTo>
                <a:cubicBezTo>
                  <a:pt x="3641" y="498"/>
                  <a:pt x="3630" y="464"/>
                  <a:pt x="3580" y="441"/>
                </a:cubicBezTo>
                <a:cubicBezTo>
                  <a:pt x="3547" y="426"/>
                  <a:pt x="3462" y="406"/>
                  <a:pt x="3422" y="384"/>
                </a:cubicBezTo>
                <a:cubicBezTo>
                  <a:pt x="3365" y="353"/>
                  <a:pt x="3362" y="344"/>
                  <a:pt x="3298" y="328"/>
                </a:cubicBezTo>
                <a:cubicBezTo>
                  <a:pt x="3253" y="301"/>
                  <a:pt x="3212" y="278"/>
                  <a:pt x="3163" y="260"/>
                </a:cubicBezTo>
                <a:cubicBezTo>
                  <a:pt x="3102" y="215"/>
                  <a:pt x="3044" y="181"/>
                  <a:pt x="2971" y="159"/>
                </a:cubicBezTo>
                <a:cubicBezTo>
                  <a:pt x="2941" y="150"/>
                  <a:pt x="2880" y="136"/>
                  <a:pt x="2880" y="136"/>
                </a:cubicBezTo>
                <a:cubicBezTo>
                  <a:pt x="2876" y="125"/>
                  <a:pt x="2880" y="107"/>
                  <a:pt x="2869" y="102"/>
                </a:cubicBezTo>
                <a:cubicBezTo>
                  <a:pt x="2844" y="92"/>
                  <a:pt x="2692" y="73"/>
                  <a:pt x="2654" y="68"/>
                </a:cubicBezTo>
                <a:cubicBezTo>
                  <a:pt x="2589" y="26"/>
                  <a:pt x="2524" y="20"/>
                  <a:pt x="2451" y="0"/>
                </a:cubicBezTo>
                <a:cubicBezTo>
                  <a:pt x="2176" y="4"/>
                  <a:pt x="1902" y="5"/>
                  <a:pt x="1627" y="12"/>
                </a:cubicBezTo>
                <a:cubicBezTo>
                  <a:pt x="1485" y="16"/>
                  <a:pt x="1360" y="105"/>
                  <a:pt x="1231" y="147"/>
                </a:cubicBezTo>
                <a:cubicBezTo>
                  <a:pt x="1158" y="196"/>
                  <a:pt x="1209" y="166"/>
                  <a:pt x="1062" y="215"/>
                </a:cubicBezTo>
                <a:cubicBezTo>
                  <a:pt x="1051" y="219"/>
                  <a:pt x="1028" y="226"/>
                  <a:pt x="1028" y="226"/>
                </a:cubicBezTo>
                <a:cubicBezTo>
                  <a:pt x="994" y="249"/>
                  <a:pt x="960" y="271"/>
                  <a:pt x="926" y="294"/>
                </a:cubicBezTo>
                <a:cubicBezTo>
                  <a:pt x="892" y="316"/>
                  <a:pt x="849" y="321"/>
                  <a:pt x="813" y="339"/>
                </a:cubicBezTo>
                <a:cubicBezTo>
                  <a:pt x="798" y="347"/>
                  <a:pt x="782" y="353"/>
                  <a:pt x="768" y="362"/>
                </a:cubicBezTo>
                <a:cubicBezTo>
                  <a:pt x="721" y="394"/>
                  <a:pt x="678" y="430"/>
                  <a:pt x="633" y="464"/>
                </a:cubicBezTo>
                <a:cubicBezTo>
                  <a:pt x="577" y="506"/>
                  <a:pt x="493" y="536"/>
                  <a:pt x="441" y="588"/>
                </a:cubicBezTo>
                <a:cubicBezTo>
                  <a:pt x="379" y="650"/>
                  <a:pt x="373" y="741"/>
                  <a:pt x="328" y="814"/>
                </a:cubicBezTo>
                <a:cubicBezTo>
                  <a:pt x="287" y="881"/>
                  <a:pt x="222" y="926"/>
                  <a:pt x="181" y="994"/>
                </a:cubicBezTo>
                <a:cubicBezTo>
                  <a:pt x="152" y="1114"/>
                  <a:pt x="196" y="979"/>
                  <a:pt x="136" y="1062"/>
                </a:cubicBezTo>
                <a:cubicBezTo>
                  <a:pt x="124" y="1079"/>
                  <a:pt x="122" y="1100"/>
                  <a:pt x="113" y="1119"/>
                </a:cubicBezTo>
                <a:cubicBezTo>
                  <a:pt x="99" y="1149"/>
                  <a:pt x="81" y="1178"/>
                  <a:pt x="68" y="1209"/>
                </a:cubicBezTo>
                <a:cubicBezTo>
                  <a:pt x="36" y="1286"/>
                  <a:pt x="23" y="1366"/>
                  <a:pt x="0" y="1446"/>
                </a:cubicBezTo>
                <a:cubicBezTo>
                  <a:pt x="4" y="1631"/>
                  <a:pt x="5" y="1815"/>
                  <a:pt x="12" y="2000"/>
                </a:cubicBezTo>
                <a:cubicBezTo>
                  <a:pt x="15" y="2069"/>
                  <a:pt x="44" y="2147"/>
                  <a:pt x="113" y="2169"/>
                </a:cubicBezTo>
                <a:cubicBezTo>
                  <a:pt x="144" y="2210"/>
                  <a:pt x="165" y="2244"/>
                  <a:pt x="181" y="2293"/>
                </a:cubicBezTo>
                <a:cubicBezTo>
                  <a:pt x="169" y="2330"/>
                  <a:pt x="170" y="2315"/>
                  <a:pt x="170" y="2338"/>
                </a:cubicBezTo>
                <a:close/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ary Tree Represent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 re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ed re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rray Represent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the nodes using the numbering scheme for a full binary tree. The node that is numbere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tored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ree[i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1219320" y="5791320"/>
            <a:ext cx="5486400" cy="840600"/>
            <a:chOff x="1219320" y="5791320"/>
            <a:chExt cx="5486400" cy="840600"/>
          </a:xfrm>
        </p:grpSpPr>
        <p:sp>
          <p:nvSpPr>
            <p:cNvPr id="598" name=""/>
            <p:cNvSpPr/>
            <p:nvPr/>
          </p:nvSpPr>
          <p:spPr>
            <a:xfrm>
              <a:off x="2286000" y="5867280"/>
              <a:ext cx="381240" cy="380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667240" y="5867280"/>
              <a:ext cx="380880" cy="380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048120" y="5867280"/>
              <a:ext cx="380880" cy="380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429000" y="5867280"/>
              <a:ext cx="381240" cy="380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810240" y="5867280"/>
              <a:ext cx="380880" cy="380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191120" y="5867280"/>
              <a:ext cx="380880" cy="380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572000" y="5867280"/>
              <a:ext cx="381240" cy="380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953240" y="5867280"/>
              <a:ext cx="380880" cy="380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334120" y="5867280"/>
              <a:ext cx="380880" cy="380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15000" y="5867280"/>
              <a:ext cx="381240" cy="380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096240" y="5867280"/>
              <a:ext cx="380880" cy="380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219320" y="579132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tree[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286000" y="61722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191120" y="6172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96240" y="6172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2668320" y="5791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09420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519000" y="5791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88800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255560" y="5791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624200" y="57913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99284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36112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728680" y="57913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6960" y="57913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838080" y="2133720"/>
            <a:ext cx="6324840" cy="3551040"/>
            <a:chOff x="838080" y="2133720"/>
            <a:chExt cx="6324840" cy="3551040"/>
          </a:xfrm>
        </p:grpSpPr>
        <p:grpSp>
          <p:nvGrpSpPr>
            <p:cNvPr id="624" name=""/>
            <p:cNvGrpSpPr/>
            <p:nvPr/>
          </p:nvGrpSpPr>
          <p:grpSpPr>
            <a:xfrm>
              <a:off x="990720" y="2286000"/>
              <a:ext cx="5943600" cy="3398760"/>
              <a:chOff x="990720" y="2286000"/>
              <a:chExt cx="5943600" cy="3398760"/>
            </a:xfrm>
          </p:grpSpPr>
          <p:sp>
            <p:nvSpPr>
              <p:cNvPr id="625" name=""/>
              <p:cNvSpPr/>
              <p:nvPr/>
            </p:nvSpPr>
            <p:spPr>
              <a:xfrm>
                <a:off x="1447920" y="44197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505320" y="4495680"/>
                <a:ext cx="380880" cy="381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257800" y="44197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553080" y="4495680"/>
                <a:ext cx="381240" cy="381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5486400" y="3733920"/>
                <a:ext cx="38088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172200" y="3657600"/>
                <a:ext cx="53352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1752120" y="3657600"/>
                <a:ext cx="83844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971800" y="3657600"/>
                <a:ext cx="60948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3" name=""/>
              <p:cNvGrpSpPr/>
              <p:nvPr/>
            </p:nvGrpSpPr>
            <p:grpSpPr>
              <a:xfrm>
                <a:off x="4267080" y="2286000"/>
                <a:ext cx="380880" cy="579600"/>
                <a:chOff x="4267080" y="2286000"/>
                <a:chExt cx="380880" cy="57960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4267080" y="236232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267080" y="2286000"/>
                  <a:ext cx="3808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5791320" y="3352680"/>
                <a:ext cx="380880" cy="579600"/>
                <a:chOff x="5791320" y="3352680"/>
                <a:chExt cx="380880" cy="57960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5791320" y="342900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791320" y="3352680"/>
                  <a:ext cx="3808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2590920" y="3352680"/>
                <a:ext cx="380880" cy="459720"/>
                <a:chOff x="2590920" y="3352680"/>
                <a:chExt cx="380880" cy="45972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2590920" y="342900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2590920" y="335268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2" name=""/>
              <p:cNvSpPr/>
              <p:nvPr/>
            </p:nvSpPr>
            <p:spPr>
              <a:xfrm flipH="1">
                <a:off x="2895480" y="2590920"/>
                <a:ext cx="13716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572000" y="2666880"/>
                <a:ext cx="1295280" cy="838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4" name=""/>
              <p:cNvGrpSpPr/>
              <p:nvPr/>
            </p:nvGrpSpPr>
            <p:grpSpPr>
              <a:xfrm>
                <a:off x="990720" y="5029200"/>
                <a:ext cx="380880" cy="579600"/>
                <a:chOff x="990720" y="5029200"/>
                <a:chExt cx="380880" cy="57960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990720" y="510552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990720" y="5029200"/>
                  <a:ext cx="3808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1981080" y="5029200"/>
                <a:ext cx="380880" cy="579600"/>
                <a:chOff x="1981080" y="5029200"/>
                <a:chExt cx="380880" cy="57960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1981080" y="510552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1981080" y="5029200"/>
                  <a:ext cx="3808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0" name=""/>
              <p:cNvSpPr/>
              <p:nvPr/>
            </p:nvSpPr>
            <p:spPr>
              <a:xfrm flipH="1">
                <a:off x="1294920" y="4724280"/>
                <a:ext cx="22860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828800" y="4648320"/>
                <a:ext cx="30492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2" name=""/>
              <p:cNvGrpSpPr/>
              <p:nvPr/>
            </p:nvGrpSpPr>
            <p:grpSpPr>
              <a:xfrm>
                <a:off x="3048120" y="5105520"/>
                <a:ext cx="380880" cy="579240"/>
                <a:chOff x="3048120" y="5105520"/>
                <a:chExt cx="380880" cy="57924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3048120" y="5181480"/>
                  <a:ext cx="380880" cy="38052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3048120" y="5105520"/>
                  <a:ext cx="38088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5" name=""/>
              <p:cNvSpPr/>
              <p:nvPr/>
            </p:nvSpPr>
            <p:spPr>
              <a:xfrm flipH="1">
                <a:off x="3352320" y="4800600"/>
                <a:ext cx="22860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343400" y="22860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867280" y="335268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447920" y="434340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581280" y="44197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334120" y="434340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629400" y="44197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066680" y="50292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057400" y="50292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971800" y="51055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4572000" y="2133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438280" y="30481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019920" y="3048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21932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73392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10552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781680" y="4114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8080" y="47242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286000" y="4800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95480" y="48006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ight-Skewed Binary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96880" y="480060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 binary tree needs an array whose length is betwe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3809880" y="838080"/>
            <a:ext cx="3048120" cy="2288520"/>
            <a:chOff x="3809880" y="838080"/>
            <a:chExt cx="3048120" cy="2288520"/>
          </a:xfrm>
        </p:grpSpPr>
        <p:sp>
          <p:nvSpPr>
            <p:cNvPr id="678" name=""/>
            <p:cNvSpPr/>
            <p:nvPr/>
          </p:nvSpPr>
          <p:spPr>
            <a:xfrm>
              <a:off x="3809880" y="106668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09880" y="990360"/>
              <a:ext cx="381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160020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1523880"/>
              <a:ext cx="381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886200" y="9903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572000" y="15238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114800" y="838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952880" y="14475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6" name=""/>
            <p:cNvGrpSpPr/>
            <p:nvPr/>
          </p:nvGrpSpPr>
          <p:grpSpPr>
            <a:xfrm>
              <a:off x="5181480" y="1752480"/>
              <a:ext cx="609480" cy="764280"/>
              <a:chOff x="5181480" y="1752480"/>
              <a:chExt cx="609480" cy="764280"/>
            </a:xfrm>
          </p:grpSpPr>
          <p:sp>
            <p:nvSpPr>
              <p:cNvPr id="687" name=""/>
              <p:cNvSpPr/>
              <p:nvPr/>
            </p:nvSpPr>
            <p:spPr>
              <a:xfrm>
                <a:off x="5181480" y="213336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257800" y="205704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410080" y="17524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5867280" y="274320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867280" y="2666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943600" y="2666880"/>
              <a:ext cx="304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172200" y="2438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114800" y="1371600"/>
              <a:ext cx="45720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876920" y="1904760"/>
              <a:ext cx="3808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486400" y="2438280"/>
              <a:ext cx="45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1143000" y="3352680"/>
            <a:ext cx="7391160" cy="840960"/>
            <a:chOff x="1143000" y="3352680"/>
            <a:chExt cx="7391160" cy="840960"/>
          </a:xfrm>
        </p:grpSpPr>
        <p:sp>
          <p:nvSpPr>
            <p:cNvPr id="698" name=""/>
            <p:cNvSpPr/>
            <p:nvPr/>
          </p:nvSpPr>
          <p:spPr>
            <a:xfrm>
              <a:off x="2209680" y="342900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590560" y="3429000"/>
              <a:ext cx="38124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971800" y="342900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352680" y="342900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33560" y="3429000"/>
              <a:ext cx="38124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114800" y="342900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495680" y="342900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876560" y="3429000"/>
              <a:ext cx="38124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257800" y="342900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638680" y="342900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019560" y="3429000"/>
              <a:ext cx="38124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143000" y="33526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ree[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209680" y="3733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14800" y="3733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019560" y="37339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592000" y="3352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017520" y="3352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443400" y="3352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811320" y="3352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179600" y="3352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547880" y="3352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916160" y="3352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284440" y="3352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652720" y="3352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400800" y="342900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781680" y="342900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162560" y="3429000"/>
              <a:ext cx="38124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543800" y="342900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040080" y="3352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440040" y="3352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808320" y="3352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76600" y="3352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544880" y="3352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924680" y="342900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924680" y="37339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926480" y="3352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inked Represent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binary tree node is represented as an object whose data typ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inaryTreeN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-2055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ce required by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 binary tre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* (space required by one nod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Class BinaryTreeN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MS Mincho"/>
              </a:rPr>
              <a:t>pack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dataStructur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MS Mincho"/>
              </a:rPr>
              <a:t>public cla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BinaryTree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Object eleme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BinaryTreeNode leftChild;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MS Mincho"/>
              </a:rPr>
              <a:t>// left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BinaryTreeNode rightChild;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MS Mincho"/>
              </a:rPr>
              <a:t>// right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MS Mincho"/>
              </a:rPr>
              <a:t>// constructors and any other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MS Mincho"/>
              </a:rPr>
              <a:t>// come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inked Representation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533520" y="1295280"/>
            <a:ext cx="7467480" cy="5397480"/>
            <a:chOff x="533520" y="1295280"/>
            <a:chExt cx="7467480" cy="5397480"/>
          </a:xfrm>
        </p:grpSpPr>
        <p:grpSp>
          <p:nvGrpSpPr>
            <p:cNvPr id="740" name=""/>
            <p:cNvGrpSpPr/>
            <p:nvPr/>
          </p:nvGrpSpPr>
          <p:grpSpPr>
            <a:xfrm>
              <a:off x="3505320" y="1371600"/>
              <a:ext cx="1143000" cy="520560"/>
              <a:chOff x="3505320" y="1371600"/>
              <a:chExt cx="1143000" cy="520560"/>
            </a:xfrm>
          </p:grpSpPr>
          <p:sp>
            <p:nvSpPr>
              <p:cNvPr id="741" name=""/>
              <p:cNvSpPr/>
              <p:nvPr/>
            </p:nvSpPr>
            <p:spPr>
              <a:xfrm>
                <a:off x="3505320" y="1447920"/>
                <a:ext cx="381240" cy="3808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3886560" y="1447920"/>
                <a:ext cx="38088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267440" y="1447920"/>
                <a:ext cx="380880" cy="3808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886560" y="13716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5181480" y="2438280"/>
              <a:ext cx="1143000" cy="520560"/>
              <a:chOff x="5181480" y="2438280"/>
              <a:chExt cx="1143000" cy="520560"/>
            </a:xfrm>
          </p:grpSpPr>
          <p:sp>
            <p:nvSpPr>
              <p:cNvPr id="746" name=""/>
              <p:cNvSpPr/>
              <p:nvPr/>
            </p:nvSpPr>
            <p:spPr>
              <a:xfrm>
                <a:off x="5181480" y="2514600"/>
                <a:ext cx="381240" cy="3808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562720" y="2514600"/>
                <a:ext cx="38088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943600" y="2514600"/>
                <a:ext cx="380880" cy="3808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5627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2209680" y="2438280"/>
              <a:ext cx="1143000" cy="520560"/>
              <a:chOff x="2209680" y="2438280"/>
              <a:chExt cx="1143000" cy="520560"/>
            </a:xfrm>
          </p:grpSpPr>
          <p:sp>
            <p:nvSpPr>
              <p:cNvPr id="751" name=""/>
              <p:cNvSpPr/>
              <p:nvPr/>
            </p:nvSpPr>
            <p:spPr>
              <a:xfrm>
                <a:off x="2209680" y="2514600"/>
                <a:ext cx="381240" cy="3808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590920" y="2514600"/>
                <a:ext cx="38088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971800" y="2514600"/>
                <a:ext cx="380880" cy="3808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5909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1371600" y="3733920"/>
              <a:ext cx="1143000" cy="520560"/>
              <a:chOff x="1371600" y="3733920"/>
              <a:chExt cx="1143000" cy="520560"/>
            </a:xfrm>
          </p:grpSpPr>
          <p:sp>
            <p:nvSpPr>
              <p:cNvPr id="756" name=""/>
              <p:cNvSpPr/>
              <p:nvPr/>
            </p:nvSpPr>
            <p:spPr>
              <a:xfrm>
                <a:off x="1371600" y="3810240"/>
                <a:ext cx="381240" cy="3808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752840" y="3810240"/>
                <a:ext cx="38088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133720" y="3810240"/>
                <a:ext cx="380880" cy="3808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752840" y="3733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533520" y="5029200"/>
              <a:ext cx="1143000" cy="520560"/>
              <a:chOff x="533520" y="5029200"/>
              <a:chExt cx="1143000" cy="520560"/>
            </a:xfrm>
          </p:grpSpPr>
          <p:sp>
            <p:nvSpPr>
              <p:cNvPr id="761" name=""/>
              <p:cNvSpPr/>
              <p:nvPr/>
            </p:nvSpPr>
            <p:spPr>
              <a:xfrm>
                <a:off x="533520" y="5105520"/>
                <a:ext cx="381240" cy="3808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914760" y="5105520"/>
                <a:ext cx="38088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295640" y="5105520"/>
                <a:ext cx="380880" cy="3808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914760" y="5029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6324480" y="3581280"/>
              <a:ext cx="1143000" cy="520560"/>
              <a:chOff x="6324480" y="3581280"/>
              <a:chExt cx="1143000" cy="520560"/>
            </a:xfrm>
          </p:grpSpPr>
          <p:sp>
            <p:nvSpPr>
              <p:cNvPr id="766" name=""/>
              <p:cNvSpPr/>
              <p:nvPr/>
            </p:nvSpPr>
            <p:spPr>
              <a:xfrm>
                <a:off x="6324480" y="3657600"/>
                <a:ext cx="381240" cy="3808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705720" y="3657600"/>
                <a:ext cx="38088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086600" y="3657600"/>
                <a:ext cx="380880" cy="3808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705720" y="3581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5943600" y="4800600"/>
              <a:ext cx="1143000" cy="520560"/>
              <a:chOff x="5943600" y="4800600"/>
              <a:chExt cx="1143000" cy="520560"/>
            </a:xfrm>
          </p:grpSpPr>
          <p:sp>
            <p:nvSpPr>
              <p:cNvPr id="771" name=""/>
              <p:cNvSpPr/>
              <p:nvPr/>
            </p:nvSpPr>
            <p:spPr>
              <a:xfrm>
                <a:off x="5943600" y="4876920"/>
                <a:ext cx="381240" cy="3808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324840" y="4876920"/>
                <a:ext cx="38088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705720" y="4876920"/>
                <a:ext cx="380880" cy="3808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324840" y="48006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5" name=""/>
            <p:cNvGrpSpPr/>
            <p:nvPr/>
          </p:nvGrpSpPr>
          <p:grpSpPr>
            <a:xfrm>
              <a:off x="6858000" y="5715000"/>
              <a:ext cx="1143000" cy="520560"/>
              <a:chOff x="6858000" y="5715000"/>
              <a:chExt cx="1143000" cy="520560"/>
            </a:xfrm>
          </p:grpSpPr>
          <p:sp>
            <p:nvSpPr>
              <p:cNvPr id="776" name=""/>
              <p:cNvSpPr/>
              <p:nvPr/>
            </p:nvSpPr>
            <p:spPr>
              <a:xfrm>
                <a:off x="6858000" y="5791320"/>
                <a:ext cx="381240" cy="3808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239240" y="5791320"/>
                <a:ext cx="38088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620120" y="5791320"/>
                <a:ext cx="380880" cy="3808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239240" y="57150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 flipH="1">
              <a:off x="2819520" y="1676520"/>
              <a:ext cx="8380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95680" y="1676520"/>
              <a:ext cx="121932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1828800" y="2743200"/>
              <a:ext cx="53352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1066680" y="4038480"/>
              <a:ext cx="45720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172200" y="2666880"/>
              <a:ext cx="60948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6095880" y="388620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934320" y="5105520"/>
              <a:ext cx="8380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743200" y="5486400"/>
              <a:ext cx="380880" cy="380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743200" y="5867280"/>
              <a:ext cx="38088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743200" y="6248520"/>
              <a:ext cx="380880" cy="380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276720" y="54100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leftChil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276720" y="579132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elem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276720" y="617220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rightChil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371600" y="1295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ro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133720" y="160020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me Binary Tree Oper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he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number of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a cl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if two binary trees are cl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lay the binary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 the arithmetic expression represented by a binary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tain the infix form of an 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tain the prefix form of an 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tain the postfix form of an 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ary Tree Traversal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binary tree operations are done by performing 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ra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binary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traversal, each element of the binary tre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actly o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is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n element, all action (make a clone, display, evaluate the operator, etc.) with respect to this element is ta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imum Number Of Nod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 number of nodes in a binary tree whose heigh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least one node at each of fir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v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371600" y="3124080"/>
            <a:ext cx="3657600" cy="3322800"/>
            <a:chOff x="1371600" y="3124080"/>
            <a:chExt cx="3657600" cy="3322800"/>
          </a:xfrm>
        </p:grpSpPr>
        <p:grpSp>
          <p:nvGrpSpPr>
            <p:cNvPr id="92" name=""/>
            <p:cNvGrpSpPr/>
            <p:nvPr/>
          </p:nvGrpSpPr>
          <p:grpSpPr>
            <a:xfrm>
              <a:off x="1828800" y="5181480"/>
              <a:ext cx="380880" cy="579600"/>
              <a:chOff x="1828800" y="5181480"/>
              <a:chExt cx="380880" cy="579600"/>
            </a:xfrm>
          </p:grpSpPr>
          <p:sp>
            <p:nvSpPr>
              <p:cNvPr id="93" name=""/>
              <p:cNvSpPr/>
              <p:nvPr/>
            </p:nvSpPr>
            <p:spPr>
              <a:xfrm>
                <a:off x="1828800" y="52578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28800" y="51814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1371600" y="5867280"/>
              <a:ext cx="380880" cy="579600"/>
              <a:chOff x="1371600" y="5867280"/>
              <a:chExt cx="380880" cy="579600"/>
            </a:xfrm>
          </p:grpSpPr>
          <p:sp>
            <p:nvSpPr>
              <p:cNvPr id="96" name=""/>
              <p:cNvSpPr/>
              <p:nvPr/>
            </p:nvSpPr>
            <p:spPr>
              <a:xfrm>
                <a:off x="1371600" y="5943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371600" y="5867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1676160" y="556272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2971800" y="4191120"/>
              <a:ext cx="380880" cy="579240"/>
              <a:chOff x="2971800" y="4191120"/>
              <a:chExt cx="380880" cy="579240"/>
            </a:xfrm>
          </p:grpSpPr>
          <p:sp>
            <p:nvSpPr>
              <p:cNvPr id="100" name=""/>
              <p:cNvSpPr/>
              <p:nvPr/>
            </p:nvSpPr>
            <p:spPr>
              <a:xfrm>
                <a:off x="2971800" y="42670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971800" y="41911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 flipH="1">
              <a:off x="2133720" y="4495680"/>
              <a:ext cx="83808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4648320" y="3124080"/>
              <a:ext cx="380880" cy="579600"/>
              <a:chOff x="4648320" y="3124080"/>
              <a:chExt cx="380880" cy="579600"/>
            </a:xfrm>
          </p:grpSpPr>
          <p:sp>
            <p:nvSpPr>
              <p:cNvPr id="104" name=""/>
              <p:cNvSpPr/>
              <p:nvPr/>
            </p:nvSpPr>
            <p:spPr>
              <a:xfrm>
                <a:off x="4648320" y="3200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648320" y="3124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 flipH="1">
              <a:off x="3276720" y="342900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5257800" y="342900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 number of nodes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ary Tree Traversal Method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ximum Number Of Nod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ossible nodes at fir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vels are pres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219320" y="2666880"/>
            <a:ext cx="5486400" cy="1218960"/>
            <a:chOff x="1219320" y="2666880"/>
            <a:chExt cx="5486400" cy="1218960"/>
          </a:xfrm>
        </p:grpSpPr>
        <p:sp>
          <p:nvSpPr>
            <p:cNvPr id="111" name=""/>
            <p:cNvSpPr/>
            <p:nvPr/>
          </p:nvSpPr>
          <p:spPr>
            <a:xfrm>
              <a:off x="1219320" y="3428640"/>
              <a:ext cx="380880" cy="381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76720" y="350496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29200" y="3428640"/>
              <a:ext cx="380880" cy="381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24480" y="350496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5257800" y="2742840"/>
              <a:ext cx="3808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43600" y="2666880"/>
              <a:ext cx="53352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1523520" y="2666880"/>
              <a:ext cx="83844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2666880"/>
              <a:ext cx="60948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038480" y="1295280"/>
            <a:ext cx="380880" cy="579600"/>
            <a:chOff x="4038480" y="1295280"/>
            <a:chExt cx="380880" cy="579600"/>
          </a:xfrm>
        </p:grpSpPr>
        <p:sp>
          <p:nvSpPr>
            <p:cNvPr id="120" name=""/>
            <p:cNvSpPr/>
            <p:nvPr/>
          </p:nvSpPr>
          <p:spPr>
            <a:xfrm>
              <a:off x="4038480" y="137160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38480" y="1295280"/>
              <a:ext cx="380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362320" y="1600200"/>
            <a:ext cx="3581280" cy="1341000"/>
            <a:chOff x="2362320" y="1600200"/>
            <a:chExt cx="3581280" cy="1341000"/>
          </a:xfrm>
        </p:grpSpPr>
        <p:grpSp>
          <p:nvGrpSpPr>
            <p:cNvPr id="123" name=""/>
            <p:cNvGrpSpPr/>
            <p:nvPr/>
          </p:nvGrpSpPr>
          <p:grpSpPr>
            <a:xfrm>
              <a:off x="5562720" y="2361960"/>
              <a:ext cx="380880" cy="579240"/>
              <a:chOff x="5562720" y="2361960"/>
              <a:chExt cx="380880" cy="579240"/>
            </a:xfrm>
          </p:grpSpPr>
          <p:sp>
            <p:nvSpPr>
              <p:cNvPr id="124" name=""/>
              <p:cNvSpPr/>
              <p:nvPr/>
            </p:nvSpPr>
            <p:spPr>
              <a:xfrm>
                <a:off x="5562720" y="243792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562720" y="236196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2362320" y="2361960"/>
              <a:ext cx="380880" cy="579240"/>
              <a:chOff x="2362320" y="2361960"/>
              <a:chExt cx="380880" cy="579240"/>
            </a:xfrm>
          </p:grpSpPr>
          <p:sp>
            <p:nvSpPr>
              <p:cNvPr id="127" name=""/>
              <p:cNvSpPr/>
              <p:nvPr/>
            </p:nvSpPr>
            <p:spPr>
              <a:xfrm>
                <a:off x="2362320" y="243792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362320" y="236196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 flipH="1">
              <a:off x="2666880" y="160020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43400" y="1676160"/>
              <a:ext cx="129528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762120" y="3657600"/>
            <a:ext cx="6324480" cy="1036800"/>
            <a:chOff x="762120" y="3657600"/>
            <a:chExt cx="6324480" cy="1036800"/>
          </a:xfrm>
        </p:grpSpPr>
        <p:grpSp>
          <p:nvGrpSpPr>
            <p:cNvPr id="132" name=""/>
            <p:cNvGrpSpPr/>
            <p:nvPr/>
          </p:nvGrpSpPr>
          <p:grpSpPr>
            <a:xfrm>
              <a:off x="762120" y="4038840"/>
              <a:ext cx="380880" cy="579240"/>
              <a:chOff x="762120" y="4038840"/>
              <a:chExt cx="380880" cy="579240"/>
            </a:xfrm>
          </p:grpSpPr>
          <p:sp>
            <p:nvSpPr>
              <p:cNvPr id="133" name=""/>
              <p:cNvSpPr/>
              <p:nvPr/>
            </p:nvSpPr>
            <p:spPr>
              <a:xfrm>
                <a:off x="762120" y="411480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62120" y="403884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1752480" y="4038840"/>
              <a:ext cx="380880" cy="579240"/>
              <a:chOff x="1752480" y="4038840"/>
              <a:chExt cx="380880" cy="579240"/>
            </a:xfrm>
          </p:grpSpPr>
          <p:sp>
            <p:nvSpPr>
              <p:cNvPr id="136" name=""/>
              <p:cNvSpPr/>
              <p:nvPr/>
            </p:nvSpPr>
            <p:spPr>
              <a:xfrm>
                <a:off x="1752480" y="411480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752480" y="403884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 flipH="1">
              <a:off x="1066320" y="373392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00200" y="365760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2819520" y="4114800"/>
              <a:ext cx="380880" cy="579600"/>
              <a:chOff x="2819520" y="4114800"/>
              <a:chExt cx="380880" cy="579600"/>
            </a:xfrm>
          </p:grpSpPr>
          <p:sp>
            <p:nvSpPr>
              <p:cNvPr id="141" name=""/>
              <p:cNvSpPr/>
              <p:nvPr/>
            </p:nvSpPr>
            <p:spPr>
              <a:xfrm>
                <a:off x="281952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81952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3809880" y="4114800"/>
              <a:ext cx="380880" cy="579600"/>
              <a:chOff x="3809880" y="4114800"/>
              <a:chExt cx="380880" cy="579600"/>
            </a:xfrm>
          </p:grpSpPr>
          <p:sp>
            <p:nvSpPr>
              <p:cNvPr id="144" name=""/>
              <p:cNvSpPr/>
              <p:nvPr/>
            </p:nvSpPr>
            <p:spPr>
              <a:xfrm>
                <a:off x="380988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80988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 flipH="1">
              <a:off x="3123720" y="381024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57600" y="37339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4648320" y="4114800"/>
              <a:ext cx="380880" cy="579600"/>
              <a:chOff x="4648320" y="4114800"/>
              <a:chExt cx="380880" cy="579600"/>
            </a:xfrm>
          </p:grpSpPr>
          <p:sp>
            <p:nvSpPr>
              <p:cNvPr id="149" name=""/>
              <p:cNvSpPr/>
              <p:nvPr/>
            </p:nvSpPr>
            <p:spPr>
              <a:xfrm>
                <a:off x="464832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4832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5334120" y="4114800"/>
              <a:ext cx="380880" cy="579600"/>
              <a:chOff x="5334120" y="4114800"/>
              <a:chExt cx="380880" cy="579600"/>
            </a:xfrm>
          </p:grpSpPr>
          <p:sp>
            <p:nvSpPr>
              <p:cNvPr id="152" name=""/>
              <p:cNvSpPr/>
              <p:nvPr/>
            </p:nvSpPr>
            <p:spPr>
              <a:xfrm>
                <a:off x="533412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33412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6019920" y="4114800"/>
              <a:ext cx="380880" cy="579600"/>
              <a:chOff x="6019920" y="4114800"/>
              <a:chExt cx="380880" cy="579600"/>
            </a:xfrm>
          </p:grpSpPr>
          <p:sp>
            <p:nvSpPr>
              <p:cNvPr id="155" name=""/>
              <p:cNvSpPr/>
              <p:nvPr/>
            </p:nvSpPr>
            <p:spPr>
              <a:xfrm>
                <a:off x="601992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01992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6705720" y="4114800"/>
              <a:ext cx="380880" cy="579600"/>
              <a:chOff x="6705720" y="4114800"/>
              <a:chExt cx="380880" cy="579600"/>
            </a:xfrm>
          </p:grpSpPr>
          <p:sp>
            <p:nvSpPr>
              <p:cNvPr id="158" name=""/>
              <p:cNvSpPr/>
              <p:nvPr/>
            </p:nvSpPr>
            <p:spPr>
              <a:xfrm>
                <a:off x="670572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70572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flipH="1">
              <a:off x="4876920" y="3810240"/>
              <a:ext cx="3045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4120" y="3810240"/>
              <a:ext cx="1522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248160" y="3810240"/>
              <a:ext cx="1522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29400" y="381024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286000" y="5056200"/>
            <a:ext cx="4419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aximum number of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1 + 2 + 4 + 8 + … + 2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h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2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-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umber Of Nodes &amp; Heigh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number of nodes in a binary tree whose heigh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 &lt;= n &lt;=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–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n+1) &lt;= h &lt;=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ull Binary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ull binary tree of a given heigh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–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14400" y="2362320"/>
            <a:ext cx="7162920" cy="4162680"/>
            <a:chOff x="914400" y="2362320"/>
            <a:chExt cx="7162920" cy="4162680"/>
          </a:xfrm>
        </p:grpSpPr>
        <p:grpSp>
          <p:nvGrpSpPr>
            <p:cNvPr id="170" name=""/>
            <p:cNvGrpSpPr/>
            <p:nvPr/>
          </p:nvGrpSpPr>
          <p:grpSpPr>
            <a:xfrm>
              <a:off x="914400" y="2362320"/>
              <a:ext cx="6324480" cy="3398760"/>
              <a:chOff x="914400" y="2362320"/>
              <a:chExt cx="6324480" cy="339876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1371600" y="3733920"/>
                <a:ext cx="5486400" cy="1218960"/>
                <a:chOff x="1371600" y="3733920"/>
                <a:chExt cx="5486400" cy="121896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1371600" y="4495680"/>
                  <a:ext cx="380880" cy="381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429000" y="457200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181480" y="4495680"/>
                  <a:ext cx="380880" cy="381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476760" y="4572000"/>
                  <a:ext cx="38124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H="1">
                  <a:off x="5410080" y="3809880"/>
                  <a:ext cx="38088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095880" y="3733920"/>
                  <a:ext cx="53352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>
                  <a:off x="1675800" y="3733920"/>
                  <a:ext cx="83844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895480" y="3733920"/>
                  <a:ext cx="609480" cy="914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4191120" y="2362320"/>
                <a:ext cx="380880" cy="579240"/>
                <a:chOff x="4191120" y="2362320"/>
                <a:chExt cx="380880" cy="5792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191120" y="2438280"/>
                  <a:ext cx="380880" cy="38052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191120" y="2362320"/>
                  <a:ext cx="38088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2514600" y="2666880"/>
                <a:ext cx="3581280" cy="1341720"/>
                <a:chOff x="2514600" y="2666880"/>
                <a:chExt cx="3581280" cy="1341720"/>
              </a:xfrm>
            </p:grpSpPr>
            <p:grpSp>
              <p:nvGrpSpPr>
                <p:cNvPr id="184" name=""/>
                <p:cNvGrpSpPr/>
                <p:nvPr/>
              </p:nvGrpSpPr>
              <p:grpSpPr>
                <a:xfrm>
                  <a:off x="5715000" y="3429000"/>
                  <a:ext cx="380880" cy="579600"/>
                  <a:chOff x="5715000" y="3429000"/>
                  <a:chExt cx="380880" cy="57960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5715000" y="3505320"/>
                    <a:ext cx="380880" cy="38088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5715000" y="3429000"/>
                    <a:ext cx="38088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2514600" y="3429000"/>
                  <a:ext cx="380880" cy="579600"/>
                  <a:chOff x="2514600" y="3429000"/>
                  <a:chExt cx="380880" cy="57960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2514600" y="3505320"/>
                    <a:ext cx="380880" cy="38088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2514600" y="3429000"/>
                    <a:ext cx="38088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 flipH="1">
                  <a:off x="2819160" y="2666880"/>
                  <a:ext cx="1371600" cy="83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95680" y="2743200"/>
                  <a:ext cx="129528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914400" y="4724280"/>
                <a:ext cx="6324480" cy="1036800"/>
                <a:chOff x="914400" y="4724280"/>
                <a:chExt cx="6324480" cy="1036800"/>
              </a:xfrm>
            </p:grpSpPr>
            <p:grpSp>
              <p:nvGrpSpPr>
                <p:cNvPr id="193" name=""/>
                <p:cNvGrpSpPr/>
                <p:nvPr/>
              </p:nvGrpSpPr>
              <p:grpSpPr>
                <a:xfrm>
                  <a:off x="914400" y="5105520"/>
                  <a:ext cx="380880" cy="579240"/>
                  <a:chOff x="914400" y="5105520"/>
                  <a:chExt cx="380880" cy="57924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>
                    <a:off x="914400" y="518148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914400" y="510552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" name=""/>
                <p:cNvGrpSpPr/>
                <p:nvPr/>
              </p:nvGrpSpPr>
              <p:grpSpPr>
                <a:xfrm>
                  <a:off x="1904760" y="5105520"/>
                  <a:ext cx="380880" cy="579240"/>
                  <a:chOff x="1904760" y="5105520"/>
                  <a:chExt cx="380880" cy="57924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1904760" y="518148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1904760" y="510552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9" name=""/>
                <p:cNvSpPr/>
                <p:nvPr/>
              </p:nvSpPr>
              <p:spPr>
                <a:xfrm flipH="1">
                  <a:off x="1218600" y="4800600"/>
                  <a:ext cx="22860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752480" y="4724280"/>
                  <a:ext cx="3049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1" name=""/>
                <p:cNvGrpSpPr/>
                <p:nvPr/>
              </p:nvGrpSpPr>
              <p:grpSpPr>
                <a:xfrm>
                  <a:off x="2971800" y="5181480"/>
                  <a:ext cx="380880" cy="579600"/>
                  <a:chOff x="2971800" y="5181480"/>
                  <a:chExt cx="380880" cy="57960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>
                    <a:off x="2971800" y="5257800"/>
                    <a:ext cx="380880" cy="38088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2971800" y="5181480"/>
                    <a:ext cx="38088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3962160" y="5181480"/>
                  <a:ext cx="380880" cy="579600"/>
                  <a:chOff x="3962160" y="5181480"/>
                  <a:chExt cx="380880" cy="57960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3962160" y="5257800"/>
                    <a:ext cx="380880" cy="38088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3962160" y="5181480"/>
                    <a:ext cx="38088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 flipH="1">
                  <a:off x="3276000" y="4876920"/>
                  <a:ext cx="22860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809880" y="4800600"/>
                  <a:ext cx="3049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9" name=""/>
                <p:cNvGrpSpPr/>
                <p:nvPr/>
              </p:nvGrpSpPr>
              <p:grpSpPr>
                <a:xfrm>
                  <a:off x="4800600" y="5181480"/>
                  <a:ext cx="380880" cy="579600"/>
                  <a:chOff x="4800600" y="5181480"/>
                  <a:chExt cx="380880" cy="57960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4800600" y="5257800"/>
                    <a:ext cx="380880" cy="38088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4800600" y="5181480"/>
                    <a:ext cx="38088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5486400" y="5181480"/>
                  <a:ext cx="380880" cy="579600"/>
                  <a:chOff x="5486400" y="5181480"/>
                  <a:chExt cx="380880" cy="5796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5486400" y="5257800"/>
                    <a:ext cx="380880" cy="38088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5486400" y="5181480"/>
                    <a:ext cx="38088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6172200" y="5181480"/>
                  <a:ext cx="380880" cy="579600"/>
                  <a:chOff x="6172200" y="5181480"/>
                  <a:chExt cx="380880" cy="57960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6172200" y="5257800"/>
                    <a:ext cx="380880" cy="38088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6172200" y="5181480"/>
                    <a:ext cx="38088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6858000" y="5181480"/>
                  <a:ext cx="380880" cy="579600"/>
                  <a:chOff x="6858000" y="5181480"/>
                  <a:chExt cx="380880" cy="57960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6858000" y="5257800"/>
                    <a:ext cx="380880" cy="38088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6858000" y="5181480"/>
                    <a:ext cx="38088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1" name=""/>
                <p:cNvSpPr/>
                <p:nvPr/>
              </p:nvSpPr>
              <p:spPr>
                <a:xfrm flipH="1">
                  <a:off x="5029200" y="4876920"/>
                  <a:ext cx="30456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486400" y="4876920"/>
                  <a:ext cx="15228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6400440" y="4876920"/>
                  <a:ext cx="15228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781680" y="4876920"/>
                  <a:ext cx="30492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5" name=""/>
            <p:cNvSpPr/>
            <p:nvPr/>
          </p:nvSpPr>
          <p:spPr>
            <a:xfrm>
              <a:off x="1523880" y="5943600"/>
              <a:ext cx="655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full binary tre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umbering Nodes In A Full Binary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the nod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roug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–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by levels from top to bott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in a level number from left to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990720" y="3200400"/>
            <a:ext cx="6324480" cy="3398400"/>
            <a:chOff x="990720" y="3200400"/>
            <a:chExt cx="6324480" cy="3398400"/>
          </a:xfrm>
        </p:grpSpPr>
        <p:grpSp>
          <p:nvGrpSpPr>
            <p:cNvPr id="229" name=""/>
            <p:cNvGrpSpPr/>
            <p:nvPr/>
          </p:nvGrpSpPr>
          <p:grpSpPr>
            <a:xfrm>
              <a:off x="1447920" y="4572000"/>
              <a:ext cx="5486400" cy="1218960"/>
              <a:chOff x="1447920" y="4572000"/>
              <a:chExt cx="5486400" cy="1218960"/>
            </a:xfrm>
          </p:grpSpPr>
          <p:sp>
            <p:nvSpPr>
              <p:cNvPr id="230" name=""/>
              <p:cNvSpPr/>
              <p:nvPr/>
            </p:nvSpPr>
            <p:spPr>
              <a:xfrm>
                <a:off x="1447920" y="5333760"/>
                <a:ext cx="380880" cy="381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505320" y="541008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257800" y="5333760"/>
                <a:ext cx="380880" cy="381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553080" y="5410080"/>
                <a:ext cx="38124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5486400" y="4647960"/>
                <a:ext cx="38088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172200" y="4572000"/>
                <a:ext cx="53352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1752120" y="4572000"/>
                <a:ext cx="83844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971800" y="4572000"/>
                <a:ext cx="60948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4267080" y="3200400"/>
              <a:ext cx="380880" cy="579600"/>
              <a:chOff x="4267080" y="3200400"/>
              <a:chExt cx="380880" cy="579600"/>
            </a:xfrm>
          </p:grpSpPr>
          <p:sp>
            <p:nvSpPr>
              <p:cNvPr id="239" name=""/>
              <p:cNvSpPr/>
              <p:nvPr/>
            </p:nvSpPr>
            <p:spPr>
              <a:xfrm>
                <a:off x="4267080" y="32767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267080" y="32004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590920" y="3505320"/>
              <a:ext cx="3581280" cy="1341000"/>
              <a:chOff x="2590920" y="3505320"/>
              <a:chExt cx="3581280" cy="134100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5791320" y="4267080"/>
                <a:ext cx="380880" cy="579240"/>
                <a:chOff x="5791320" y="4267080"/>
                <a:chExt cx="380880" cy="5792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5791320" y="4343040"/>
                  <a:ext cx="380880" cy="38052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791320" y="4267080"/>
                  <a:ext cx="38088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2590920" y="4267080"/>
                <a:ext cx="380880" cy="579240"/>
                <a:chOff x="2590920" y="4267080"/>
                <a:chExt cx="380880" cy="5792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2590920" y="4343040"/>
                  <a:ext cx="380880" cy="38052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590920" y="4267080"/>
                  <a:ext cx="38088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8" name=""/>
              <p:cNvSpPr/>
              <p:nvPr/>
            </p:nvSpPr>
            <p:spPr>
              <a:xfrm flipH="1">
                <a:off x="2895480" y="3505320"/>
                <a:ext cx="13716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72000" y="3581280"/>
                <a:ext cx="1295280" cy="837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990720" y="5562720"/>
              <a:ext cx="6324480" cy="1036080"/>
              <a:chOff x="990720" y="5562720"/>
              <a:chExt cx="6324480" cy="103608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990720" y="5943600"/>
                <a:ext cx="380880" cy="578880"/>
                <a:chOff x="990720" y="5943600"/>
                <a:chExt cx="380880" cy="5788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990720" y="6019560"/>
                  <a:ext cx="380880" cy="38016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990720" y="5943600"/>
                  <a:ext cx="38088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1981080" y="5943600"/>
                <a:ext cx="380880" cy="578880"/>
                <a:chOff x="1981080" y="5943600"/>
                <a:chExt cx="380880" cy="57888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1981080" y="6019560"/>
                  <a:ext cx="380880" cy="38016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981080" y="5943600"/>
                  <a:ext cx="38088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 flipH="1">
                <a:off x="1294920" y="5638680"/>
                <a:ext cx="22860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828800" y="5562720"/>
                <a:ext cx="304920" cy="456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048120" y="6019560"/>
                <a:ext cx="380880" cy="579240"/>
                <a:chOff x="3048120" y="6019560"/>
                <a:chExt cx="380880" cy="57924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3048120" y="6095520"/>
                  <a:ext cx="380880" cy="38052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048120" y="6019560"/>
                  <a:ext cx="38088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4038480" y="6019560"/>
                <a:ext cx="380880" cy="579240"/>
                <a:chOff x="4038480" y="6019560"/>
                <a:chExt cx="380880" cy="57924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4038480" y="6095520"/>
                  <a:ext cx="380880" cy="38052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038480" y="6019560"/>
                  <a:ext cx="38088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 flipH="1">
                <a:off x="3352320" y="5715000"/>
                <a:ext cx="22860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886200" y="5638680"/>
                <a:ext cx="304920" cy="456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7" name=""/>
              <p:cNvGrpSpPr/>
              <p:nvPr/>
            </p:nvGrpSpPr>
            <p:grpSpPr>
              <a:xfrm>
                <a:off x="4876920" y="6019560"/>
                <a:ext cx="380880" cy="579240"/>
                <a:chOff x="4876920" y="6019560"/>
                <a:chExt cx="380880" cy="579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4876920" y="6095520"/>
                  <a:ext cx="380880" cy="38052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876920" y="6019560"/>
                  <a:ext cx="38088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5562720" y="6019560"/>
                <a:ext cx="380880" cy="579240"/>
                <a:chOff x="5562720" y="6019560"/>
                <a:chExt cx="380880" cy="57924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562720" y="6095520"/>
                  <a:ext cx="380880" cy="38052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562720" y="6019560"/>
                  <a:ext cx="38088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6248520" y="6019560"/>
                <a:ext cx="380880" cy="579240"/>
                <a:chOff x="6248520" y="6019560"/>
                <a:chExt cx="380880" cy="57924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6248520" y="6095520"/>
                  <a:ext cx="380880" cy="38052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6248520" y="6019560"/>
                  <a:ext cx="38088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6934320" y="6019560"/>
                <a:ext cx="380880" cy="579240"/>
                <a:chOff x="6934320" y="6019560"/>
                <a:chExt cx="380880" cy="5792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6934320" y="6095520"/>
                  <a:ext cx="380880" cy="38052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934320" y="6019560"/>
                  <a:ext cx="38088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9" name=""/>
              <p:cNvSpPr/>
              <p:nvPr/>
            </p:nvSpPr>
            <p:spPr>
              <a:xfrm flipH="1">
                <a:off x="5105520" y="5715000"/>
                <a:ext cx="30456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562720" y="5715000"/>
                <a:ext cx="15228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6476760" y="5715000"/>
                <a:ext cx="15228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858000" y="5715000"/>
                <a:ext cx="30492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3" name=""/>
          <p:cNvSpPr/>
          <p:nvPr/>
        </p:nvSpPr>
        <p:spPr>
          <a:xfrm>
            <a:off x="4343400" y="3200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6728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47920" y="52578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81280" y="5334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34120" y="52578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29400" y="5334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66680" y="59436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57400" y="59436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71800" y="6019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38480" y="6019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00600" y="6019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86400" y="6019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72200" y="6019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6019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ode Number Properties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ent of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/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unles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root and has no pa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914400" y="914400"/>
            <a:ext cx="6476760" cy="3398400"/>
            <a:chOff x="914400" y="914400"/>
            <a:chExt cx="6476760" cy="3398400"/>
          </a:xfrm>
        </p:grpSpPr>
        <p:grpSp>
          <p:nvGrpSpPr>
            <p:cNvPr id="301" name=""/>
            <p:cNvGrpSpPr/>
            <p:nvPr/>
          </p:nvGrpSpPr>
          <p:grpSpPr>
            <a:xfrm>
              <a:off x="914400" y="914400"/>
              <a:ext cx="6324480" cy="3398400"/>
              <a:chOff x="914400" y="914400"/>
              <a:chExt cx="6324480" cy="339840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1371600" y="2286000"/>
                <a:ext cx="5486400" cy="1218960"/>
                <a:chOff x="1371600" y="2286000"/>
                <a:chExt cx="5486400" cy="121896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1371600" y="3047760"/>
                  <a:ext cx="380880" cy="381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429000" y="312408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5181480" y="3047760"/>
                  <a:ext cx="380880" cy="381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76760" y="3124080"/>
                  <a:ext cx="38124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H="1">
                  <a:off x="5410080" y="2361960"/>
                  <a:ext cx="38088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095880" y="2286000"/>
                  <a:ext cx="53352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H="1">
                  <a:off x="1675800" y="2286000"/>
                  <a:ext cx="83844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895480" y="2286000"/>
                  <a:ext cx="609480" cy="914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4190760" y="914400"/>
                <a:ext cx="380880" cy="579600"/>
                <a:chOff x="4190760" y="914400"/>
                <a:chExt cx="380880" cy="57960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4190760" y="99072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190760" y="914400"/>
                  <a:ext cx="3808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2514600" y="1219320"/>
                <a:ext cx="3581280" cy="1341000"/>
                <a:chOff x="2514600" y="1219320"/>
                <a:chExt cx="3581280" cy="1341000"/>
              </a:xfrm>
            </p:grpSpPr>
            <p:grpSp>
              <p:nvGrpSpPr>
                <p:cNvPr id="315" name=""/>
                <p:cNvGrpSpPr/>
                <p:nvPr/>
              </p:nvGrpSpPr>
              <p:grpSpPr>
                <a:xfrm>
                  <a:off x="5715000" y="1981080"/>
                  <a:ext cx="380880" cy="579240"/>
                  <a:chOff x="5715000" y="1981080"/>
                  <a:chExt cx="380880" cy="57924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>
                    <a:off x="5715000" y="20570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5715000" y="19810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2514600" y="1981080"/>
                  <a:ext cx="380880" cy="579240"/>
                  <a:chOff x="2514600" y="1981080"/>
                  <a:chExt cx="380880" cy="57924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2514600" y="20570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2514600" y="19810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1" name=""/>
                <p:cNvSpPr/>
                <p:nvPr/>
              </p:nvSpPr>
              <p:spPr>
                <a:xfrm flipH="1">
                  <a:off x="2819160" y="1219320"/>
                  <a:ext cx="137160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4495680" y="1295280"/>
                  <a:ext cx="1295280" cy="83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914400" y="3276720"/>
                <a:ext cx="6324480" cy="1036080"/>
                <a:chOff x="914400" y="3276720"/>
                <a:chExt cx="6324480" cy="1036080"/>
              </a:xfrm>
            </p:grpSpPr>
            <p:grpSp>
              <p:nvGrpSpPr>
                <p:cNvPr id="324" name=""/>
                <p:cNvGrpSpPr/>
                <p:nvPr/>
              </p:nvGrpSpPr>
              <p:grpSpPr>
                <a:xfrm>
                  <a:off x="914400" y="3657600"/>
                  <a:ext cx="380880" cy="578880"/>
                  <a:chOff x="914400" y="3657600"/>
                  <a:chExt cx="380880" cy="578880"/>
                </a:xfrm>
              </p:grpSpPr>
              <p:sp>
                <p:nvSpPr>
                  <p:cNvPr id="325" name=""/>
                  <p:cNvSpPr/>
                  <p:nvPr/>
                </p:nvSpPr>
                <p:spPr>
                  <a:xfrm>
                    <a:off x="914400" y="3733560"/>
                    <a:ext cx="380880" cy="38016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914400" y="3657600"/>
                    <a:ext cx="38088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7" name=""/>
                <p:cNvGrpSpPr/>
                <p:nvPr/>
              </p:nvGrpSpPr>
              <p:grpSpPr>
                <a:xfrm>
                  <a:off x="1904760" y="3657600"/>
                  <a:ext cx="380880" cy="578880"/>
                  <a:chOff x="1904760" y="3657600"/>
                  <a:chExt cx="380880" cy="57888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1904760" y="3733560"/>
                    <a:ext cx="380880" cy="38016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1904760" y="3657600"/>
                    <a:ext cx="38088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0" name=""/>
                <p:cNvSpPr/>
                <p:nvPr/>
              </p:nvSpPr>
              <p:spPr>
                <a:xfrm flipH="1">
                  <a:off x="1218600" y="3352680"/>
                  <a:ext cx="22860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752480" y="3276720"/>
                  <a:ext cx="30492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2" name=""/>
                <p:cNvGrpSpPr/>
                <p:nvPr/>
              </p:nvGrpSpPr>
              <p:grpSpPr>
                <a:xfrm>
                  <a:off x="2971800" y="3733560"/>
                  <a:ext cx="380880" cy="579240"/>
                  <a:chOff x="2971800" y="3733560"/>
                  <a:chExt cx="380880" cy="57924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9718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9718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3962160" y="3733560"/>
                  <a:ext cx="380880" cy="579240"/>
                  <a:chOff x="3962160" y="3733560"/>
                  <a:chExt cx="380880" cy="57924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396216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396216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8" name=""/>
                <p:cNvSpPr/>
                <p:nvPr/>
              </p:nvSpPr>
              <p:spPr>
                <a:xfrm flipH="1">
                  <a:off x="3276000" y="3429000"/>
                  <a:ext cx="22860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3809880" y="3352680"/>
                  <a:ext cx="30492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0" name=""/>
                <p:cNvGrpSpPr/>
                <p:nvPr/>
              </p:nvGrpSpPr>
              <p:grpSpPr>
                <a:xfrm>
                  <a:off x="4800600" y="3733560"/>
                  <a:ext cx="380880" cy="579240"/>
                  <a:chOff x="4800600" y="3733560"/>
                  <a:chExt cx="380880" cy="57924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>
                    <a:off x="48006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48006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3" name=""/>
                <p:cNvGrpSpPr/>
                <p:nvPr/>
              </p:nvGrpSpPr>
              <p:grpSpPr>
                <a:xfrm>
                  <a:off x="5486400" y="3733560"/>
                  <a:ext cx="380880" cy="579240"/>
                  <a:chOff x="5486400" y="3733560"/>
                  <a:chExt cx="380880" cy="57924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54864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54864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6" name=""/>
                <p:cNvGrpSpPr/>
                <p:nvPr/>
              </p:nvGrpSpPr>
              <p:grpSpPr>
                <a:xfrm>
                  <a:off x="6172200" y="3733560"/>
                  <a:ext cx="380880" cy="579240"/>
                  <a:chOff x="6172200" y="3733560"/>
                  <a:chExt cx="380880" cy="57924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>
                    <a:off x="61722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61722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6858000" y="3733560"/>
                  <a:ext cx="380880" cy="579240"/>
                  <a:chOff x="6858000" y="3733560"/>
                  <a:chExt cx="380880" cy="57924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68580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68580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2" name=""/>
                <p:cNvSpPr/>
                <p:nvPr/>
              </p:nvSpPr>
              <p:spPr>
                <a:xfrm flipH="1">
                  <a:off x="5029200" y="3429000"/>
                  <a:ext cx="30456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5486400" y="3429000"/>
                  <a:ext cx="15228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>
                  <a:off x="6400440" y="3429000"/>
                  <a:ext cx="15228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781680" y="3429000"/>
                  <a:ext cx="30492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6" name=""/>
            <p:cNvSpPr/>
            <p:nvPr/>
          </p:nvSpPr>
          <p:spPr>
            <a:xfrm>
              <a:off x="4267080" y="9144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590560" y="1981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90960" y="1981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71600" y="29714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504960" y="30477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57800" y="29714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53080" y="30477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90360" y="36572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81080" y="36572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8954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962160" y="37335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242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100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958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7816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ode Number Properties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 child of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unles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i &gt;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number of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i &gt;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nod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no left chi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914400" y="914400"/>
            <a:ext cx="6476760" cy="3398400"/>
            <a:chOff x="914400" y="914400"/>
            <a:chExt cx="6476760" cy="3398400"/>
          </a:xfrm>
        </p:grpSpPr>
        <p:grpSp>
          <p:nvGrpSpPr>
            <p:cNvPr id="374" name=""/>
            <p:cNvGrpSpPr/>
            <p:nvPr/>
          </p:nvGrpSpPr>
          <p:grpSpPr>
            <a:xfrm>
              <a:off x="914400" y="914400"/>
              <a:ext cx="6324480" cy="3398400"/>
              <a:chOff x="914400" y="914400"/>
              <a:chExt cx="6324480" cy="3398400"/>
            </a:xfrm>
          </p:grpSpPr>
          <p:grpSp>
            <p:nvGrpSpPr>
              <p:cNvPr id="375" name=""/>
              <p:cNvGrpSpPr/>
              <p:nvPr/>
            </p:nvGrpSpPr>
            <p:grpSpPr>
              <a:xfrm>
                <a:off x="1371600" y="2286000"/>
                <a:ext cx="5486400" cy="1218960"/>
                <a:chOff x="1371600" y="2286000"/>
                <a:chExt cx="5486400" cy="121896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1371600" y="3047760"/>
                  <a:ext cx="380880" cy="381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429000" y="312408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5181480" y="3047760"/>
                  <a:ext cx="380880" cy="381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476760" y="3124080"/>
                  <a:ext cx="38124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H="1">
                  <a:off x="5410080" y="2361960"/>
                  <a:ext cx="38088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095880" y="2286000"/>
                  <a:ext cx="53352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>
                  <a:off x="1675800" y="2286000"/>
                  <a:ext cx="83844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895480" y="2286000"/>
                  <a:ext cx="609480" cy="914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4190760" y="914400"/>
                <a:ext cx="380880" cy="579600"/>
                <a:chOff x="4190760" y="914400"/>
                <a:chExt cx="380880" cy="5796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4190760" y="99072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4190760" y="914400"/>
                  <a:ext cx="3808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2514600" y="1219320"/>
                <a:ext cx="3581280" cy="1341000"/>
                <a:chOff x="2514600" y="1219320"/>
                <a:chExt cx="3581280" cy="1341000"/>
              </a:xfrm>
            </p:grpSpPr>
            <p:grpSp>
              <p:nvGrpSpPr>
                <p:cNvPr id="388" name=""/>
                <p:cNvGrpSpPr/>
                <p:nvPr/>
              </p:nvGrpSpPr>
              <p:grpSpPr>
                <a:xfrm>
                  <a:off x="5715000" y="1981080"/>
                  <a:ext cx="380880" cy="579240"/>
                  <a:chOff x="5715000" y="1981080"/>
                  <a:chExt cx="380880" cy="57924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5715000" y="20570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5715000" y="19810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1" name=""/>
                <p:cNvGrpSpPr/>
                <p:nvPr/>
              </p:nvGrpSpPr>
              <p:grpSpPr>
                <a:xfrm>
                  <a:off x="2514600" y="1981080"/>
                  <a:ext cx="380880" cy="579240"/>
                  <a:chOff x="2514600" y="1981080"/>
                  <a:chExt cx="380880" cy="57924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>
                    <a:off x="2514600" y="20570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2514600" y="19810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4" name=""/>
                <p:cNvSpPr/>
                <p:nvPr/>
              </p:nvSpPr>
              <p:spPr>
                <a:xfrm flipH="1">
                  <a:off x="2819160" y="1219320"/>
                  <a:ext cx="137160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4495680" y="1295280"/>
                  <a:ext cx="1295280" cy="83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914400" y="3276720"/>
                <a:ext cx="6324480" cy="1036080"/>
                <a:chOff x="914400" y="3276720"/>
                <a:chExt cx="6324480" cy="1036080"/>
              </a:xfrm>
            </p:grpSpPr>
            <p:grpSp>
              <p:nvGrpSpPr>
                <p:cNvPr id="397" name=""/>
                <p:cNvGrpSpPr/>
                <p:nvPr/>
              </p:nvGrpSpPr>
              <p:grpSpPr>
                <a:xfrm>
                  <a:off x="914400" y="3657600"/>
                  <a:ext cx="380880" cy="578880"/>
                  <a:chOff x="914400" y="3657600"/>
                  <a:chExt cx="380880" cy="57888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914400" y="3733560"/>
                    <a:ext cx="380880" cy="38016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914400" y="3657600"/>
                    <a:ext cx="38088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0" name=""/>
                <p:cNvGrpSpPr/>
                <p:nvPr/>
              </p:nvGrpSpPr>
              <p:grpSpPr>
                <a:xfrm>
                  <a:off x="1904760" y="3657600"/>
                  <a:ext cx="380880" cy="578880"/>
                  <a:chOff x="1904760" y="3657600"/>
                  <a:chExt cx="380880" cy="57888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>
                    <a:off x="1904760" y="3733560"/>
                    <a:ext cx="380880" cy="38016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1904760" y="3657600"/>
                    <a:ext cx="38088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3" name=""/>
                <p:cNvSpPr/>
                <p:nvPr/>
              </p:nvSpPr>
              <p:spPr>
                <a:xfrm flipH="1">
                  <a:off x="1218600" y="3352680"/>
                  <a:ext cx="22860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752480" y="3276720"/>
                  <a:ext cx="30492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5" name=""/>
                <p:cNvGrpSpPr/>
                <p:nvPr/>
              </p:nvGrpSpPr>
              <p:grpSpPr>
                <a:xfrm>
                  <a:off x="2971800" y="3733560"/>
                  <a:ext cx="380880" cy="579240"/>
                  <a:chOff x="2971800" y="3733560"/>
                  <a:chExt cx="380880" cy="57924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29718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29718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8" name=""/>
                <p:cNvGrpSpPr/>
                <p:nvPr/>
              </p:nvGrpSpPr>
              <p:grpSpPr>
                <a:xfrm>
                  <a:off x="3962160" y="3733560"/>
                  <a:ext cx="380880" cy="579240"/>
                  <a:chOff x="3962160" y="3733560"/>
                  <a:chExt cx="380880" cy="57924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396216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396216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1" name=""/>
                <p:cNvSpPr/>
                <p:nvPr/>
              </p:nvSpPr>
              <p:spPr>
                <a:xfrm flipH="1">
                  <a:off x="3276000" y="3429000"/>
                  <a:ext cx="22860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3809880" y="3352680"/>
                  <a:ext cx="30492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3" name=""/>
                <p:cNvGrpSpPr/>
                <p:nvPr/>
              </p:nvGrpSpPr>
              <p:grpSpPr>
                <a:xfrm>
                  <a:off x="4800600" y="3733560"/>
                  <a:ext cx="380880" cy="579240"/>
                  <a:chOff x="4800600" y="3733560"/>
                  <a:chExt cx="380880" cy="57924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>
                    <a:off x="48006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48006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6" name=""/>
                <p:cNvGrpSpPr/>
                <p:nvPr/>
              </p:nvGrpSpPr>
              <p:grpSpPr>
                <a:xfrm>
                  <a:off x="5486400" y="3733560"/>
                  <a:ext cx="380880" cy="579240"/>
                  <a:chOff x="5486400" y="3733560"/>
                  <a:chExt cx="380880" cy="57924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>
                    <a:off x="54864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54864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6172200" y="3733560"/>
                  <a:ext cx="380880" cy="579240"/>
                  <a:chOff x="6172200" y="3733560"/>
                  <a:chExt cx="380880" cy="57924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>
                    <a:off x="61722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61722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6858000" y="3733560"/>
                  <a:ext cx="380880" cy="579240"/>
                  <a:chOff x="6858000" y="3733560"/>
                  <a:chExt cx="380880" cy="57924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>
                    <a:off x="68580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68580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5" name=""/>
                <p:cNvSpPr/>
                <p:nvPr/>
              </p:nvSpPr>
              <p:spPr>
                <a:xfrm flipH="1">
                  <a:off x="5029200" y="3429000"/>
                  <a:ext cx="30456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5486400" y="3429000"/>
                  <a:ext cx="15228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H="1">
                  <a:off x="6400440" y="3429000"/>
                  <a:ext cx="15228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6781680" y="3429000"/>
                  <a:ext cx="30492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9" name=""/>
            <p:cNvSpPr/>
            <p:nvPr/>
          </p:nvSpPr>
          <p:spPr>
            <a:xfrm>
              <a:off x="4267080" y="9144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590560" y="1981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790960" y="1981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71600" y="29714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04960" y="30477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257800" y="29714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53080" y="30477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990360" y="36572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81080" y="36572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954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962160" y="37335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7242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4100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0958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7816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ode Number Properties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child of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i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unles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i+1 &gt;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number of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i+1 &gt;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nod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no right chi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914400" y="914400"/>
            <a:ext cx="6476760" cy="3398400"/>
            <a:chOff x="914400" y="914400"/>
            <a:chExt cx="6476760" cy="3398400"/>
          </a:xfrm>
        </p:grpSpPr>
        <p:grpSp>
          <p:nvGrpSpPr>
            <p:cNvPr id="447" name=""/>
            <p:cNvGrpSpPr/>
            <p:nvPr/>
          </p:nvGrpSpPr>
          <p:grpSpPr>
            <a:xfrm>
              <a:off x="914400" y="914400"/>
              <a:ext cx="6324480" cy="3398400"/>
              <a:chOff x="914400" y="914400"/>
              <a:chExt cx="6324480" cy="3398400"/>
            </a:xfrm>
          </p:grpSpPr>
          <p:grpSp>
            <p:nvGrpSpPr>
              <p:cNvPr id="448" name=""/>
              <p:cNvGrpSpPr/>
              <p:nvPr/>
            </p:nvGrpSpPr>
            <p:grpSpPr>
              <a:xfrm>
                <a:off x="1371600" y="2286000"/>
                <a:ext cx="5486400" cy="1218960"/>
                <a:chOff x="1371600" y="2286000"/>
                <a:chExt cx="5486400" cy="121896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1371600" y="3047760"/>
                  <a:ext cx="380880" cy="381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429000" y="312408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5181480" y="3047760"/>
                  <a:ext cx="380880" cy="381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476760" y="3124080"/>
                  <a:ext cx="38124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flipH="1">
                  <a:off x="5410080" y="2361960"/>
                  <a:ext cx="38088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6095880" y="2286000"/>
                  <a:ext cx="53352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flipH="1">
                  <a:off x="1675800" y="2286000"/>
                  <a:ext cx="83844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2895480" y="2286000"/>
                  <a:ext cx="609480" cy="914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4190760" y="914400"/>
                <a:ext cx="380880" cy="579600"/>
                <a:chOff x="4190760" y="914400"/>
                <a:chExt cx="380880" cy="57960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4190760" y="99072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190760" y="914400"/>
                  <a:ext cx="3808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2514600" y="1219320"/>
                <a:ext cx="3581280" cy="1341000"/>
                <a:chOff x="2514600" y="1219320"/>
                <a:chExt cx="3581280" cy="1341000"/>
              </a:xfrm>
            </p:grpSpPr>
            <p:grpSp>
              <p:nvGrpSpPr>
                <p:cNvPr id="461" name=""/>
                <p:cNvGrpSpPr/>
                <p:nvPr/>
              </p:nvGrpSpPr>
              <p:grpSpPr>
                <a:xfrm>
                  <a:off x="5715000" y="1981080"/>
                  <a:ext cx="380880" cy="579240"/>
                  <a:chOff x="5715000" y="1981080"/>
                  <a:chExt cx="380880" cy="57924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>
                    <a:off x="5715000" y="20570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5715000" y="19810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2514600" y="1981080"/>
                  <a:ext cx="380880" cy="579240"/>
                  <a:chOff x="2514600" y="1981080"/>
                  <a:chExt cx="380880" cy="57924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>
                    <a:off x="2514600" y="20570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2514600" y="19810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7" name=""/>
                <p:cNvSpPr/>
                <p:nvPr/>
              </p:nvSpPr>
              <p:spPr>
                <a:xfrm flipH="1">
                  <a:off x="2819160" y="1219320"/>
                  <a:ext cx="137160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4495680" y="1295280"/>
                  <a:ext cx="1295280" cy="83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914400" y="3276720"/>
                <a:ext cx="6324480" cy="1036080"/>
                <a:chOff x="914400" y="3276720"/>
                <a:chExt cx="6324480" cy="1036080"/>
              </a:xfrm>
            </p:grpSpPr>
            <p:grpSp>
              <p:nvGrpSpPr>
                <p:cNvPr id="470" name=""/>
                <p:cNvGrpSpPr/>
                <p:nvPr/>
              </p:nvGrpSpPr>
              <p:grpSpPr>
                <a:xfrm>
                  <a:off x="914400" y="3657600"/>
                  <a:ext cx="380880" cy="578880"/>
                  <a:chOff x="914400" y="3657600"/>
                  <a:chExt cx="380880" cy="57888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>
                    <a:off x="914400" y="3733560"/>
                    <a:ext cx="380880" cy="38016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914400" y="3657600"/>
                    <a:ext cx="38088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1904760" y="3657600"/>
                  <a:ext cx="380880" cy="578880"/>
                  <a:chOff x="1904760" y="3657600"/>
                  <a:chExt cx="380880" cy="57888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>
                    <a:off x="1904760" y="3733560"/>
                    <a:ext cx="380880" cy="38016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1904760" y="3657600"/>
                    <a:ext cx="38088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6" name=""/>
                <p:cNvSpPr/>
                <p:nvPr/>
              </p:nvSpPr>
              <p:spPr>
                <a:xfrm flipH="1">
                  <a:off x="1218600" y="3352680"/>
                  <a:ext cx="22860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1752480" y="3276720"/>
                  <a:ext cx="30492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8" name=""/>
                <p:cNvGrpSpPr/>
                <p:nvPr/>
              </p:nvGrpSpPr>
              <p:grpSpPr>
                <a:xfrm>
                  <a:off x="2971800" y="3733560"/>
                  <a:ext cx="380880" cy="579240"/>
                  <a:chOff x="2971800" y="3733560"/>
                  <a:chExt cx="380880" cy="57924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29718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29718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1" name=""/>
                <p:cNvGrpSpPr/>
                <p:nvPr/>
              </p:nvGrpSpPr>
              <p:grpSpPr>
                <a:xfrm>
                  <a:off x="3962160" y="3733560"/>
                  <a:ext cx="380880" cy="579240"/>
                  <a:chOff x="3962160" y="3733560"/>
                  <a:chExt cx="380880" cy="57924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>
                    <a:off x="396216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396216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4" name=""/>
                <p:cNvSpPr/>
                <p:nvPr/>
              </p:nvSpPr>
              <p:spPr>
                <a:xfrm flipH="1">
                  <a:off x="3276000" y="3429000"/>
                  <a:ext cx="22860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3809880" y="3352680"/>
                  <a:ext cx="30492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6" name=""/>
                <p:cNvGrpSpPr/>
                <p:nvPr/>
              </p:nvGrpSpPr>
              <p:grpSpPr>
                <a:xfrm>
                  <a:off x="4800600" y="3733560"/>
                  <a:ext cx="380880" cy="579240"/>
                  <a:chOff x="4800600" y="3733560"/>
                  <a:chExt cx="380880" cy="579240"/>
                </a:xfrm>
              </p:grpSpPr>
              <p:sp>
                <p:nvSpPr>
                  <p:cNvPr id="487" name=""/>
                  <p:cNvSpPr/>
                  <p:nvPr/>
                </p:nvSpPr>
                <p:spPr>
                  <a:xfrm>
                    <a:off x="48006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48006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9" name=""/>
                <p:cNvGrpSpPr/>
                <p:nvPr/>
              </p:nvGrpSpPr>
              <p:grpSpPr>
                <a:xfrm>
                  <a:off x="5486400" y="3733560"/>
                  <a:ext cx="380880" cy="579240"/>
                  <a:chOff x="5486400" y="3733560"/>
                  <a:chExt cx="380880" cy="579240"/>
                </a:xfrm>
              </p:grpSpPr>
              <p:sp>
                <p:nvSpPr>
                  <p:cNvPr id="490" name=""/>
                  <p:cNvSpPr/>
                  <p:nvPr/>
                </p:nvSpPr>
                <p:spPr>
                  <a:xfrm>
                    <a:off x="54864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54864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2" name=""/>
                <p:cNvGrpSpPr/>
                <p:nvPr/>
              </p:nvGrpSpPr>
              <p:grpSpPr>
                <a:xfrm>
                  <a:off x="6172200" y="3733560"/>
                  <a:ext cx="380880" cy="579240"/>
                  <a:chOff x="6172200" y="3733560"/>
                  <a:chExt cx="380880" cy="579240"/>
                </a:xfrm>
              </p:grpSpPr>
              <p:sp>
                <p:nvSpPr>
                  <p:cNvPr id="493" name=""/>
                  <p:cNvSpPr/>
                  <p:nvPr/>
                </p:nvSpPr>
                <p:spPr>
                  <a:xfrm>
                    <a:off x="61722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61722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5" name=""/>
                <p:cNvGrpSpPr/>
                <p:nvPr/>
              </p:nvGrpSpPr>
              <p:grpSpPr>
                <a:xfrm>
                  <a:off x="6858000" y="3733560"/>
                  <a:ext cx="380880" cy="579240"/>
                  <a:chOff x="6858000" y="3733560"/>
                  <a:chExt cx="380880" cy="579240"/>
                </a:xfrm>
              </p:grpSpPr>
              <p:sp>
                <p:nvSpPr>
                  <p:cNvPr id="496" name=""/>
                  <p:cNvSpPr/>
                  <p:nvPr/>
                </p:nvSpPr>
                <p:spPr>
                  <a:xfrm>
                    <a:off x="68580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68580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8" name=""/>
                <p:cNvSpPr/>
                <p:nvPr/>
              </p:nvSpPr>
              <p:spPr>
                <a:xfrm flipH="1">
                  <a:off x="5029200" y="3429000"/>
                  <a:ext cx="30456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5486400" y="3429000"/>
                  <a:ext cx="15228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H="1">
                  <a:off x="6400440" y="3429000"/>
                  <a:ext cx="15228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781680" y="3429000"/>
                  <a:ext cx="30492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2" name=""/>
            <p:cNvSpPr/>
            <p:nvPr/>
          </p:nvSpPr>
          <p:spPr>
            <a:xfrm>
              <a:off x="4267080" y="9144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590560" y="1981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790960" y="1981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371600" y="29714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04960" y="30477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257800" y="29714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553080" y="30477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990360" y="36572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981080" y="36572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8954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962160" y="37335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7242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4100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0958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7816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4-08-05T16:11:58Z</dcterms:modified>
  <cp:revision>338</cp:revision>
  <dc:subject/>
  <dc:title>Data Representation Methods</dc:title>
</cp:coreProperties>
</file>