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A3EB6-119C-457C-B697-DE8EB4445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5B8C5-6CD0-4F27-8306-BA49380EC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CC064-0ABF-418A-A748-5DD0998B8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AAD92-9040-4412-BC97-A9C8890B0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0B304-A5E7-485B-B234-894DCB3C9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741FD-B750-4179-ACA2-E087204B5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21C42-9A05-429C-9832-B8388B086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06974-D02B-4F8F-977B-05CE331CF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28794-8B59-4458-91FC-7A4A0823E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7F05F-7720-4DBE-BF08-40EF48CF0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D1BA3-BF0B-431B-8280-432459CFB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C3749-00A3-4E36-9E45-2FE8C4D38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F21E9-F6C0-4AAB-A463-A8207568CF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 1 average 61%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ic average 83%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eed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e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t remaining assignment and exam scores to historic averag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ll do some form of extrapolation from Exam 2 &amp; 3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Hopcroft" descr=""/>
          <p:cNvPicPr/>
          <p:nvPr/>
        </p:nvPicPr>
        <p:blipFill>
          <a:blip r:embed="rId1"/>
          <a:stretch/>
        </p:blipFill>
        <p:spPr>
          <a:xfrm>
            <a:off x="2286000" y="152280"/>
            <a:ext cx="4762440" cy="629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03T12:15:38Z</dcterms:created>
  <dc:creator>sahni</dc:creator>
  <dc:description/>
  <dc:language>en-US</dc:language>
  <cp:lastModifiedBy>sahni</cp:lastModifiedBy>
  <dcterms:modified xsi:type="dcterms:W3CDTF">2003-10-10T14:08:30Z</dcterms:modified>
  <cp:revision>5</cp:revision>
  <dc:subject/>
  <dc:title>Announcements</dc:title>
</cp:coreProperties>
</file>