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6E1-9FDF-42FC-9D29-792B2EA2E5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of trees (not binary trees) and simulated pointers. Simple application of simulated pointers; one that does not require an explicit storage managemen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pplication we are concerned with the time taken to perform an intermixed sequence of operations rather than the time for an individual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union operations cannot exceed n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atoms in the Universe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the number of photons and neutrinos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(2,4) (and so also A(4,1)) dwarfs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10A-D98D-416D-BEAB-F4829D60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C2B-2ACF-4A4D-9DCB-FBC1EFA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355-3BB7-4259-8FBB-1C351756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2FB-5D49-4175-8FFC-3953EF63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1AC-F656-4B03-9286-7B776437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293-8857-47DE-90CC-F1CB6B9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5EE-30C2-4138-981E-575B90D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86D-48D5-4329-A646-8DAAEBF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FB2-34BD-47FB-8B60-3607829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7C8-D5ED-41DF-8182-7D7C547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95A-2C48-490A-B8AC-A42D2C6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708-2F76-42DD-91EC-9851C68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997-7370-47F3-A491-BB008CAA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-Find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1, 2, …, n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each element is in a differen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, {2}, …, {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mixed sequence of union and find operations is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on operation combines two sets into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s in exactly one set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d operation identifies the set that contains a particular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i,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roots of two different trees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!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ite the trees, make one tree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arent[j] =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8600" y="2286000"/>
            <a:ext cx="4572000" cy="3126600"/>
            <a:chOff x="228600" y="2286000"/>
            <a:chExt cx="4572000" cy="3126600"/>
          </a:xfrm>
        </p:grpSpPr>
        <p:sp>
          <p:nvSpPr>
            <p:cNvPr id="344" name=""/>
            <p:cNvSpPr/>
            <p:nvPr/>
          </p:nvSpPr>
          <p:spPr>
            <a:xfrm>
              <a:off x="19051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14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84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3657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7040" y="3657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8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884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767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30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2286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209680" y="2590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295280" y="3276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440" y="2666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38080" y="4038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12444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352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84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8600" y="4952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4952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331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368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124080" y="1523520"/>
            <a:ext cx="312444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find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parent[theElement] !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Element = parent[theElement];  // mo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Un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nio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A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parent[rootB] = rootA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union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CLOCK43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fi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height may equal number of elements 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nion(2,1), union(3,2), union(4,3), union(5,4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95280" y="4495680"/>
            <a:ext cx="1523880" cy="1189080"/>
            <a:chOff x="1295280" y="4495680"/>
            <a:chExt cx="1523880" cy="1189080"/>
          </a:xfrm>
        </p:grpSpPr>
        <p:grpSp>
          <p:nvGrpSpPr>
            <p:cNvPr id="411" name=""/>
            <p:cNvGrpSpPr/>
            <p:nvPr/>
          </p:nvGrpSpPr>
          <p:grpSpPr>
            <a:xfrm>
              <a:off x="1295280" y="5105160"/>
              <a:ext cx="380880" cy="579600"/>
              <a:chOff x="1295280" y="5105160"/>
              <a:chExt cx="380880" cy="579600"/>
            </a:xfrm>
          </p:grpSpPr>
          <p:sp>
            <p:nvSpPr>
              <p:cNvPr id="412" name=""/>
              <p:cNvSpPr/>
              <p:nvPr/>
            </p:nvSpPr>
            <p:spPr>
              <a:xfrm>
                <a:off x="1295280" y="51814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5280" y="51051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57040" y="4495680"/>
              <a:ext cx="380880" cy="579600"/>
              <a:chOff x="2057040" y="4495680"/>
              <a:chExt cx="380880" cy="579600"/>
            </a:xfrm>
          </p:grpSpPr>
          <p:sp>
            <p:nvSpPr>
              <p:cNvPr id="415" name=""/>
              <p:cNvSpPr/>
              <p:nvPr/>
            </p:nvSpPr>
            <p:spPr>
              <a:xfrm>
                <a:off x="205704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5704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05704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5280" y="51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599840" y="487620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1371600" cy="685800"/>
            <a:chOff x="2362320" y="3962520"/>
            <a:chExt cx="1371600" cy="685800"/>
          </a:xfrm>
        </p:grpSpPr>
        <p:grpSp>
          <p:nvGrpSpPr>
            <p:cNvPr id="421" name=""/>
            <p:cNvGrpSpPr/>
            <p:nvPr/>
          </p:nvGrpSpPr>
          <p:grpSpPr>
            <a:xfrm>
              <a:off x="2971800" y="3962520"/>
              <a:ext cx="380880" cy="579600"/>
              <a:chOff x="2971800" y="3962520"/>
              <a:chExt cx="380880" cy="579600"/>
            </a:xfrm>
          </p:grpSpPr>
          <p:sp>
            <p:nvSpPr>
              <p:cNvPr id="422" name=""/>
              <p:cNvSpPr/>
              <p:nvPr/>
            </p:nvSpPr>
            <p:spPr>
              <a:xfrm>
                <a:off x="2971800" y="40388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1800" y="39625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29718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362320" y="434376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352680" y="3657600"/>
            <a:ext cx="1371600" cy="579240"/>
            <a:chOff x="3352680" y="3657600"/>
            <a:chExt cx="1371600" cy="579240"/>
          </a:xfrm>
        </p:grpSpPr>
        <p:grpSp>
          <p:nvGrpSpPr>
            <p:cNvPr id="427" name=""/>
            <p:cNvGrpSpPr/>
            <p:nvPr/>
          </p:nvGrpSpPr>
          <p:grpSpPr>
            <a:xfrm>
              <a:off x="3962160" y="3657600"/>
              <a:ext cx="380880" cy="579240"/>
              <a:chOff x="3962160" y="3657600"/>
              <a:chExt cx="380880" cy="579240"/>
            </a:xfrm>
          </p:grpSpPr>
          <p:sp>
            <p:nvSpPr>
              <p:cNvPr id="428" name=""/>
              <p:cNvSpPr/>
              <p:nvPr/>
            </p:nvSpPr>
            <p:spPr>
              <a:xfrm>
                <a:off x="3962160" y="37335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62160" y="36576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962160" y="3657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352680" y="3961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67080" y="3200400"/>
            <a:ext cx="1447560" cy="609120"/>
            <a:chOff x="4267080" y="3200400"/>
            <a:chExt cx="14475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4952880" y="3200400"/>
              <a:ext cx="380880" cy="579240"/>
              <a:chOff x="4952880" y="3200400"/>
              <a:chExt cx="380880" cy="579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952880" y="32763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52880" y="32004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952880" y="3200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267080" y="3504600"/>
              <a:ext cx="7617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5791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 Unions and f Find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 + uf) = O(u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arent[i]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 + u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e than solution of Section 7.7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685800" y="4876920"/>
            <a:ext cx="6232320" cy="581400"/>
            <a:chOff x="685800" y="4876920"/>
            <a:chExt cx="6232320" cy="581400"/>
          </a:xfrm>
        </p:grpSpPr>
        <p:pic>
          <p:nvPicPr>
            <p:cNvPr id="443" name="WHACKER" descr=""/>
            <p:cNvPicPr/>
            <p:nvPr/>
          </p:nvPicPr>
          <p:blipFill>
            <a:blip r:embed="rId2"/>
            <a:stretch/>
          </p:blipFill>
          <p:spPr>
            <a:xfrm>
              <a:off x="6553080" y="5029200"/>
              <a:ext cx="365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85800" y="487692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ck to the drawing boar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rt Un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9480" y="1447920"/>
            <a:ext cx="4572000" cy="3126600"/>
            <a:chOff x="609480" y="1447920"/>
            <a:chExt cx="4572000" cy="3126600"/>
          </a:xfrm>
        </p:grpSpPr>
        <p:sp>
          <p:nvSpPr>
            <p:cNvPr id="447" name=""/>
            <p:cNvSpPr/>
            <p:nvPr/>
          </p:nvSpPr>
          <p:spPr>
            <a:xfrm>
              <a:off x="2286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6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79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76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19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576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39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40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240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905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1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53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2189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5053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4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8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9140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43600" y="1371600"/>
            <a:ext cx="3200400" cy="3431520"/>
            <a:chOff x="5943600" y="1371600"/>
            <a:chExt cx="3200400" cy="3431520"/>
          </a:xfrm>
        </p:grpSpPr>
        <p:sp>
          <p:nvSpPr>
            <p:cNvPr id="471" name=""/>
            <p:cNvSpPr/>
            <p:nvPr/>
          </p:nvSpPr>
          <p:spPr>
            <a:xfrm>
              <a:off x="7162920" y="13716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137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3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9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6748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67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29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05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48160" y="17528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86240" y="18288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18288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0120" y="1676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43800" y="17528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3429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674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8660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4872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720" y="4343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0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10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29400" y="38102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467120" y="38862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8720" y="38862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373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4680" y="38102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240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52578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ree should become a subtree of the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smaller height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0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181480" y="3200400"/>
            <a:ext cx="3200400" cy="3431520"/>
            <a:chOff x="5181480" y="3200400"/>
            <a:chExt cx="3200400" cy="3431520"/>
          </a:xfrm>
        </p:grpSpPr>
        <p:sp>
          <p:nvSpPr>
            <p:cNvPr id="530" name=""/>
            <p:cNvSpPr/>
            <p:nvPr/>
          </p:nvSpPr>
          <p:spPr>
            <a:xfrm>
              <a:off x="6400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67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81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57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360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56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0536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536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43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86040" y="35816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324120" y="3657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360" y="3657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505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35816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05360" y="52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6236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2448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8660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6600" y="6172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8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8360" y="6172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67280" y="56390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705000" y="5715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715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5562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2560" y="56390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0280" y="4572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2971800"/>
            <a:ext cx="274320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fewer number of elements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6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62720" y="2209680"/>
            <a:ext cx="3200400" cy="3431520"/>
            <a:chOff x="5562720" y="2209680"/>
            <a:chExt cx="3200400" cy="3431520"/>
          </a:xfrm>
        </p:grpSpPr>
        <p:sp>
          <p:nvSpPr>
            <p:cNvPr id="590" name=""/>
            <p:cNvSpPr/>
            <p:nvPr/>
          </p:nvSpPr>
          <p:spPr>
            <a:xfrm>
              <a:off x="678204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39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484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660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8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5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590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05360" y="2666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26668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9240" y="2514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2920" y="2590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66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3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4360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784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7840" y="5181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29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248520" y="46483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086240" y="47242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7840" y="47242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0120" y="4572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43800" y="46483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9152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657600" y="2361960"/>
            <a:ext cx="320040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rrays And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ction 7.7 for applications as well as for solutions that use arrays an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time complexity obtained in Section 7.7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u log u + 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union and find operations that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ree (not a binary tree) to represent a set, the time complexity becomes almost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suming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on oper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of each tree must record either its height or the number of element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union is done using the height rule, the height increases only when two trees of equal heigh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weight rule is used, the weight of the new tree is the sum of the weights of the trees tha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Of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start with single element trees and perform unions using either the height or the weight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 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rucing Up 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dditional work to make future find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6320" y="914400"/>
            <a:ext cx="8381880" cy="4855320"/>
            <a:chOff x="76320" y="914400"/>
            <a:chExt cx="8381880" cy="4855320"/>
          </a:xfrm>
        </p:grpSpPr>
        <p:sp>
          <p:nvSpPr>
            <p:cNvPr id="630" name=""/>
            <p:cNvSpPr/>
            <p:nvPr/>
          </p:nvSpPr>
          <p:spPr>
            <a:xfrm>
              <a:off x="7924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6292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38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86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8168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3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80880" y="1523880"/>
              <a:ext cx="4572000" cy="3126600"/>
              <a:chOff x="380880" y="1523880"/>
              <a:chExt cx="4572000" cy="3126600"/>
            </a:xfrm>
          </p:grpSpPr>
          <p:sp>
            <p:nvSpPr>
              <p:cNvPr id="642" name=""/>
              <p:cNvSpPr/>
              <p:nvPr/>
            </p:nvSpPr>
            <p:spPr>
              <a:xfrm>
                <a:off x="20574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37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5800" y="35049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2120" y="3504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3000" y="2895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19320" y="2895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48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91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191120" y="3124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290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053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480" y="1523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480" y="1523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361960" y="18284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447560" y="25142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76720" y="19047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990360" y="32763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276720" y="26668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09880" y="25905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8120" y="3124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0880" y="41907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7200" y="41907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85440" y="3962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477120" y="914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3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57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199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5880" y="1828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43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62360" y="12952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400440" y="1371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81680" y="1371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4320" y="1219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0" y="12952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008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943600" y="33526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781320" y="3429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2920" y="3429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15200" y="327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33526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8660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352680" y="10666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560" y="46483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85800" y="46483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668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762120" y="45720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668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1066680" y="39621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335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1523880" y="3276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7400" y="3048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9680" y="26668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9092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2286000" y="26668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44956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Compa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ll nodes on find path point to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04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16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097000" y="1846440"/>
            <a:ext cx="4446720" cy="1290600"/>
          </a:xfrm>
          <a:custGeom>
            <a:avLst/>
            <a:gdLst/>
            <a:ahLst/>
            <a:rect l="l" t="t" r="r" b="b"/>
            <a:pathLst>
              <a:path w="2801" h="813">
                <a:moveTo>
                  <a:pt x="0" y="813"/>
                </a:moveTo>
                <a:cubicBezTo>
                  <a:pt x="11" y="794"/>
                  <a:pt x="25" y="777"/>
                  <a:pt x="34" y="757"/>
                </a:cubicBezTo>
                <a:cubicBezTo>
                  <a:pt x="44" y="735"/>
                  <a:pt x="44" y="709"/>
                  <a:pt x="57" y="689"/>
                </a:cubicBezTo>
                <a:cubicBezTo>
                  <a:pt x="77" y="658"/>
                  <a:pt x="82" y="656"/>
                  <a:pt x="91" y="621"/>
                </a:cubicBezTo>
                <a:cubicBezTo>
                  <a:pt x="103" y="574"/>
                  <a:pt x="106" y="526"/>
                  <a:pt x="136" y="486"/>
                </a:cubicBezTo>
                <a:cubicBezTo>
                  <a:pt x="193" y="411"/>
                  <a:pt x="159" y="460"/>
                  <a:pt x="215" y="429"/>
                </a:cubicBezTo>
                <a:cubicBezTo>
                  <a:pt x="251" y="409"/>
                  <a:pt x="283" y="384"/>
                  <a:pt x="317" y="362"/>
                </a:cubicBezTo>
                <a:cubicBezTo>
                  <a:pt x="340" y="347"/>
                  <a:pt x="370" y="347"/>
                  <a:pt x="396" y="339"/>
                </a:cubicBezTo>
                <a:cubicBezTo>
                  <a:pt x="464" y="287"/>
                  <a:pt x="539" y="269"/>
                  <a:pt x="622" y="249"/>
                </a:cubicBezTo>
                <a:cubicBezTo>
                  <a:pt x="688" y="233"/>
                  <a:pt x="757" y="188"/>
                  <a:pt x="825" y="181"/>
                </a:cubicBezTo>
                <a:cubicBezTo>
                  <a:pt x="863" y="177"/>
                  <a:pt x="900" y="174"/>
                  <a:pt x="938" y="170"/>
                </a:cubicBezTo>
                <a:cubicBezTo>
                  <a:pt x="1355" y="81"/>
                  <a:pt x="1805" y="109"/>
                  <a:pt x="2225" y="102"/>
                </a:cubicBezTo>
                <a:cubicBezTo>
                  <a:pt x="2432" y="73"/>
                  <a:pt x="2586" y="0"/>
                  <a:pt x="280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36600" y="1666800"/>
            <a:ext cx="5381640" cy="2152800"/>
          </a:xfrm>
          <a:custGeom>
            <a:avLst/>
            <a:gdLst/>
            <a:ahLst/>
            <a:rect l="l" t="t" r="r" b="b"/>
            <a:pathLst>
              <a:path w="3390" h="1356">
                <a:moveTo>
                  <a:pt x="0" y="1356"/>
                </a:moveTo>
                <a:cubicBezTo>
                  <a:pt x="17" y="1241"/>
                  <a:pt x="33" y="1098"/>
                  <a:pt x="91" y="994"/>
                </a:cubicBezTo>
                <a:cubicBezTo>
                  <a:pt x="152" y="885"/>
                  <a:pt x="117" y="965"/>
                  <a:pt x="181" y="870"/>
                </a:cubicBezTo>
                <a:cubicBezTo>
                  <a:pt x="234" y="791"/>
                  <a:pt x="270" y="720"/>
                  <a:pt x="350" y="667"/>
                </a:cubicBezTo>
                <a:cubicBezTo>
                  <a:pt x="379" y="624"/>
                  <a:pt x="417" y="605"/>
                  <a:pt x="452" y="565"/>
                </a:cubicBezTo>
                <a:cubicBezTo>
                  <a:pt x="464" y="551"/>
                  <a:pt x="472" y="533"/>
                  <a:pt x="486" y="520"/>
                </a:cubicBezTo>
                <a:cubicBezTo>
                  <a:pt x="518" y="491"/>
                  <a:pt x="558" y="472"/>
                  <a:pt x="588" y="441"/>
                </a:cubicBezTo>
                <a:cubicBezTo>
                  <a:pt x="658" y="368"/>
                  <a:pt x="714" y="262"/>
                  <a:pt x="813" y="226"/>
                </a:cubicBezTo>
                <a:cubicBezTo>
                  <a:pt x="877" y="162"/>
                  <a:pt x="997" y="143"/>
                  <a:pt x="1085" y="125"/>
                </a:cubicBezTo>
                <a:cubicBezTo>
                  <a:pt x="1176" y="107"/>
                  <a:pt x="1266" y="90"/>
                  <a:pt x="1356" y="68"/>
                </a:cubicBezTo>
                <a:cubicBezTo>
                  <a:pt x="1397" y="58"/>
                  <a:pt x="1439" y="41"/>
                  <a:pt x="1480" y="34"/>
                </a:cubicBezTo>
                <a:cubicBezTo>
                  <a:pt x="1592" y="15"/>
                  <a:pt x="1706" y="13"/>
                  <a:pt x="1819" y="0"/>
                </a:cubicBezTo>
                <a:cubicBezTo>
                  <a:pt x="2352" y="6"/>
                  <a:pt x="2804" y="14"/>
                  <a:pt x="3309" y="46"/>
                </a:cubicBezTo>
                <a:cubicBezTo>
                  <a:pt x="3320" y="50"/>
                  <a:pt x="3334" y="50"/>
                  <a:pt x="3343" y="57"/>
                </a:cubicBezTo>
                <a:cubicBezTo>
                  <a:pt x="3390" y="94"/>
                  <a:pt x="3346" y="91"/>
                  <a:pt x="3377" y="91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400" y="1452600"/>
            <a:ext cx="6048360" cy="2994120"/>
          </a:xfrm>
          <a:custGeom>
            <a:avLst/>
            <a:gdLst/>
            <a:ahLst/>
            <a:rect l="l" t="t" r="r" b="b"/>
            <a:pathLst>
              <a:path w="3810" h="1886">
                <a:moveTo>
                  <a:pt x="40" y="1886"/>
                </a:moveTo>
                <a:cubicBezTo>
                  <a:pt x="44" y="1747"/>
                  <a:pt x="0" y="1593"/>
                  <a:pt x="63" y="1468"/>
                </a:cubicBezTo>
                <a:cubicBezTo>
                  <a:pt x="131" y="1332"/>
                  <a:pt x="93" y="1420"/>
                  <a:pt x="164" y="1333"/>
                </a:cubicBezTo>
                <a:cubicBezTo>
                  <a:pt x="185" y="1308"/>
                  <a:pt x="221" y="1253"/>
                  <a:pt x="221" y="1253"/>
                </a:cubicBezTo>
                <a:cubicBezTo>
                  <a:pt x="233" y="1218"/>
                  <a:pt x="267" y="1135"/>
                  <a:pt x="289" y="1107"/>
                </a:cubicBezTo>
                <a:cubicBezTo>
                  <a:pt x="339" y="1042"/>
                  <a:pt x="400" y="1022"/>
                  <a:pt x="435" y="937"/>
                </a:cubicBezTo>
                <a:cubicBezTo>
                  <a:pt x="490" y="802"/>
                  <a:pt x="546" y="692"/>
                  <a:pt x="673" y="610"/>
                </a:cubicBezTo>
                <a:cubicBezTo>
                  <a:pt x="747" y="509"/>
                  <a:pt x="704" y="531"/>
                  <a:pt x="774" y="508"/>
                </a:cubicBezTo>
                <a:cubicBezTo>
                  <a:pt x="826" y="456"/>
                  <a:pt x="859" y="397"/>
                  <a:pt x="932" y="373"/>
                </a:cubicBezTo>
                <a:cubicBezTo>
                  <a:pt x="940" y="362"/>
                  <a:pt x="944" y="348"/>
                  <a:pt x="955" y="339"/>
                </a:cubicBezTo>
                <a:cubicBezTo>
                  <a:pt x="964" y="331"/>
                  <a:pt x="981" y="336"/>
                  <a:pt x="989" y="327"/>
                </a:cubicBezTo>
                <a:cubicBezTo>
                  <a:pt x="997" y="318"/>
                  <a:pt x="990" y="300"/>
                  <a:pt x="1000" y="293"/>
                </a:cubicBezTo>
                <a:cubicBezTo>
                  <a:pt x="1016" y="282"/>
                  <a:pt x="1038" y="287"/>
                  <a:pt x="1057" y="282"/>
                </a:cubicBezTo>
                <a:cubicBezTo>
                  <a:pt x="1127" y="263"/>
                  <a:pt x="1188" y="240"/>
                  <a:pt x="1260" y="226"/>
                </a:cubicBezTo>
                <a:cubicBezTo>
                  <a:pt x="1340" y="185"/>
                  <a:pt x="1422" y="189"/>
                  <a:pt x="1508" y="169"/>
                </a:cubicBezTo>
                <a:cubicBezTo>
                  <a:pt x="1619" y="143"/>
                  <a:pt x="1723" y="106"/>
                  <a:pt x="1836" y="90"/>
                </a:cubicBezTo>
                <a:cubicBezTo>
                  <a:pt x="1925" y="33"/>
                  <a:pt x="2050" y="36"/>
                  <a:pt x="2152" y="34"/>
                </a:cubicBezTo>
                <a:cubicBezTo>
                  <a:pt x="2461" y="27"/>
                  <a:pt x="2769" y="26"/>
                  <a:pt x="3078" y="22"/>
                </a:cubicBezTo>
                <a:cubicBezTo>
                  <a:pt x="3324" y="8"/>
                  <a:pt x="3366" y="0"/>
                  <a:pt x="3665" y="22"/>
                </a:cubicBezTo>
                <a:cubicBezTo>
                  <a:pt x="3689" y="24"/>
                  <a:pt x="3733" y="45"/>
                  <a:pt x="3733" y="45"/>
                </a:cubicBezTo>
                <a:cubicBezTo>
                  <a:pt x="3810" y="97"/>
                  <a:pt x="3801" y="144"/>
                  <a:pt x="3801" y="23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1480" y="2124000"/>
            <a:ext cx="5645160" cy="3344760"/>
          </a:xfrm>
          <a:custGeom>
            <a:avLst/>
            <a:gdLst/>
            <a:ahLst/>
            <a:rect l="l" t="t" r="r" b="b"/>
            <a:pathLst>
              <a:path w="3556" h="2107">
                <a:moveTo>
                  <a:pt x="0" y="2050"/>
                </a:moveTo>
                <a:cubicBezTo>
                  <a:pt x="149" y="2101"/>
                  <a:pt x="260" y="2099"/>
                  <a:pt x="429" y="2107"/>
                </a:cubicBezTo>
                <a:cubicBezTo>
                  <a:pt x="526" y="2104"/>
                  <a:pt x="827" y="2103"/>
                  <a:pt x="982" y="2084"/>
                </a:cubicBezTo>
                <a:cubicBezTo>
                  <a:pt x="1121" y="2067"/>
                  <a:pt x="1250" y="2020"/>
                  <a:pt x="1389" y="2005"/>
                </a:cubicBezTo>
                <a:cubicBezTo>
                  <a:pt x="1522" y="1962"/>
                  <a:pt x="1669" y="1958"/>
                  <a:pt x="1807" y="1937"/>
                </a:cubicBezTo>
                <a:cubicBezTo>
                  <a:pt x="1914" y="1921"/>
                  <a:pt x="2015" y="1893"/>
                  <a:pt x="2123" y="1881"/>
                </a:cubicBezTo>
                <a:cubicBezTo>
                  <a:pt x="2242" y="1867"/>
                  <a:pt x="2349" y="1851"/>
                  <a:pt x="2462" y="1813"/>
                </a:cubicBezTo>
                <a:cubicBezTo>
                  <a:pt x="2513" y="1796"/>
                  <a:pt x="2511" y="1811"/>
                  <a:pt x="2552" y="1790"/>
                </a:cubicBezTo>
                <a:cubicBezTo>
                  <a:pt x="2589" y="1771"/>
                  <a:pt x="2606" y="1747"/>
                  <a:pt x="2642" y="1723"/>
                </a:cubicBezTo>
                <a:cubicBezTo>
                  <a:pt x="2694" y="1689"/>
                  <a:pt x="2752" y="1659"/>
                  <a:pt x="2801" y="1621"/>
                </a:cubicBezTo>
                <a:cubicBezTo>
                  <a:pt x="2877" y="1562"/>
                  <a:pt x="2818" y="1593"/>
                  <a:pt x="2880" y="1531"/>
                </a:cubicBezTo>
                <a:cubicBezTo>
                  <a:pt x="2921" y="1490"/>
                  <a:pt x="2959" y="1456"/>
                  <a:pt x="2993" y="1406"/>
                </a:cubicBezTo>
                <a:cubicBezTo>
                  <a:pt x="3011" y="1353"/>
                  <a:pt x="3017" y="1301"/>
                  <a:pt x="3038" y="1248"/>
                </a:cubicBezTo>
                <a:cubicBezTo>
                  <a:pt x="3042" y="1226"/>
                  <a:pt x="3049" y="1204"/>
                  <a:pt x="3049" y="1181"/>
                </a:cubicBezTo>
                <a:cubicBezTo>
                  <a:pt x="3049" y="1121"/>
                  <a:pt x="3047" y="1060"/>
                  <a:pt x="3038" y="1000"/>
                </a:cubicBezTo>
                <a:cubicBezTo>
                  <a:pt x="3030" y="947"/>
                  <a:pt x="2905" y="903"/>
                  <a:pt x="2857" y="887"/>
                </a:cubicBezTo>
                <a:cubicBezTo>
                  <a:pt x="2846" y="879"/>
                  <a:pt x="2836" y="870"/>
                  <a:pt x="2823" y="864"/>
                </a:cubicBezTo>
                <a:cubicBezTo>
                  <a:pt x="2801" y="854"/>
                  <a:pt x="2755" y="842"/>
                  <a:pt x="2755" y="842"/>
                </a:cubicBezTo>
                <a:cubicBezTo>
                  <a:pt x="2693" y="795"/>
                  <a:pt x="2634" y="780"/>
                  <a:pt x="2563" y="751"/>
                </a:cubicBezTo>
                <a:cubicBezTo>
                  <a:pt x="2486" y="674"/>
                  <a:pt x="2512" y="576"/>
                  <a:pt x="2552" y="480"/>
                </a:cubicBezTo>
                <a:cubicBezTo>
                  <a:pt x="2566" y="447"/>
                  <a:pt x="2585" y="358"/>
                  <a:pt x="2609" y="334"/>
                </a:cubicBezTo>
                <a:cubicBezTo>
                  <a:pt x="2659" y="284"/>
                  <a:pt x="2759" y="279"/>
                  <a:pt x="2823" y="266"/>
                </a:cubicBezTo>
                <a:cubicBezTo>
                  <a:pt x="2911" y="248"/>
                  <a:pt x="2982" y="214"/>
                  <a:pt x="3060" y="175"/>
                </a:cubicBezTo>
                <a:cubicBezTo>
                  <a:pt x="3120" y="145"/>
                  <a:pt x="3200" y="151"/>
                  <a:pt x="3264" y="130"/>
                </a:cubicBezTo>
                <a:cubicBezTo>
                  <a:pt x="3286" y="123"/>
                  <a:pt x="3309" y="115"/>
                  <a:pt x="3331" y="108"/>
                </a:cubicBezTo>
                <a:cubicBezTo>
                  <a:pt x="3342" y="104"/>
                  <a:pt x="3354" y="100"/>
                  <a:pt x="3365" y="96"/>
                </a:cubicBezTo>
                <a:cubicBezTo>
                  <a:pt x="3376" y="92"/>
                  <a:pt x="3399" y="85"/>
                  <a:pt x="3399" y="85"/>
                </a:cubicBezTo>
                <a:cubicBezTo>
                  <a:pt x="3405" y="80"/>
                  <a:pt x="3464" y="34"/>
                  <a:pt x="3478" y="29"/>
                </a:cubicBezTo>
                <a:cubicBezTo>
                  <a:pt x="3556" y="0"/>
                  <a:pt x="3517" y="35"/>
                  <a:pt x="3546" y="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6248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two passe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Split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on find path point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87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99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57320" y="3549600"/>
            <a:ext cx="1022400" cy="1203480"/>
          </a:xfrm>
          <a:custGeom>
            <a:avLst/>
            <a:gdLst/>
            <a:ahLst/>
            <a:rect l="l" t="t" r="r" b="b"/>
            <a:pathLst>
              <a:path w="644" h="758">
                <a:moveTo>
                  <a:pt x="0" y="757"/>
                </a:moveTo>
                <a:cubicBezTo>
                  <a:pt x="204" y="750"/>
                  <a:pt x="248" y="758"/>
                  <a:pt x="396" y="723"/>
                </a:cubicBezTo>
                <a:cubicBezTo>
                  <a:pt x="407" y="715"/>
                  <a:pt x="423" y="712"/>
                  <a:pt x="430" y="700"/>
                </a:cubicBezTo>
                <a:cubicBezTo>
                  <a:pt x="457" y="656"/>
                  <a:pt x="465" y="581"/>
                  <a:pt x="475" y="531"/>
                </a:cubicBezTo>
                <a:cubicBezTo>
                  <a:pt x="500" y="409"/>
                  <a:pt x="468" y="584"/>
                  <a:pt x="509" y="418"/>
                </a:cubicBezTo>
                <a:cubicBezTo>
                  <a:pt x="513" y="403"/>
                  <a:pt x="513" y="387"/>
                  <a:pt x="520" y="373"/>
                </a:cubicBezTo>
                <a:cubicBezTo>
                  <a:pt x="532" y="349"/>
                  <a:pt x="565" y="305"/>
                  <a:pt x="565" y="305"/>
                </a:cubicBezTo>
                <a:cubicBezTo>
                  <a:pt x="600" y="197"/>
                  <a:pt x="561" y="87"/>
                  <a:pt x="64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38280" y="2133720"/>
            <a:ext cx="4070520" cy="1290600"/>
          </a:xfrm>
          <a:custGeom>
            <a:avLst/>
            <a:gdLst/>
            <a:ahLst/>
            <a:rect l="l" t="t" r="r" b="b"/>
            <a:pathLst>
              <a:path w="2564" h="813">
                <a:moveTo>
                  <a:pt x="0" y="813"/>
                </a:moveTo>
                <a:cubicBezTo>
                  <a:pt x="93" y="795"/>
                  <a:pt x="181" y="771"/>
                  <a:pt x="271" y="745"/>
                </a:cubicBezTo>
                <a:cubicBezTo>
                  <a:pt x="326" y="729"/>
                  <a:pt x="388" y="724"/>
                  <a:pt x="440" y="700"/>
                </a:cubicBezTo>
                <a:cubicBezTo>
                  <a:pt x="530" y="658"/>
                  <a:pt x="618" y="596"/>
                  <a:pt x="712" y="565"/>
                </a:cubicBezTo>
                <a:cubicBezTo>
                  <a:pt x="763" y="513"/>
                  <a:pt x="823" y="493"/>
                  <a:pt x="892" y="474"/>
                </a:cubicBezTo>
                <a:cubicBezTo>
                  <a:pt x="915" y="459"/>
                  <a:pt x="980" y="438"/>
                  <a:pt x="994" y="429"/>
                </a:cubicBezTo>
                <a:cubicBezTo>
                  <a:pt x="1040" y="400"/>
                  <a:pt x="1087" y="372"/>
                  <a:pt x="1141" y="361"/>
                </a:cubicBezTo>
                <a:cubicBezTo>
                  <a:pt x="1268" y="336"/>
                  <a:pt x="1398" y="336"/>
                  <a:pt x="1525" y="305"/>
                </a:cubicBezTo>
                <a:cubicBezTo>
                  <a:pt x="1586" y="274"/>
                  <a:pt x="1661" y="242"/>
                  <a:pt x="1728" y="226"/>
                </a:cubicBezTo>
                <a:cubicBezTo>
                  <a:pt x="1866" y="157"/>
                  <a:pt x="1770" y="197"/>
                  <a:pt x="1864" y="169"/>
                </a:cubicBezTo>
                <a:cubicBezTo>
                  <a:pt x="1887" y="162"/>
                  <a:pt x="1931" y="147"/>
                  <a:pt x="1931" y="147"/>
                </a:cubicBezTo>
                <a:cubicBezTo>
                  <a:pt x="1981" y="113"/>
                  <a:pt x="2043" y="94"/>
                  <a:pt x="2101" y="79"/>
                </a:cubicBezTo>
                <a:cubicBezTo>
                  <a:pt x="2264" y="37"/>
                  <a:pt x="2394" y="15"/>
                  <a:pt x="2564" y="0"/>
                </a:cubicBezTo>
                <a:cubicBezTo>
                  <a:pt x="2535" y="9"/>
                  <a:pt x="2504" y="23"/>
                  <a:pt x="2473" y="2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only one pas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Halv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pointer in every other node on find path is changed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870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882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s half as many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, i 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2), i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A(i,j-1)), i, j &gt;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of 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= min{z&gt;=1 | A(z, p/q) &gt;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}, p &gt;= q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 grows very rapidly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2,4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65,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function grows very slow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&lt; 5 until q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A(4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4,1) = A(2,16) &gt;&gt;&gt;&gt; A(2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nalysis of the union-find problem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elements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n +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practical purpose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(p,q) &lt;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orem 1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Tarjan and Van Leeuwe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f,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maximum time required to process any intermixed sequenc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s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ons. Assum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n + f*alpha(f+n, n)) &lt;= T(f,u) &lt;= b*(n + f*alpha(f+n, 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ounds apply when we start with singleton sets and use either the weight or height rule for unions and any one of the path compression methods for a f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Set As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 = {2, 4, 5, 9, 11, 13, 3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le tree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2438280"/>
            <a:ext cx="4343400" cy="1374120"/>
            <a:chOff x="838080" y="2438280"/>
            <a:chExt cx="4343400" cy="1374120"/>
          </a:xfrm>
        </p:grpSpPr>
        <p:sp>
          <p:nvSpPr>
            <p:cNvPr id="57" name=""/>
            <p:cNvSpPr/>
            <p:nvPr/>
          </p:nvSpPr>
          <p:spPr>
            <a:xfrm>
              <a:off x="2819520" y="2438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438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6320" y="2743200"/>
              <a:ext cx="1752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04760" y="289548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42840" y="2895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24080" y="2895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743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2819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76720" y="2666880"/>
              <a:ext cx="1523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4191120"/>
            <a:ext cx="4267440" cy="2440800"/>
            <a:chOff x="609480" y="4191120"/>
            <a:chExt cx="4267440" cy="2440800"/>
          </a:xfrm>
        </p:grpSpPr>
        <p:sp>
          <p:nvSpPr>
            <p:cNvPr id="79" name=""/>
            <p:cNvSpPr/>
            <p:nvPr/>
          </p:nvSpPr>
          <p:spPr>
            <a:xfrm>
              <a:off x="19810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6172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6172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5562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5562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5791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90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0" y="449568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71240" y="51814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4572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14040" y="5943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2000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920" y="52578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5791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2362320"/>
            <a:ext cx="2743200" cy="4269600"/>
            <a:chOff x="6019920" y="2362320"/>
            <a:chExt cx="2743200" cy="4269600"/>
          </a:xfrm>
        </p:grpSpPr>
        <p:sp>
          <p:nvSpPr>
            <p:cNvPr id="100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3505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88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468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54864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2400" y="61722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24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362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08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2743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3200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39625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44956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52578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152920" y="59436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sult Of A Find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identify the set that contain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applications of the union-find problem, the user does not provide set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ment i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 the same value iff elemen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800" y="4495680"/>
            <a:ext cx="4343400" cy="1374120"/>
            <a:chOff x="1828800" y="4495680"/>
            <a:chExt cx="4343400" cy="1374120"/>
          </a:xfrm>
        </p:grpSpPr>
        <p:sp>
          <p:nvSpPr>
            <p:cNvPr id="123" name=""/>
            <p:cNvSpPr/>
            <p:nvPr/>
          </p:nvSpPr>
          <p:spPr>
            <a:xfrm>
              <a:off x="3809880" y="4495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4495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10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7400" y="4800600"/>
              <a:ext cx="1752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895480" y="4952880"/>
              <a:ext cx="10670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733920" y="4952880"/>
              <a:ext cx="304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800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4876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724280"/>
              <a:ext cx="1524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6019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turn the element that is in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y For find(i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node that represent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imb up the tree until the roo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element in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imb the tree, each node must have a parent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81080" y="1371600"/>
            <a:ext cx="4267440" cy="2440800"/>
            <a:chOff x="1981080" y="1371600"/>
            <a:chExt cx="4267440" cy="2440800"/>
          </a:xfrm>
        </p:grpSpPr>
        <p:sp>
          <p:nvSpPr>
            <p:cNvPr id="148" name=""/>
            <p:cNvSpPr/>
            <p:nvPr/>
          </p:nvSpPr>
          <p:spPr>
            <a:xfrm>
              <a:off x="33526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33526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3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6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42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1371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57600" y="167616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742840" y="23619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17524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5640" y="31240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7164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24382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s With Parent Poin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1447920"/>
            <a:ext cx="4572000" cy="3126600"/>
            <a:chOff x="380880" y="1447920"/>
            <a:chExt cx="4572000" cy="3126600"/>
          </a:xfrm>
        </p:grpSpPr>
        <p:sp>
          <p:nvSpPr>
            <p:cNvPr id="171" name=""/>
            <p:cNvSpPr/>
            <p:nvPr/>
          </p:nvSpPr>
          <p:spPr>
            <a:xfrm>
              <a:off x="20574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37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11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5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619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4475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67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9903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2767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81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854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195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sible 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des that have two fields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inter to the node whose ele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o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, start at the node given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ollow parent fields until a node whose parent field is null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element in this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14600" y="1143000"/>
            <a:ext cx="4572000" cy="3126600"/>
            <a:chOff x="2514600" y="1143000"/>
            <a:chExt cx="4572000" cy="3126600"/>
          </a:xfrm>
        </p:grpSpPr>
        <p:sp>
          <p:nvSpPr>
            <p:cNvPr id="230" name=""/>
            <p:cNvSpPr/>
            <p:nvPr/>
          </p:nvSpPr>
          <p:spPr>
            <a:xfrm>
              <a:off x="41911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4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8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2514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5304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840" y="2743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90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1143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495680" y="1447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581280" y="2133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0440" y="1523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124080" y="2895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10440" y="2286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84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3581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648320"/>
            <a:ext cx="8763120" cy="840600"/>
            <a:chOff x="0" y="4648320"/>
            <a:chExt cx="8763120" cy="840600"/>
          </a:xfrm>
        </p:grpSpPr>
        <p:sp>
          <p:nvSpPr>
            <p:cNvPr id="254" name=""/>
            <p:cNvSpPr/>
            <p:nvPr/>
          </p:nvSpPr>
          <p:spPr>
            <a:xfrm>
              <a:off x="1066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52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648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abl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5029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5029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81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6292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285640"/>
            <a:ext cx="6400800" cy="4010760"/>
            <a:chOff x="1523880" y="2285640"/>
            <a:chExt cx="6400800" cy="4010760"/>
          </a:xfrm>
        </p:grpSpPr>
        <p:grpSp>
          <p:nvGrpSpPr>
            <p:cNvPr id="277" name=""/>
            <p:cNvGrpSpPr/>
            <p:nvPr/>
          </p:nvGrpSpPr>
          <p:grpSpPr>
            <a:xfrm>
              <a:off x="1600200" y="2285640"/>
              <a:ext cx="3886200" cy="2667240"/>
              <a:chOff x="1600200" y="2285640"/>
              <a:chExt cx="3886200" cy="2667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00200" y="4190760"/>
                <a:ext cx="9144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733560" y="2895120"/>
                <a:ext cx="990360" cy="20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486400" y="320040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819520" y="2285640"/>
                <a:ext cx="1600200" cy="259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523880" y="5715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Only some table entries are show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tter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nteg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that is the parent of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05120" y="2438280"/>
            <a:ext cx="4572000" cy="3126600"/>
            <a:chOff x="1905120" y="2438280"/>
            <a:chExt cx="4572000" cy="3126600"/>
          </a:xfrm>
        </p:grpSpPr>
        <p:sp>
          <p:nvSpPr>
            <p:cNvPr id="286" name=""/>
            <p:cNvSpPr/>
            <p:nvPr/>
          </p:nvSpPr>
          <p:spPr>
            <a:xfrm>
              <a:off x="35816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9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10040" y="441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360" y="4419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724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560" y="3809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15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360" y="4038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32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5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24382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19720" y="243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274284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971800" y="342864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960" y="281916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514600" y="41907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800960" y="35812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4120" y="350496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36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05120" y="51051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1440" y="5105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209680" y="487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0" y="5715000"/>
            <a:ext cx="9067680" cy="840600"/>
            <a:chOff x="0" y="5715000"/>
            <a:chExt cx="9067680" cy="840600"/>
          </a:xfrm>
        </p:grpSpPr>
        <p:sp>
          <p:nvSpPr>
            <p:cNvPr id="310" name=""/>
            <p:cNvSpPr/>
            <p:nvPr/>
          </p:nvSpPr>
          <p:spPr>
            <a:xfrm>
              <a:off x="1371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4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5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00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1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arent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6095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2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24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6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866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5791320"/>
              <a:ext cx="1600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752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25:44Z</dcterms:modified>
  <cp:revision>376</cp:revision>
  <dc:subject/>
  <dc:title>Data Representation Methods</dc:title>
</cp:coreProperties>
</file>