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E4B-001C-4815-BD51-FE6936745A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tiling to be possible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(n</a:t>
            </a:r>
            <a:r>
              <a:rPr b="0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- 1) must be divisible by 3 whenever n is a power of 2. So, the tiling algorithm that follows actually provides a proof the this is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ready have used this method in this class. For example, nearly all the binary tree algorithms studied use this technique. To traverse a binary tree tre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mall instance == NULL; large instanc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non empty binary tree; traversa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U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o nothing; non NUL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averse left, traverse right, visit (s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01A-6CD2-4422-A725-9A37DE7F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30D-2B1D-4711-B8E2-B881565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7FA-BB1D-4659-8335-8BDC4D8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898-9A6B-40EE-8BE4-6355F4F6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255-E9C8-4DD1-880C-A9D05DA6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AEE-55D9-4B8A-B8F2-37AA69CF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DFB-48D2-41E0-913C-72C3812B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6CD-A80D-4FF2-8BBD-471A85A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14E-8386-443D-B137-7A375E6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E79-552C-47F6-AF3A-93C8F98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1C5-A464-4820-8DC3-5D40E68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3AF-E9FC-4FDD-AB5D-7B33098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6D5-3FCA-4735-A5C2-2ED5F5443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small and large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s solved differently from large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r Definition Of A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essboa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75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grpSp>
          <p:nvGrpSpPr>
            <p:cNvPr id="78" name=""/>
            <p:cNvGrpSpPr/>
            <p:nvPr/>
          </p:nvGrpSpPr>
          <p:grpSpPr>
            <a:xfrm>
              <a:off x="2216160" y="5187960"/>
              <a:ext cx="749160" cy="749160"/>
              <a:chOff x="2216160" y="5187960"/>
              <a:chExt cx="749160" cy="749160"/>
            </a:xfrm>
          </p:grpSpPr>
          <p:sp>
            <p:nvSpPr>
              <p:cNvPr id="79" name=""/>
              <p:cNvSpPr/>
              <p:nvPr/>
            </p:nvSpPr>
            <p:spPr>
              <a:xfrm>
                <a:off x="221616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970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1616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85" name=""/>
            <p:cNvGrpSpPr/>
            <p:nvPr/>
          </p:nvGrpSpPr>
          <p:grpSpPr>
            <a:xfrm>
              <a:off x="3511440" y="4425840"/>
              <a:ext cx="1511280" cy="1511280"/>
              <a:chOff x="3511440" y="4425840"/>
              <a:chExt cx="1511280" cy="15112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511440" y="5187960"/>
                <a:ext cx="1511280" cy="749160"/>
                <a:chOff x="3511440" y="5187960"/>
                <a:chExt cx="1511280" cy="749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3511440" y="5187960"/>
                  <a:ext cx="749520" cy="749160"/>
                  <a:chOff x="3511440" y="5187960"/>
                  <a:chExt cx="749520" cy="7491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3511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89268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511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9268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273560" y="5187960"/>
                  <a:ext cx="749160" cy="749160"/>
                  <a:chOff x="4273560" y="5187960"/>
                  <a:chExt cx="749160" cy="7491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427356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654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27356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54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511440" y="4425840"/>
                <a:ext cx="1511280" cy="749520"/>
                <a:chOff x="3511440" y="4425840"/>
                <a:chExt cx="1511280" cy="749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3511440" y="4425840"/>
                  <a:ext cx="749520" cy="749520"/>
                  <a:chOff x="3511440" y="4425840"/>
                  <a:chExt cx="749520" cy="7495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511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89268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11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9268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273560" y="4425840"/>
                  <a:ext cx="749160" cy="749520"/>
                  <a:chOff x="4273560" y="4425840"/>
                  <a:chExt cx="749160" cy="749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7356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654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27356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654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11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7" name=""/>
            <p:cNvGrpSpPr/>
            <p:nvPr/>
          </p:nvGrpSpPr>
          <p:grpSpPr>
            <a:xfrm>
              <a:off x="5416560" y="2901960"/>
              <a:ext cx="3035160" cy="1511280"/>
              <a:chOff x="5416560" y="2901960"/>
              <a:chExt cx="3035160" cy="15112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416560" y="2901960"/>
                <a:ext cx="1511280" cy="1511280"/>
                <a:chOff x="5416560" y="2901960"/>
                <a:chExt cx="1511280" cy="15112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5416560" y="3664080"/>
                  <a:ext cx="1511280" cy="749160"/>
                  <a:chOff x="5416560" y="3664080"/>
                  <a:chExt cx="1511280" cy="7491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416560" y="3664080"/>
                    <a:ext cx="749160" cy="749160"/>
                    <a:chOff x="5416560" y="3664080"/>
                    <a:chExt cx="749160" cy="749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6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797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5416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797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6178680" y="3664080"/>
                    <a:ext cx="749160" cy="749160"/>
                    <a:chOff x="6178680" y="3664080"/>
                    <a:chExt cx="749160" cy="749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78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559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78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559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5416560" y="2901960"/>
                  <a:ext cx="1511280" cy="749160"/>
                  <a:chOff x="5416560" y="2901960"/>
                  <a:chExt cx="1511280" cy="7491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416560" y="2901960"/>
                    <a:ext cx="749160" cy="749160"/>
                    <a:chOff x="5416560" y="2901960"/>
                    <a:chExt cx="749160" cy="7491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416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5797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5416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797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178680" y="2901960"/>
                    <a:ext cx="749160" cy="749160"/>
                    <a:chOff x="6178680" y="2901960"/>
                    <a:chExt cx="749160" cy="74916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6178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6559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178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559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6940440" y="2901960"/>
                <a:ext cx="1511280" cy="1511280"/>
                <a:chOff x="6940440" y="2901960"/>
                <a:chExt cx="1511280" cy="15112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6940440" y="3664080"/>
                  <a:ext cx="1511280" cy="749160"/>
                  <a:chOff x="6940440" y="3664080"/>
                  <a:chExt cx="1511280" cy="74916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940440" y="3664080"/>
                    <a:ext cx="749520" cy="749160"/>
                    <a:chOff x="6940440" y="3664080"/>
                    <a:chExt cx="749520" cy="74916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940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321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6940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21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02560" y="3664080"/>
                    <a:ext cx="749160" cy="749160"/>
                    <a:chOff x="7702560" y="3664080"/>
                    <a:chExt cx="749160" cy="74916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02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083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702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083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940440" y="2901960"/>
                  <a:ext cx="1511280" cy="749160"/>
                  <a:chOff x="6940440" y="2901960"/>
                  <a:chExt cx="1511280" cy="74916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940440" y="2901960"/>
                    <a:ext cx="749520" cy="749160"/>
                    <a:chOff x="6940440" y="2901960"/>
                    <a:chExt cx="749520" cy="7491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940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321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940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321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7702560" y="2901960"/>
                    <a:ext cx="749160" cy="749160"/>
                    <a:chOff x="7702560" y="2901960"/>
                    <a:chExt cx="749160" cy="7491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702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083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702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083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04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GAME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GAME016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fective chessbo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hessboard that has one unavailable (defective) posi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209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212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218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24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7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0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326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32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362320" y="304920"/>
            <a:ext cx="4465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33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A Defective Chessboard</a:t>
            </a:r>
            <a:endParaRPr b="0" lang="en-US" sz="2400" spc="1" strike="noStrike">
              <a:ln w="9360">
                <a:solidFill>
                  <a:srgbClr val="ff0033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Triomin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iomin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object 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ver three squares of a chessboar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iomino has four ori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14400" y="5187960"/>
            <a:ext cx="907920" cy="1212840"/>
            <a:chOff x="914400" y="5187960"/>
            <a:chExt cx="907920" cy="1212840"/>
          </a:xfrm>
        </p:grpSpPr>
        <p:sp>
          <p:nvSpPr>
            <p:cNvPr id="337" name=""/>
            <p:cNvSpPr/>
            <p:nvPr/>
          </p:nvSpPr>
          <p:spPr>
            <a:xfrm>
              <a:off x="914400" y="5943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4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1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206880" y="5187960"/>
            <a:ext cx="749160" cy="749160"/>
            <a:chOff x="3206880" y="5187960"/>
            <a:chExt cx="749160" cy="749160"/>
          </a:xfrm>
        </p:grpSpPr>
        <p:sp>
          <p:nvSpPr>
            <p:cNvPr id="342" name=""/>
            <p:cNvSpPr/>
            <p:nvPr/>
          </p:nvSpPr>
          <p:spPr>
            <a:xfrm>
              <a:off x="320688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88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77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187960" y="5111640"/>
            <a:ext cx="749160" cy="749520"/>
            <a:chOff x="5187960" y="5111640"/>
            <a:chExt cx="749160" cy="749520"/>
          </a:xfrm>
        </p:grpSpPr>
        <p:sp>
          <p:nvSpPr>
            <p:cNvPr id="346" name=""/>
            <p:cNvSpPr/>
            <p:nvPr/>
          </p:nvSpPr>
          <p:spPr>
            <a:xfrm>
              <a:off x="518796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884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8840" y="54928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21680" y="5035680"/>
            <a:ext cx="749160" cy="749160"/>
            <a:chOff x="7321680" y="5035680"/>
            <a:chExt cx="749160" cy="749160"/>
          </a:xfrm>
        </p:grpSpPr>
        <p:sp>
          <p:nvSpPr>
            <p:cNvPr id="350" name=""/>
            <p:cNvSpPr/>
            <p:nvPr/>
          </p:nvSpPr>
          <p:spPr>
            <a:xfrm>
              <a:off x="732168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0256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50356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TETRIS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54" name="TETRIS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 1)/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ominoes o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 so that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 1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efective positions are cov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35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361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16160" y="5187960"/>
            <a:ext cx="749160" cy="749160"/>
            <a:chOff x="2216160" y="5187960"/>
            <a:chExt cx="749160" cy="749160"/>
          </a:xfrm>
        </p:grpSpPr>
        <p:sp>
          <p:nvSpPr>
            <p:cNvPr id="367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372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273560" y="5187960"/>
            <a:ext cx="749160" cy="749160"/>
            <a:chOff x="4273560" y="5187960"/>
            <a:chExt cx="749160" cy="749160"/>
          </a:xfrm>
        </p:grpSpPr>
        <p:sp>
          <p:nvSpPr>
            <p:cNvPr id="394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11440" y="5187960"/>
            <a:ext cx="749520" cy="749160"/>
            <a:chOff x="3511440" y="5187960"/>
            <a:chExt cx="749520" cy="749160"/>
          </a:xfrm>
        </p:grpSpPr>
        <p:sp>
          <p:nvSpPr>
            <p:cNvPr id="399" name=""/>
            <p:cNvSpPr/>
            <p:nvPr/>
          </p:nvSpPr>
          <p:spPr>
            <a:xfrm>
              <a:off x="351144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9268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1440" y="518796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11440" y="4425840"/>
            <a:ext cx="749520" cy="749520"/>
            <a:chOff x="3511440" y="4425840"/>
            <a:chExt cx="749520" cy="749520"/>
          </a:xfrm>
        </p:grpSpPr>
        <p:sp>
          <p:nvSpPr>
            <p:cNvPr id="404" name=""/>
            <p:cNvSpPr/>
            <p:nvPr/>
          </p:nvSpPr>
          <p:spPr>
            <a:xfrm>
              <a:off x="3511440" y="480708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1144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268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892680" y="4807080"/>
            <a:ext cx="749160" cy="749160"/>
            <a:chOff x="3892680" y="4807080"/>
            <a:chExt cx="749160" cy="749160"/>
          </a:xfrm>
        </p:grpSpPr>
        <p:sp>
          <p:nvSpPr>
            <p:cNvPr id="409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273560" y="4425840"/>
            <a:ext cx="749160" cy="749520"/>
            <a:chOff x="4273560" y="4425840"/>
            <a:chExt cx="749160" cy="749520"/>
          </a:xfrm>
        </p:grpSpPr>
        <p:sp>
          <p:nvSpPr>
            <p:cNvPr id="414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480708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56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444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419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66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9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505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11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514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1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4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600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85800" y="47242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into four smaller chessboards.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71500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se is a defec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610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6" name="TETRIS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630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9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1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716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4575240"/>
            <a:ext cx="8153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other thre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by placing a triomino at their common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72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92680" y="2216160"/>
            <a:ext cx="749160" cy="749160"/>
            <a:chOff x="3892680" y="2216160"/>
            <a:chExt cx="749160" cy="749160"/>
          </a:xfrm>
        </p:grpSpPr>
        <p:sp>
          <p:nvSpPr>
            <p:cNvPr id="742" name=""/>
            <p:cNvSpPr/>
            <p:nvPr/>
          </p:nvSpPr>
          <p:spPr>
            <a:xfrm>
              <a:off x="389268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7356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92680" y="221616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762120" y="564192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ly tile the four defecti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48" name="TETRIS" descr=""/>
          <p:cNvPicPr/>
          <p:nvPr/>
        </p:nvPicPr>
        <p:blipFill>
          <a:blip r:embed="rId2"/>
          <a:stretch/>
        </p:blipFill>
        <p:spPr>
          <a:xfrm>
            <a:off x="8534520" y="4572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587760" y="1987560"/>
            <a:ext cx="1511280" cy="1511280"/>
            <a:chOff x="3587760" y="1987560"/>
            <a:chExt cx="1511280" cy="1511280"/>
          </a:xfrm>
        </p:grpSpPr>
        <p:sp>
          <p:nvSpPr>
            <p:cNvPr id="751" name=""/>
            <p:cNvSpPr/>
            <p:nvPr/>
          </p:nvSpPr>
          <p:spPr>
            <a:xfrm>
              <a:off x="3587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864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87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498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30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30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7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7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864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30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498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4343400" y="1676520"/>
            <a:ext cx="0" cy="2209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0400" y="2743200"/>
            <a:ext cx="228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968640" y="2368440"/>
            <a:ext cx="749520" cy="749520"/>
            <a:chOff x="3968640" y="2368440"/>
            <a:chExt cx="749520" cy="749520"/>
          </a:xfrm>
        </p:grpSpPr>
        <p:sp>
          <p:nvSpPr>
            <p:cNvPr id="770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75" name="TETRIS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taken to tile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ce equation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CLOCK43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titut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2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2)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3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3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0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number of triominoes plac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lightest and heavie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using a balance that allows you to compare the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127320" y="3200400"/>
          <a:ext cx="163836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200400"/>
                    <a:ext cx="163836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4572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the number of 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ll And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lement with max weight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n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438280"/>
            <a:ext cx="861048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Element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1; i &lt;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w[maxElement] &lt; w[i]) maxElement =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comparis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comparison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n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 min and max element making at most one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arge Instance 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 and max of each group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in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min(A), min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ax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{max(A), max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5,6,2,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{3,5,6,2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{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A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B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(A)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ax(B)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min(A),min(B)}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{max(A), max(B)}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ing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8080" y="19051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5640" y="281952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e Small Instances And Comb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66160" y="3809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8548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0444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19051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848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055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4240" y="2895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771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70960" y="4876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number of comparisons made when finding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0) = c(1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(floor(n/2)) + c(ceil(n/2))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eil(3n/2) -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LOCK43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pretation Of 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ing of a recursive divide-and-conquer algorithm can be described by a tree—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on 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 moves down the recursion tree dividing large instances into smaller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s represen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algorithm moves back up the tree combining the results from the sub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bining finds the min of the mins computed at leaves and the max of the leaf max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ownward Pass Divides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4496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95680" y="243828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546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362320" y="297180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5680" y="29718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3124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440" y="320040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208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7336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219320" y="403848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4038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2280" y="41148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19520" y="40384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9840" y="5645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6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437920" y="49528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48769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18148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76720" y="518148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356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764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5410080" y="4114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40384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1336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542360" y="403848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02160" y="5568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800240" y="487692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4120" y="4952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13360" y="525780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4960" y="510552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64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36080" y="5492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7162920" y="48769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72400" y="48769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51055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75520" y="5029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Small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instance is solved using some direct/simple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ount, insertion, bubble, or selection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no minimum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ingle element is the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are the two elements and determine which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pward Pass Combines Results From Sub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2128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75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3309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437920" y="2666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0" y="2666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68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49680" y="4197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294920" y="3733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62320" y="37339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8600" y="3809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16160" y="5340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82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514600" y="46483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24080" y="45720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5740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116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7396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5486400" y="3809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05720" y="3733920"/>
            <a:ext cx="8380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8480" y="5264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8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876920" y="457200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46483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89320" y="4952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0920" y="4800600"/>
            <a:ext cx="91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9404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1204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238520" y="45720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48720" y="457200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48006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151840" y="47242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9840" y="4724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00916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2848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895480" y="3733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716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6252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292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7920" y="3809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694640" y="57913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18320" y="37339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170760" y="28954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13372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,3,6,9,1,7,5,4,2,8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}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6}, {9,1}, {7,5}, {4,2}, {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s = {2,3,1,5,2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s = {8,6,9,7,4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OfMin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OfMaxs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3n/2) -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left subtree and right subtree recursiv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o a trickle down operation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2t(n/2) + d * 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iteratively in Chapter 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right sub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nners from left and right subtre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r is saved in root and winner is retur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2t(n/2) +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iteratively in Chapter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instance is solv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large instanc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smaller instances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results of the smaller instances to obtain the result for the original large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by dividing them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ist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nd the other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these two lists using the method for small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the two sorted lists into a single sort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The Min Of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each group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In 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-360" y="1219320"/>
            <a:ext cx="8839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smaller instances that result from the divide step are instances of the original proble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true for our sort and min problem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this ca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, it is solve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, it is solved using the divide-and-conquer metho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performance is best when the smaller instances that result from the divide step are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Find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vel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 The recursion terminates whe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element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t this time the minimum is foun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the two groups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8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066680" y="1676520"/>
            <a:ext cx="7642440" cy="3654360"/>
            <a:chOff x="1066680" y="1676520"/>
            <a:chExt cx="7642440" cy="3654360"/>
          </a:xfrm>
        </p:grpSpPr>
        <p:pic>
          <p:nvPicPr>
            <p:cNvPr id="70" name="schach" descr=""/>
            <p:cNvPicPr/>
            <p:nvPr/>
          </p:nvPicPr>
          <p:blipFill>
            <a:blip r:embed="rId3"/>
            <a:stretch/>
          </p:blipFill>
          <p:spPr>
            <a:xfrm>
              <a:off x="1066680" y="1676520"/>
              <a:ext cx="3606840" cy="36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5257800" y="2819520"/>
              <a:ext cx="3451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A real chessboard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22:15Z</dcterms:modified>
  <cp:revision>121</cp:revision>
  <dc:subject/>
  <dc:title>Data Representation Methods</dc:title>
</cp:coreProperties>
</file>