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24CF-D331-49F0-9513-9FEDF83BA4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you move forward on an x =1 branch, add to a variable that keeps track of the sum of the subset represented by the node. When you move back on an x = 1 branch, subtract. Moving in either direction along an x = 0 branch requires no add/subtract. When you reach a node with the desired sum, terminate. When you reach a node whose sum exceeds the desired sum, backtrack; do not move into this nodes subtrees. When you  make a right child move see if the desired sum is attainable by adding in all remaining integers; for this keep another variable that gives you the sum of the remaining inte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 organizations in which nonleaf nodes represent members of the solution space are also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673-D146-45EF-A3F6-21327531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794-D90F-41ED-A23E-DA4F0481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3E8-11DD-4138-9DE7-9ECB1E08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5B1-CF6B-4415-90E5-B035A88C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86B-BA89-4F9B-97EB-FE66674D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DD8-80DC-4331-A26F-26F6958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D31-E099-4DCE-84D3-4EE7371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3D0-1F8C-44BC-95A1-B62F5A2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892-161C-4911-BF5D-212ED3C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2BC-0606-416F-81F9-E4A8B8C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ECF-20CE-4DC0-93F3-AE95A09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23D-ACF8-4642-9987-242754D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1E47-2CFA-405F-AA88-FFBBC92E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And 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SPOTLIGH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LEFTSPOT" descr=""/>
          <p:cNvPicPr/>
          <p:nvPr/>
        </p:nvPicPr>
        <p:blipFill>
          <a:blip r:embed="rId2"/>
          <a:stretch/>
        </p:blipFill>
        <p:spPr>
          <a:xfrm>
            <a:off x="75438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SPOTLIGH" descr=""/>
          <p:cNvPicPr/>
          <p:nvPr/>
        </p:nvPicPr>
        <p:blipFill>
          <a:blip r:embed="rId3"/>
          <a:stretch/>
        </p:blipFill>
        <p:spPr>
          <a:xfrm>
            <a:off x="27432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LEFTSPOT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304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1596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37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5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454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896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52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68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(2</a:t>
            </a:r>
            <a:r>
              <a:rPr b="0" lang="en-US" sz="4000" spc="-1" strike="noStrike" baseline="30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) Subet Sum &amp; Bounding Func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440" y="1378080"/>
            <a:ext cx="8750520" cy="4711680"/>
            <a:chOff x="82440" y="1378080"/>
            <a:chExt cx="8750520" cy="4711680"/>
          </a:xfrm>
        </p:grpSpPr>
        <p:sp>
          <p:nvSpPr>
            <p:cNvPr id="571" name=""/>
            <p:cNvSpPr/>
            <p:nvPr/>
          </p:nvSpPr>
          <p:spPr>
            <a:xfrm>
              <a:off x="4197240" y="13780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285640" y="1600200"/>
              <a:ext cx="198108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9840" y="29019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0" y="167652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9720" y="1600200"/>
              <a:ext cx="20574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07280" y="2901960"/>
              <a:ext cx="21564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160020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066680" y="3124080"/>
              <a:ext cx="106704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96840" y="41972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520" y="327672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6000" y="3124080"/>
              <a:ext cx="9907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06880" y="4121280"/>
              <a:ext cx="21564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5480" y="327672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562720" y="3124080"/>
              <a:ext cx="8380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6560" y="40449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2880" y="320040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29400" y="3124080"/>
              <a:ext cx="9907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6240" y="3968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312408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33160" y="4419720"/>
              <a:ext cx="533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736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4300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54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666880" y="4343400"/>
              <a:ext cx="6098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7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2680" y="434340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40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029200" y="4267080"/>
              <a:ext cx="4572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3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62720" y="4267080"/>
              <a:ext cx="5331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26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238880" y="419112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9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48720" y="4191120"/>
              <a:ext cx="6094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12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82440" y="5334120"/>
              <a:ext cx="8750520" cy="755640"/>
              <a:chOff x="82440" y="5334120"/>
              <a:chExt cx="8750520" cy="755640"/>
            </a:xfrm>
          </p:grpSpPr>
          <p:sp>
            <p:nvSpPr>
              <p:cNvPr id="607" name=""/>
              <p:cNvSpPr/>
              <p:nvPr/>
            </p:nvSpPr>
            <p:spPr>
              <a:xfrm>
                <a:off x="82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5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25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58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68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01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11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44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54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87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97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30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40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73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83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616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5192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352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371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00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514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43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657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886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723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029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66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72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009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15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8152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58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76320" y="6324480"/>
            <a:ext cx="883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orward and backward move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762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{10, 5, 2, 1}, c =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ounding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de that represents a subset whose sum equals the desired su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de that represents a subset whose sum exceeds the desired su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cktrack. I.e., do not enter its subtrees, go back to parent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variabl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gives you the sum of the numbers not yet considered. When you move to a right child, check 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urrent subset sum + r &g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not, back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tree 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ffective bounding functions, large instances can often b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 (e.g., 0/1 knapsack), the answer (or a very good solution) may be found quickly but a lot of additional time is needed to complete the search of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acktracking for as much time as is feasible and use best solution found up to tha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tree using a breadth-first sear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FIF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tree as in a bfs, but replace the FIFO queue with a stac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IFO 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he FIFO queue with a priority que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east-cost (or max priority) 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iority of a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queue is based on an estimate of the likelihood that the answer node is in the subtree whose root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leav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, solutions are at different levels of the tree (e.g., 16 puzz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648320" y="3505320"/>
            <a:ext cx="1828800" cy="1602720"/>
            <a:chOff x="4648320" y="3505320"/>
            <a:chExt cx="1828800" cy="1602720"/>
          </a:xfrm>
        </p:grpSpPr>
        <p:grpSp>
          <p:nvGrpSpPr>
            <p:cNvPr id="650" name=""/>
            <p:cNvGrpSpPr/>
            <p:nvPr/>
          </p:nvGrpSpPr>
          <p:grpSpPr>
            <a:xfrm>
              <a:off x="4724280" y="4343400"/>
              <a:ext cx="749520" cy="748800"/>
              <a:chOff x="4724280" y="4343400"/>
              <a:chExt cx="749520" cy="748800"/>
            </a:xfrm>
          </p:grpSpPr>
          <p:sp>
            <p:nvSpPr>
              <p:cNvPr id="651" name=""/>
              <p:cNvSpPr/>
              <p:nvPr/>
            </p:nvSpPr>
            <p:spPr>
              <a:xfrm>
                <a:off x="4724280" y="472428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05520" y="472428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24280" y="434340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105520" y="434340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548640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67280" y="4724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640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672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724280" y="3581280"/>
              <a:ext cx="1511280" cy="749160"/>
              <a:chOff x="4724280" y="3581280"/>
              <a:chExt cx="1511280" cy="74916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4724280" y="3581280"/>
                <a:ext cx="749520" cy="749160"/>
                <a:chOff x="4724280" y="3581280"/>
                <a:chExt cx="749520" cy="749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72428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1055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2428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055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486400" y="3581280"/>
                <a:ext cx="749160" cy="749160"/>
                <a:chOff x="5486400" y="3581280"/>
                <a:chExt cx="749160" cy="749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48640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86728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48640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86728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0" name=""/>
            <p:cNvSpPr/>
            <p:nvPr/>
          </p:nvSpPr>
          <p:spPr>
            <a:xfrm>
              <a:off x="5105520" y="3581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67280" y="396252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6400" y="4726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242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5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640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672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242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814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8640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672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24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9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9132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483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292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00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143000" y="3505320"/>
            <a:ext cx="1828800" cy="1602720"/>
            <a:chOff x="1143000" y="3505320"/>
            <a:chExt cx="1828800" cy="1602720"/>
          </a:xfrm>
        </p:grpSpPr>
        <p:grpSp>
          <p:nvGrpSpPr>
            <p:cNvPr id="690" name=""/>
            <p:cNvGrpSpPr/>
            <p:nvPr/>
          </p:nvGrpSpPr>
          <p:grpSpPr>
            <a:xfrm>
              <a:off x="1219320" y="4343400"/>
              <a:ext cx="748800" cy="748800"/>
              <a:chOff x="1219320" y="4343400"/>
              <a:chExt cx="748800" cy="748800"/>
            </a:xfrm>
          </p:grpSpPr>
          <p:sp>
            <p:nvSpPr>
              <p:cNvPr id="691" name=""/>
              <p:cNvSpPr/>
              <p:nvPr/>
            </p:nvSpPr>
            <p:spPr>
              <a:xfrm>
                <a:off x="1219320" y="472428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00200" y="472428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9320" y="434340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00200" y="434340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198108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232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810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6232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1219320" y="3581280"/>
              <a:ext cx="1511280" cy="749160"/>
              <a:chOff x="1219320" y="3581280"/>
              <a:chExt cx="1511280" cy="74916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1219320" y="3581280"/>
                <a:ext cx="749520" cy="749160"/>
                <a:chOff x="1219320" y="3581280"/>
                <a:chExt cx="749520" cy="74916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2193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60056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2193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60056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1981440" y="3581280"/>
                <a:ext cx="749160" cy="749160"/>
                <a:chOff x="1981440" y="3581280"/>
                <a:chExt cx="749160" cy="749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98144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3623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98144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3623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0" name=""/>
            <p:cNvSpPr/>
            <p:nvPr/>
          </p:nvSpPr>
          <p:spPr>
            <a:xfrm>
              <a:off x="1600200" y="3581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2320" y="396252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1932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81080" y="4726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23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5740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3886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193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810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95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512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860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60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00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860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95280" y="46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57400" y="46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 branch and bound finds solution closest to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tracking may never find a solution because tree depth is infinite (unless repeating configurations are elimina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-cost branch and bound directs the search to parts of the space most likely to contain the answer. So it could perform better than 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&amp; Permutation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 problem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systematic search of the space for the answer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p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, 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needed to evaluate each member of the solutio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utation problem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systematic search of the space for the answer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pn!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, 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needed to evaluate each member of the solutio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 and branch and bound perform a systematic search; often taking much less time than taken by a nonsystematic se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 Organization Of Solution Spa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a tree structure such that the leaves represent members of the solu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 proble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ree structur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utation proble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ree structur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structure is too big to store in memory; it also takes too much time to create the tree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ions of the tree structure are created by the backtracking and branch and bound algorithms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full binary tree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of the solution space are partitioned by the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exchange roles of left and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Tree For n = 4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3434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3434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9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5800" y="51814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52578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2485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624996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61754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6099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mut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tree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!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of the solution space are partitioned by the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if any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firs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if any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nex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mutation Tree For n =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23880" y="1600200"/>
            <a:ext cx="27432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540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6765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600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72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8288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600200"/>
            <a:ext cx="259056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04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16002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140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82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6572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114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44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46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76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2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75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14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7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46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739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solution space tree in a depth-first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done recursively or use a stack to retain the path from the root to the current node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 solution space tree exists only in your mind, not in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230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10:29Z</dcterms:modified>
  <cp:revision>223</cp:revision>
  <dc:subject/>
  <dc:title>Data Representation Methods</dc:title>
</cp:coreProperties>
</file>