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D71C-A35F-4201-84BC-CECCC2BD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33E5-4980-4750-BF61-57CDA903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CEAB-35C3-4F1C-A0E5-76E779F8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2443-51E6-4354-ACD8-1491A24B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A04C-1617-48DC-B9EC-B9F8CAC4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AA0D-FB62-4D3E-9780-900B0EDB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527F-064E-4BEB-BD3F-46CFE62A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99E2-E443-4748-98C3-81384689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6733-0808-4264-A0B4-31875769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A916-7D7E-4A20-ABAF-373B3E8A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52F5-38FD-4DF8-90F2-C57C2D92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A4EA-E3CF-4377-A24D-FEDDAB24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A923-9839-49F5-9801-E5E76E13C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 2 has been gra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lecture Wednes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ment 4 due Wednes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ment 5 will be posted Monday and will be due 12/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41 will be taped and put on Internet. Opt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2T16:05:40Z</dcterms:created>
  <dc:creator>Preferred Customer</dc:creator>
  <dc:description/>
  <dc:language>en-US</dc:language>
  <cp:lastModifiedBy>Preferred Customer</cp:lastModifiedBy>
  <dcterms:modified xsi:type="dcterms:W3CDTF">2001-11-14T14:28:06Z</dcterms:modified>
  <cp:revision>4</cp:revision>
  <dc:subject/>
  <dc:title>Announcements</dc:title>
</cp:coreProperties>
</file>