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BBE-2FBD-433D-9815-0666D856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9D8-7504-4ABD-94F8-F47C401B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E181-6051-499F-8A74-4B52E463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133-CB78-455F-BB9B-43CBE80E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660A-05B1-4965-8CB7-227AA4E5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DE2-059F-4596-BA8B-074667F1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22E-1540-47E5-AEBB-C644E776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C69D-B0C5-48EF-A562-F2233EF5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899-3296-41A3-A895-B6571C0B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B77-0802-4083-8CD1-7FBBECAC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AE3C-BD84-4D6C-8A80-A237CBB3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E71-30F6-4F2F-97A3-FCF6A303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B798-D0A8-4812-AB1F-4CA954CE1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" descr=""/>
          <p:cNvPicPr/>
          <p:nvPr/>
        </p:nvPicPr>
        <p:blipFill>
          <a:blip r:embed="rId1"/>
          <a:stretch/>
        </p:blipFill>
        <p:spPr>
          <a:xfrm>
            <a:off x="2000160" y="233280"/>
            <a:ext cx="514368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ping of 10/10 lecture on 10/9 Period 4, CSE 12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ping of 10/17 lecture on 10/16 Period 4, CSE 12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16:05:40Z</dcterms:created>
  <dc:creator>Preferred Customer</dc:creator>
  <dc:description/>
  <dc:language>en-US</dc:language>
  <cp:lastModifiedBy>Preferred Customer</cp:lastModifiedBy>
  <dcterms:modified xsi:type="dcterms:W3CDTF">2001-10-08T14:07:14Z</dcterms:modified>
  <cp:revision>8</cp:revision>
  <dc:subject/>
  <dc:title>Announcements</dc:title>
</cp:coreProperties>
</file>