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BED3-F9ED-4A1E-99E8-DE29B14C76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ion sort divides a large instance into two smaller instances. These smaller instances are of a very different size: n-1 vs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BD7-FE23-4C6B-9C82-84E1959B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03B-751E-4D78-8020-7F5B34E9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477-63AD-4372-984F-8B72429D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D29-7A0A-4306-8E72-708FE5C5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740-3313-495E-8084-C6BD9C8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59E-1417-495A-8B21-755C7767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4FC-7FC7-48EA-A41A-D768D7BB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428-C786-4EC9-B30F-91142BB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45A-0DE1-4A29-86C0-1EDB76C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BD4-D84A-4E6E-A792-9C25DA7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944-DABB-4FEB-8F29-99143D9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AC1-47FB-48F7-AFB5-BA48F6F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C61-6AA6-454B-B56E-50FE8D8B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each smaller instanc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maller instance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combine the sorted smaller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 = (1, 2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, appe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list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needed to move an element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elements initially 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, 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6, 8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3, 5, 6, 8, 13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, 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4, 7, 9, 10,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2, 3, 4, 5, 6, 7, 8, 9, 10, 12, 13,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large instances into small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pairs of sorted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non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at each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tal time at all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merging at each level that has a nonleaf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evel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rted list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pairwise merging of these sorted lists as in the 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7760" y="1676520"/>
            <a:ext cx="9064800" cy="579960"/>
            <a:chOff x="77760" y="1676520"/>
            <a:chExt cx="9064800" cy="579960"/>
          </a:xfrm>
        </p:grpSpPr>
        <p:sp>
          <p:nvSpPr>
            <p:cNvPr id="217" name=""/>
            <p:cNvSpPr/>
            <p:nvPr/>
          </p:nvSpPr>
          <p:spPr>
            <a:xfrm>
              <a:off x="7776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5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93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74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32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6760" y="1676520"/>
              <a:ext cx="988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888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83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41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6280" y="1676520"/>
              <a:ext cx="684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357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3680" y="16765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8600" y="2209680"/>
            <a:ext cx="1066680" cy="1448640"/>
            <a:chOff x="228600" y="2209680"/>
            <a:chExt cx="1066680" cy="1448640"/>
          </a:xfrm>
        </p:grpSpPr>
        <p:sp>
          <p:nvSpPr>
            <p:cNvPr id="231" name=""/>
            <p:cNvSpPr/>
            <p:nvPr/>
          </p:nvSpPr>
          <p:spPr>
            <a:xfrm>
              <a:off x="2286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377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600200" y="2209680"/>
            <a:ext cx="1447920" cy="961200"/>
            <a:chOff x="1600200" y="2209680"/>
            <a:chExt cx="1447920" cy="961200"/>
          </a:xfrm>
        </p:grpSpPr>
        <p:sp>
          <p:nvSpPr>
            <p:cNvPr id="235" name=""/>
            <p:cNvSpPr/>
            <p:nvPr/>
          </p:nvSpPr>
          <p:spPr>
            <a:xfrm>
              <a:off x="1600200" y="2590920"/>
              <a:ext cx="1447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3619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971800" y="2209680"/>
            <a:ext cx="1371600" cy="961200"/>
            <a:chOff x="2971800" y="2209680"/>
            <a:chExt cx="1371600" cy="961200"/>
          </a:xfrm>
        </p:grpSpPr>
        <p:sp>
          <p:nvSpPr>
            <p:cNvPr id="239" name=""/>
            <p:cNvSpPr/>
            <p:nvPr/>
          </p:nvSpPr>
          <p:spPr>
            <a:xfrm>
              <a:off x="2971800" y="2590920"/>
              <a:ext cx="1371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7335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43400" y="2286000"/>
            <a:ext cx="1066680" cy="1372320"/>
            <a:chOff x="4343400" y="2286000"/>
            <a:chExt cx="1066680" cy="1372320"/>
          </a:xfrm>
        </p:grpSpPr>
        <p:sp>
          <p:nvSpPr>
            <p:cNvPr id="243" name=""/>
            <p:cNvSpPr/>
            <p:nvPr/>
          </p:nvSpPr>
          <p:spPr>
            <a:xfrm>
              <a:off x="43434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, 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0" y="228600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952520" y="228600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715000" y="2209680"/>
            <a:ext cx="1295280" cy="961200"/>
            <a:chOff x="5715000" y="2209680"/>
            <a:chExt cx="1295280" cy="961200"/>
          </a:xfrm>
        </p:grpSpPr>
        <p:sp>
          <p:nvSpPr>
            <p:cNvPr id="247" name=""/>
            <p:cNvSpPr/>
            <p:nvPr/>
          </p:nvSpPr>
          <p:spPr>
            <a:xfrm>
              <a:off x="57150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3241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086600" y="2209680"/>
            <a:ext cx="1295280" cy="961200"/>
            <a:chOff x="7086600" y="2209680"/>
            <a:chExt cx="1295280" cy="961200"/>
          </a:xfrm>
        </p:grpSpPr>
        <p:sp>
          <p:nvSpPr>
            <p:cNvPr id="251" name=""/>
            <p:cNvSpPr/>
            <p:nvPr/>
          </p:nvSpPr>
          <p:spPr>
            <a:xfrm>
              <a:off x="70866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8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483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461440" y="2133720"/>
            <a:ext cx="758880" cy="1037160"/>
            <a:chOff x="8461440" y="2133720"/>
            <a:chExt cx="758880" cy="1037160"/>
          </a:xfrm>
        </p:grpSpPr>
        <p:sp>
          <p:nvSpPr>
            <p:cNvPr id="255" name=""/>
            <p:cNvSpPr/>
            <p:nvPr/>
          </p:nvSpPr>
          <p:spPr>
            <a:xfrm>
              <a:off x="8461440" y="25909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86800" y="2133720"/>
              <a:ext cx="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7200" y="3124080"/>
            <a:ext cx="2286000" cy="1113480"/>
            <a:chOff x="457200" y="3124080"/>
            <a:chExt cx="2286000" cy="1113480"/>
          </a:xfrm>
        </p:grpSpPr>
        <p:sp>
          <p:nvSpPr>
            <p:cNvPr id="258" name=""/>
            <p:cNvSpPr/>
            <p:nvPr/>
          </p:nvSpPr>
          <p:spPr>
            <a:xfrm>
              <a:off x="45720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6, 8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12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59984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048120" y="3124080"/>
            <a:ext cx="2286000" cy="1113480"/>
            <a:chOff x="3048120" y="3124080"/>
            <a:chExt cx="2286000" cy="1113480"/>
          </a:xfrm>
        </p:grpSpPr>
        <p:sp>
          <p:nvSpPr>
            <p:cNvPr id="262" name=""/>
            <p:cNvSpPr/>
            <p:nvPr/>
          </p:nvSpPr>
          <p:spPr>
            <a:xfrm>
              <a:off x="304812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5, 9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3124080"/>
              <a:ext cx="60984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19076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67280" y="3124080"/>
            <a:ext cx="2286000" cy="1600920"/>
            <a:chOff x="5867280" y="3124080"/>
            <a:chExt cx="2286000" cy="1600920"/>
          </a:xfrm>
        </p:grpSpPr>
        <p:sp>
          <p:nvSpPr>
            <p:cNvPr id="266" name=""/>
            <p:cNvSpPr/>
            <p:nvPr/>
          </p:nvSpPr>
          <p:spPr>
            <a:xfrm>
              <a:off x="5867280" y="3657600"/>
              <a:ext cx="228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0992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8462880" y="3124080"/>
            <a:ext cx="758880" cy="1037160"/>
            <a:chOff x="8462880" y="3124080"/>
            <a:chExt cx="758880" cy="1037160"/>
          </a:xfrm>
        </p:grpSpPr>
        <p:sp>
          <p:nvSpPr>
            <p:cNvPr id="270" name=""/>
            <p:cNvSpPr/>
            <p:nvPr/>
          </p:nvSpPr>
          <p:spPr>
            <a:xfrm>
              <a:off x="8462880" y="358128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88240" y="31240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4191120"/>
            <a:ext cx="4191120" cy="1341720"/>
            <a:chOff x="1143000" y="4191120"/>
            <a:chExt cx="4191120" cy="1341720"/>
          </a:xfrm>
        </p:grpSpPr>
        <p:sp>
          <p:nvSpPr>
            <p:cNvPr id="273" name=""/>
            <p:cNvSpPr/>
            <p:nvPr/>
          </p:nvSpPr>
          <p:spPr>
            <a:xfrm>
              <a:off x="1143000" y="4952880"/>
              <a:ext cx="4191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3, 5, 6, 8, 9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6800" y="4191120"/>
              <a:ext cx="113508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325680" y="4267080"/>
              <a:ext cx="78912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4114800"/>
            <a:ext cx="2895840" cy="1342080"/>
            <a:chOff x="6095880" y="4114800"/>
            <a:chExt cx="2895840" cy="1342080"/>
          </a:xfrm>
        </p:grpSpPr>
        <p:sp>
          <p:nvSpPr>
            <p:cNvPr id="277" name=""/>
            <p:cNvSpPr/>
            <p:nvPr/>
          </p:nvSpPr>
          <p:spPr>
            <a:xfrm>
              <a:off x="6095880" y="4876920"/>
              <a:ext cx="289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4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58040" y="4114800"/>
              <a:ext cx="78264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603920" y="4114800"/>
              <a:ext cx="96516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60520" y="5334120"/>
            <a:ext cx="6782040" cy="1113120"/>
            <a:chOff x="2360520" y="5334120"/>
            <a:chExt cx="6782040" cy="1113120"/>
          </a:xfrm>
        </p:grpSpPr>
        <p:sp>
          <p:nvSpPr>
            <p:cNvPr id="281" name=""/>
            <p:cNvSpPr/>
            <p:nvPr/>
          </p:nvSpPr>
          <p:spPr>
            <a:xfrm>
              <a:off x="2360520" y="5867280"/>
              <a:ext cx="6782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2, 3, 4, 5, 6, 7, 8, 9, 10, 12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505320" y="5334120"/>
              <a:ext cx="4190400" cy="533160"/>
              <a:chOff x="3505320" y="5334120"/>
              <a:chExt cx="4190400" cy="533160"/>
            </a:xfrm>
          </p:grpSpPr>
          <p:sp>
            <p:nvSpPr>
              <p:cNvPr id="283" name=""/>
              <p:cNvSpPr/>
              <p:nvPr/>
            </p:nvSpPr>
            <p:spPr>
              <a:xfrm>
                <a:off x="3505320" y="5410080"/>
                <a:ext cx="1828800" cy="457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095520" y="5334120"/>
                <a:ext cx="160020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segment siz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merge pass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rge pass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space for the m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slower than insertion sort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imately). So define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inst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n inst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egment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 one of the smaller instances; la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s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53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57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tur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orted segments are the naturally ocurring sorted segments in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8, 9, 10, 2, 5, 7, 9, 11, 13, 15, 6, 12, 14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gmen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9, 10] [2, 5, 7, 9, 11, 13, 15] [6, 1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stea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rge passe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oundaries 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i] &gt; a[i+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very small instance is a sorted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rt a large instance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contains only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is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, follow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followed by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914400" y="1676520"/>
            <a:ext cx="5943600" cy="579240"/>
            <a:chOff x="914400" y="1676520"/>
            <a:chExt cx="5943600" cy="579240"/>
          </a:xfrm>
        </p:grpSpPr>
        <p:grpSp>
          <p:nvGrpSpPr>
            <p:cNvPr id="293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914400" y="1676520"/>
              <a:ext cx="457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90720" y="29718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90720" y="4572000"/>
            <a:ext cx="5708520" cy="579600"/>
            <a:chOff x="990720" y="4572000"/>
            <a:chExt cx="5708520" cy="579600"/>
          </a:xfrm>
        </p:grpSpPr>
        <p:grpSp>
          <p:nvGrpSpPr>
            <p:cNvPr id="319" name=""/>
            <p:cNvGrpSpPr/>
            <p:nvPr/>
          </p:nvGrpSpPr>
          <p:grpSpPr>
            <a:xfrm>
              <a:off x="990720" y="4572000"/>
              <a:ext cx="5708520" cy="579600"/>
              <a:chOff x="990720" y="4572000"/>
              <a:chExt cx="5708520" cy="579600"/>
            </a:xfrm>
          </p:grpSpPr>
          <p:sp>
            <p:nvSpPr>
              <p:cNvPr id="320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0720" y="4572000"/>
                <a:ext cx="45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682640" y="4572000"/>
              <a:ext cx="444600" cy="519120"/>
              <a:chOff x="1682640" y="4572000"/>
              <a:chExt cx="444600" cy="519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36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254640" y="4572000"/>
              <a:ext cx="444600" cy="519120"/>
              <a:chOff x="6254640" y="4572000"/>
              <a:chExt cx="444600" cy="519120"/>
            </a:xfrm>
          </p:grpSpPr>
          <p:sp>
            <p:nvSpPr>
              <p:cNvPr id="336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08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139840" y="4572000"/>
              <a:ext cx="444600" cy="519120"/>
              <a:chOff x="2139840" y="4572000"/>
              <a:chExt cx="444600" cy="519120"/>
            </a:xfrm>
          </p:grpSpPr>
          <p:sp>
            <p:nvSpPr>
              <p:cNvPr id="339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93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75480" y="4572000"/>
              <a:ext cx="701640" cy="519120"/>
              <a:chOff x="5775480" y="4572000"/>
              <a:chExt cx="701640" cy="519120"/>
            </a:xfrm>
          </p:grpSpPr>
          <p:sp>
            <p:nvSpPr>
              <p:cNvPr id="342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54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318280" y="4572000"/>
              <a:ext cx="701640" cy="519120"/>
              <a:chOff x="5318280" y="4572000"/>
              <a:chExt cx="701640" cy="519120"/>
            </a:xfrm>
          </p:grpSpPr>
          <p:sp>
            <p:nvSpPr>
              <p:cNvPr id="345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182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97040" y="4572000"/>
              <a:ext cx="444600" cy="519120"/>
              <a:chOff x="2597040" y="4572000"/>
              <a:chExt cx="444600" cy="519120"/>
            </a:xfrm>
          </p:grpSpPr>
          <p:sp>
            <p:nvSpPr>
              <p:cNvPr id="348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51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54240" y="4572000"/>
              <a:ext cx="444600" cy="519120"/>
              <a:chOff x="3054240" y="4572000"/>
              <a:chExt cx="444600" cy="51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082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883040" y="4572000"/>
              <a:ext cx="444600" cy="519120"/>
              <a:chOff x="4883040" y="4572000"/>
              <a:chExt cx="444600" cy="519120"/>
            </a:xfrm>
          </p:grpSpPr>
          <p:sp>
            <p:nvSpPr>
              <p:cNvPr id="354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37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425840" y="4572000"/>
              <a:ext cx="444600" cy="519120"/>
              <a:chOff x="4425840" y="4572000"/>
              <a:chExt cx="444600" cy="519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79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511440" y="4572000"/>
              <a:ext cx="444600" cy="519120"/>
              <a:chOff x="3511440" y="4572000"/>
              <a:chExt cx="444600" cy="519120"/>
            </a:xfrm>
          </p:grpSpPr>
          <p:sp>
            <p:nvSpPr>
              <p:cNvPr id="360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654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968640" y="4572000"/>
              <a:ext cx="444600" cy="519120"/>
              <a:chOff x="3968640" y="4572000"/>
              <a:chExt cx="444600" cy="519120"/>
            </a:xfrm>
          </p:grpSpPr>
          <p:sp>
            <p:nvSpPr>
              <p:cNvPr id="363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22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990720" y="586728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 list that is to be 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mplementation does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dom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one of the elements to be sorted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te a random numb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6, 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r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dian-of-Three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rom the leftmost, middle, and rightmost elements of the list to be sorted, select the one with median key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a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 ((6+20)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element with median (i.e., middle)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20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13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ivot is picked at random or when the median-of-three rule is used, we can use the quick sort code of the text provided we first swap the leftmost element and the chosen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6840" y="5546880"/>
            <a:ext cx="6845400" cy="549000"/>
            <a:chOff x="996840" y="5546880"/>
            <a:chExt cx="6845400" cy="549000"/>
          </a:xfrm>
        </p:grpSpPr>
        <p:sp>
          <p:nvSpPr>
            <p:cNvPr id="373" name=""/>
            <p:cNvSpPr/>
            <p:nvPr/>
          </p:nvSpPr>
          <p:spPr>
            <a:xfrm>
              <a:off x="996840" y="556884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7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2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33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1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9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7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91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7160" y="554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92800" y="5568840"/>
            <a:ext cx="992160" cy="1122480"/>
            <a:chOff x="4492800" y="5568840"/>
            <a:chExt cx="992160" cy="1122480"/>
          </a:xfrm>
        </p:grpSpPr>
        <p:sp>
          <p:nvSpPr>
            <p:cNvPr id="390" name=""/>
            <p:cNvSpPr/>
            <p:nvPr/>
          </p:nvSpPr>
          <p:spPr>
            <a:xfrm>
              <a:off x="4654440" y="5568840"/>
              <a:ext cx="444600" cy="520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2800" y="6172200"/>
              <a:ext cx="992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996840" y="5568840"/>
            <a:ext cx="444600" cy="5209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19320" y="4724280"/>
            <a:ext cx="3733560" cy="945720"/>
            <a:chOff x="1219320" y="4724280"/>
            <a:chExt cx="3733560" cy="945720"/>
          </a:xfrm>
        </p:grpSpPr>
        <p:sp>
          <p:nvSpPr>
            <p:cNvPr id="394" name=""/>
            <p:cNvSpPr/>
            <p:nvPr/>
          </p:nvSpPr>
          <p:spPr>
            <a:xfrm>
              <a:off x="2590920" y="4724280"/>
              <a:ext cx="914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wa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219320" y="5029200"/>
              <a:ext cx="3733560" cy="533520"/>
              <a:chOff x="1219320" y="5029200"/>
              <a:chExt cx="3733560" cy="53352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1219320" y="5029200"/>
                <a:ext cx="1218960" cy="5335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5105520"/>
                <a:ext cx="1371600" cy="457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Into Three Grou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[6, 2, 8, 5, 11, 10, 4, 1, 9, 7, 3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mo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oth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left to right (omit the pivot in this scan), placing ele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lef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remaining elements at the righ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vot is placed at the remaining position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Example Using Additional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1676520"/>
            <a:ext cx="5943600" cy="579960"/>
            <a:chOff x="914400" y="1676520"/>
            <a:chExt cx="5943600" cy="579960"/>
          </a:xfrm>
        </p:grpSpPr>
        <p:grpSp>
          <p:nvGrpSpPr>
            <p:cNvPr id="402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403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914400" y="1676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90720" y="3276720"/>
            <a:ext cx="5708520" cy="579960"/>
            <a:chOff x="990720" y="3276720"/>
            <a:chExt cx="5708520" cy="579960"/>
          </a:xfrm>
        </p:grpSpPr>
        <p:sp>
          <p:nvSpPr>
            <p:cNvPr id="427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907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82640" y="3276720"/>
            <a:ext cx="444600" cy="519120"/>
            <a:chOff x="1682640" y="3276720"/>
            <a:chExt cx="444600" cy="519120"/>
          </a:xfrm>
        </p:grpSpPr>
        <p:sp>
          <p:nvSpPr>
            <p:cNvPr id="440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6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254640" y="3276720"/>
            <a:ext cx="444600" cy="519120"/>
            <a:chOff x="6254640" y="3276720"/>
            <a:chExt cx="444600" cy="519120"/>
          </a:xfrm>
        </p:grpSpPr>
        <p:sp>
          <p:nvSpPr>
            <p:cNvPr id="443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8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139840" y="3276720"/>
            <a:ext cx="444600" cy="519120"/>
            <a:chOff x="2139840" y="3276720"/>
            <a:chExt cx="444600" cy="519120"/>
          </a:xfrm>
        </p:grpSpPr>
        <p:sp>
          <p:nvSpPr>
            <p:cNvPr id="446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93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75480" y="3276720"/>
            <a:ext cx="701640" cy="519120"/>
            <a:chOff x="5775480" y="3276720"/>
            <a:chExt cx="701640" cy="519120"/>
          </a:xfrm>
        </p:grpSpPr>
        <p:sp>
          <p:nvSpPr>
            <p:cNvPr id="449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754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318280" y="3276720"/>
            <a:ext cx="701640" cy="519120"/>
            <a:chOff x="5318280" y="3276720"/>
            <a:chExt cx="701640" cy="519120"/>
          </a:xfrm>
        </p:grpSpPr>
        <p:sp>
          <p:nvSpPr>
            <p:cNvPr id="452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182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597040" y="3276720"/>
            <a:ext cx="444600" cy="519120"/>
            <a:chOff x="2597040" y="3276720"/>
            <a:chExt cx="444600" cy="519120"/>
          </a:xfrm>
        </p:grpSpPr>
        <p:sp>
          <p:nvSpPr>
            <p:cNvPr id="455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1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054240" y="3276720"/>
            <a:ext cx="444600" cy="519120"/>
            <a:chOff x="3054240" y="3276720"/>
            <a:chExt cx="444600" cy="519120"/>
          </a:xfrm>
        </p:grpSpPr>
        <p:sp>
          <p:nvSpPr>
            <p:cNvPr id="458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082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83040" y="3276720"/>
            <a:ext cx="444600" cy="519120"/>
            <a:chOff x="4883040" y="3276720"/>
            <a:chExt cx="444600" cy="519120"/>
          </a:xfrm>
        </p:grpSpPr>
        <p:sp>
          <p:nvSpPr>
            <p:cNvPr id="461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7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425840" y="3276720"/>
            <a:ext cx="444600" cy="519120"/>
            <a:chOff x="4425840" y="3276720"/>
            <a:chExt cx="444600" cy="519120"/>
          </a:xfrm>
        </p:grpSpPr>
        <p:sp>
          <p:nvSpPr>
            <p:cNvPr id="464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9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511440" y="3276720"/>
            <a:ext cx="444600" cy="519120"/>
            <a:chOff x="3511440" y="3276720"/>
            <a:chExt cx="444600" cy="519120"/>
          </a:xfrm>
        </p:grpSpPr>
        <p:sp>
          <p:nvSpPr>
            <p:cNvPr id="467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968640" y="3276720"/>
            <a:ext cx="444600" cy="519120"/>
            <a:chOff x="3968640" y="3276720"/>
            <a:chExt cx="444600" cy="519120"/>
          </a:xfrm>
        </p:grpSpPr>
        <p:sp>
          <p:nvSpPr>
            <p:cNvPr id="470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22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914400" y="48769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the left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43000" y="1143000"/>
            <a:ext cx="5943600" cy="579960"/>
            <a:chOff x="1143000" y="1143000"/>
            <a:chExt cx="5943600" cy="579960"/>
          </a:xfrm>
        </p:grpSpPr>
        <p:grpSp>
          <p:nvGrpSpPr>
            <p:cNvPr id="477" name=""/>
            <p:cNvGrpSpPr/>
            <p:nvPr/>
          </p:nvGrpSpPr>
          <p:grpSpPr>
            <a:xfrm>
              <a:off x="1143000" y="1143000"/>
              <a:ext cx="5943600" cy="579960"/>
              <a:chOff x="1143000" y="1143000"/>
              <a:chExt cx="5943600" cy="579960"/>
            </a:xfrm>
          </p:grpSpPr>
          <p:sp>
            <p:nvSpPr>
              <p:cNvPr id="478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44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98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01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55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59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13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16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94040" y="11430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73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51240" y="1143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30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84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87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1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45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99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02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563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59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13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43000" y="11430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987560" y="1143000"/>
              <a:ext cx="527040" cy="519120"/>
              <a:chOff x="1987560" y="1143000"/>
              <a:chExt cx="527040" cy="519120"/>
            </a:xfrm>
          </p:grpSpPr>
          <p:sp>
            <p:nvSpPr>
              <p:cNvPr id="502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2901960" y="1143000"/>
            <a:ext cx="527040" cy="519120"/>
            <a:chOff x="2901960" y="1143000"/>
            <a:chExt cx="527040" cy="519120"/>
          </a:xfrm>
        </p:grpSpPr>
        <p:sp>
          <p:nvSpPr>
            <p:cNvPr id="505" name=""/>
            <p:cNvSpPr/>
            <p:nvPr/>
          </p:nvSpPr>
          <p:spPr>
            <a:xfrm>
              <a:off x="2901960" y="12254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59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559560" y="1143000"/>
            <a:ext cx="527040" cy="519120"/>
            <a:chOff x="6559560" y="1143000"/>
            <a:chExt cx="527040" cy="519120"/>
          </a:xfrm>
        </p:grpSpPr>
        <p:sp>
          <p:nvSpPr>
            <p:cNvPr id="508" name=""/>
            <p:cNvSpPr/>
            <p:nvPr/>
          </p:nvSpPr>
          <p:spPr>
            <a:xfrm>
              <a:off x="6559560" y="12254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35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143000" y="2057400"/>
            <a:ext cx="5943600" cy="579960"/>
            <a:chOff x="1143000" y="2057400"/>
            <a:chExt cx="5943600" cy="579960"/>
          </a:xfrm>
        </p:grpSpPr>
        <p:grpSp>
          <p:nvGrpSpPr>
            <p:cNvPr id="511" name=""/>
            <p:cNvGrpSpPr/>
            <p:nvPr/>
          </p:nvGrpSpPr>
          <p:grpSpPr>
            <a:xfrm>
              <a:off x="1143000" y="2057400"/>
              <a:ext cx="5943600" cy="579960"/>
              <a:chOff x="1143000" y="2057400"/>
              <a:chExt cx="5943600" cy="579960"/>
            </a:xfrm>
          </p:grpSpPr>
          <p:sp>
            <p:nvSpPr>
              <p:cNvPr id="512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44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98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01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55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59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13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16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94040" y="20574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73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51240" y="20574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30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84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87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41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645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9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02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563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9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43000" y="20574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987560" y="2057400"/>
              <a:ext cx="527040" cy="519120"/>
              <a:chOff x="1987560" y="2057400"/>
              <a:chExt cx="527040" cy="519120"/>
            </a:xfrm>
          </p:grpSpPr>
          <p:sp>
            <p:nvSpPr>
              <p:cNvPr id="536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794040" y="2057400"/>
            <a:ext cx="625680" cy="519120"/>
            <a:chOff x="3794040" y="2057400"/>
            <a:chExt cx="625680" cy="519120"/>
          </a:xfrm>
        </p:grpSpPr>
        <p:sp>
          <p:nvSpPr>
            <p:cNvPr id="539" name=""/>
            <p:cNvSpPr/>
            <p:nvPr/>
          </p:nvSpPr>
          <p:spPr>
            <a:xfrm>
              <a:off x="3816360" y="21398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94040" y="205740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187960" y="2057400"/>
            <a:ext cx="527040" cy="519120"/>
            <a:chOff x="5187960" y="2057400"/>
            <a:chExt cx="527040" cy="519120"/>
          </a:xfrm>
        </p:grpSpPr>
        <p:sp>
          <p:nvSpPr>
            <p:cNvPr id="542" name=""/>
            <p:cNvSpPr/>
            <p:nvPr/>
          </p:nvSpPr>
          <p:spPr>
            <a:xfrm>
              <a:off x="5187960" y="21398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41960" y="20574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143000" y="2895480"/>
            <a:ext cx="5943600" cy="579960"/>
            <a:chOff x="1143000" y="2895480"/>
            <a:chExt cx="5943600" cy="579960"/>
          </a:xfrm>
        </p:grpSpPr>
        <p:grpSp>
          <p:nvGrpSpPr>
            <p:cNvPr id="545" name=""/>
            <p:cNvGrpSpPr/>
            <p:nvPr/>
          </p:nvGrpSpPr>
          <p:grpSpPr>
            <a:xfrm>
              <a:off x="1143000" y="2895480"/>
              <a:ext cx="5943600" cy="579960"/>
              <a:chOff x="1143000" y="2895480"/>
              <a:chExt cx="5943600" cy="579960"/>
            </a:xfrm>
          </p:grpSpPr>
          <p:sp>
            <p:nvSpPr>
              <p:cNvPr id="546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44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98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01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559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59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13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16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870360" y="289548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73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51240" y="289548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0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84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87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65640" y="289548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45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99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02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563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9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13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43000" y="289548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87560" y="2895480"/>
              <a:ext cx="527040" cy="519120"/>
              <a:chOff x="1987560" y="2895480"/>
              <a:chExt cx="527040" cy="519120"/>
            </a:xfrm>
          </p:grpSpPr>
          <p:sp>
            <p:nvSpPr>
              <p:cNvPr id="570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4251240" y="2895480"/>
            <a:ext cx="625680" cy="519120"/>
            <a:chOff x="4251240" y="2895480"/>
            <a:chExt cx="625680" cy="519120"/>
          </a:xfrm>
        </p:grpSpPr>
        <p:sp>
          <p:nvSpPr>
            <p:cNvPr id="573" name=""/>
            <p:cNvSpPr/>
            <p:nvPr/>
          </p:nvSpPr>
          <p:spPr>
            <a:xfrm>
              <a:off x="4273560" y="2978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51240" y="2895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730760" y="2895480"/>
            <a:ext cx="527040" cy="519120"/>
            <a:chOff x="4730760" y="2895480"/>
            <a:chExt cx="527040" cy="519120"/>
          </a:xfrm>
        </p:grpSpPr>
        <p:sp>
          <p:nvSpPr>
            <p:cNvPr id="576" name=""/>
            <p:cNvSpPr/>
            <p:nvPr/>
          </p:nvSpPr>
          <p:spPr>
            <a:xfrm>
              <a:off x="4730760" y="2978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84760" y="2895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143000" y="3733920"/>
            <a:ext cx="5943600" cy="579960"/>
            <a:chOff x="1143000" y="3733920"/>
            <a:chExt cx="5943600" cy="579960"/>
          </a:xfrm>
        </p:grpSpPr>
        <p:grpSp>
          <p:nvGrpSpPr>
            <p:cNvPr id="579" name=""/>
            <p:cNvGrpSpPr/>
            <p:nvPr/>
          </p:nvGrpSpPr>
          <p:grpSpPr>
            <a:xfrm>
              <a:off x="1143000" y="3733920"/>
              <a:ext cx="5943600" cy="579960"/>
              <a:chOff x="1143000" y="3733920"/>
              <a:chExt cx="5943600" cy="579960"/>
            </a:xfrm>
          </p:grpSpPr>
          <p:sp>
            <p:nvSpPr>
              <p:cNvPr id="580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44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87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01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559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9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13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816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70360" y="373392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73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2756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30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3248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187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165640" y="37339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45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9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02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563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559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13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43000" y="37339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987560" y="3733920"/>
              <a:ext cx="527040" cy="519120"/>
              <a:chOff x="1987560" y="3733920"/>
              <a:chExt cx="527040" cy="519120"/>
            </a:xfrm>
          </p:grpSpPr>
          <p:sp>
            <p:nvSpPr>
              <p:cNvPr id="604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4708440" y="3733920"/>
            <a:ext cx="625680" cy="519120"/>
            <a:chOff x="4708440" y="3733920"/>
            <a:chExt cx="625680" cy="519120"/>
          </a:xfrm>
        </p:grpSpPr>
        <p:sp>
          <p:nvSpPr>
            <p:cNvPr id="607" name=""/>
            <p:cNvSpPr/>
            <p:nvPr/>
          </p:nvSpPr>
          <p:spPr>
            <a:xfrm>
              <a:off x="4730760" y="38163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08440" y="373392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273560" y="3733920"/>
            <a:ext cx="527040" cy="519120"/>
            <a:chOff x="4273560" y="3733920"/>
            <a:chExt cx="527040" cy="519120"/>
          </a:xfrm>
        </p:grpSpPr>
        <p:sp>
          <p:nvSpPr>
            <p:cNvPr id="610" name=""/>
            <p:cNvSpPr/>
            <p:nvPr/>
          </p:nvSpPr>
          <p:spPr>
            <a:xfrm>
              <a:off x="4273560" y="38163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27560" y="373392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04920" y="472428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 lef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 process. 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295280" y="5943600"/>
            <a:ext cx="5943600" cy="579960"/>
            <a:chOff x="1295280" y="5943600"/>
            <a:chExt cx="5943600" cy="579960"/>
          </a:xfrm>
        </p:grpSpPr>
        <p:grpSp>
          <p:nvGrpSpPr>
            <p:cNvPr id="614" name=""/>
            <p:cNvGrpSpPr/>
            <p:nvPr/>
          </p:nvGrpSpPr>
          <p:grpSpPr>
            <a:xfrm>
              <a:off x="1295280" y="5943600"/>
              <a:ext cx="5943600" cy="579960"/>
              <a:chOff x="1295280" y="5943600"/>
              <a:chExt cx="5943600" cy="579960"/>
            </a:xfrm>
          </p:grpSpPr>
          <p:sp>
            <p:nvSpPr>
              <p:cNvPr id="615" name=""/>
              <p:cNvSpPr/>
              <p:nvPr/>
            </p:nvSpPr>
            <p:spPr>
              <a:xfrm>
                <a:off x="62546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398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93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970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510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542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082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114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565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686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22640" y="59436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7984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402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318280" y="594360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974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51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086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118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65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95280" y="59436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830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8476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425840" y="5943600"/>
              <a:ext cx="527040" cy="519120"/>
              <a:chOff x="4425840" y="5943600"/>
              <a:chExt cx="527040" cy="519120"/>
            </a:xfrm>
          </p:grpSpPr>
          <p:sp>
            <p:nvSpPr>
              <p:cNvPr id="641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3434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is done by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ert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sor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63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64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68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artition an arra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need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|left|) + t(|right|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ximum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right|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each partiti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, for example, when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ways the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orst-case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n-1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peated substitution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case arises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righ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(or differ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llowing each partiti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best case, the recurrence is the same as for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best-ca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complexity is al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get partitions with almost equal size, change in-place swap ru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the left of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ace is needed for the recursion stack. May be reduc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Exercise 19.2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performance, define a small instance to be on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ay) and 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primitive data type are sorted using quick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 &lt;= n &lt;=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of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40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 median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ly spac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median of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edian of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d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nonprimitive data type are sorted using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merge when la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lative order of elements with equal keys is not chang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sort is not s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a large instance into two smaller instances, first find the larg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st element defines one of the smaller instances;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74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78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smaller instanc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 the first smaller instance (largest element) to the right end of the sorte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84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89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bble sort may also be viewed 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vide-and-conqu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sort, selection sort and bubble sort divide a large instance into one smaller instanc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other on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ree sort methods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algorithms generally have best complexity when a large instance is divided into smaller instances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one of the smaller instances;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 two smaller instances 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rted smaller instances are combined using a process called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1, 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smallest elements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maller in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0:30Z</dcterms:modified>
  <cp:revision>141</cp:revision>
  <dc:subject/>
  <dc:title>Data Representation Methods</dc:title>
</cp:coreProperties>
</file>