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0800" y="701280"/>
            <a:ext cx="462420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CA7E-8548-4A18-B276-7FAFF2A2F56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0, b2, b3, …, bn is a better solution that a1, a2, …, an. But a1, …, an is optim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1, b2, b3, …, bn is a better solution that a1, a2, …, an. But a1, …, an is optim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a recurrence equation on some function of the problem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f(i,y)s computed more than once. Use a dictionary that stores already computed f(i,y)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ights (and hence c) are integer, the number of different y’s on a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t most c+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6E03-155C-43F6-B248-9CACC17B5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BC49-2428-47B3-9355-87CC2BE9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218A-5253-4F80-A55B-DD9037FEC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504C-AA6F-42A2-9A53-ABB6DDE26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902E-9ECB-415F-942C-B4E0B292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AD6D-928F-4068-9399-821B2032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11D3-9E84-44D5-A0FB-584353AD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3091-7664-4814-A7A3-D1185D00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545E-7A4C-4B5B-B542-D6210C14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03BF-CCE7-4385-8D3A-D817F9BA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7C9B-8606-4F45-AF0D-CAF56E3C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F2B6-9C0D-4F0B-B24A-F9EF062B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2BCB-8715-4759-846D-E83A47ABC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quence of deci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t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le of optima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Programming Recurrence Equ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of recurrence equ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POT-L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1485720" cy="1028880"/>
          </a:xfrm>
          <a:prstGeom prst="rect">
            <a:avLst/>
          </a:prstGeom>
          <a:ln w="0">
            <a:noFill/>
          </a:ln>
        </p:spPr>
      </p:pic>
      <p:pic>
        <p:nvPicPr>
          <p:cNvPr id="51" name="SPOT-R" descr=""/>
          <p:cNvPicPr/>
          <p:nvPr/>
        </p:nvPicPr>
        <p:blipFill>
          <a:blip r:embed="rId2"/>
          <a:stretch/>
        </p:blipFill>
        <p:spPr>
          <a:xfrm>
            <a:off x="7391520" y="762120"/>
            <a:ext cx="148572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Times New Roman"/>
              </a:rPr>
              <a:t>1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= a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Times New Roman"/>
              </a:rPr>
              <a:t>1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= 0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4648320"/>
            <a:ext cx="85341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ot, this instance has a better solutio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68760" y="1676520"/>
            <a:ext cx="523800" cy="306360"/>
          </a:xfrm>
          <a:custGeom>
            <a:avLst/>
            <a:gdLst/>
            <a:ahLst/>
            <a:rect l="l" t="t" r="r" b="b"/>
            <a:pathLst>
              <a:path w="330" h="193">
                <a:moveTo>
                  <a:pt x="245" y="0"/>
                </a:moveTo>
                <a:lnTo>
                  <a:pt x="188" y="0"/>
                </a:lnTo>
                <a:lnTo>
                  <a:pt x="158" y="0"/>
                </a:lnTo>
                <a:lnTo>
                  <a:pt x="118" y="0"/>
                </a:lnTo>
                <a:lnTo>
                  <a:pt x="69" y="0"/>
                </a:lnTo>
                <a:lnTo>
                  <a:pt x="29" y="0"/>
                </a:lnTo>
                <a:lnTo>
                  <a:pt x="0" y="0"/>
                </a:lnTo>
                <a:lnTo>
                  <a:pt x="20" y="11"/>
                </a:lnTo>
                <a:lnTo>
                  <a:pt x="49" y="26"/>
                </a:lnTo>
                <a:lnTo>
                  <a:pt x="69" y="41"/>
                </a:lnTo>
                <a:lnTo>
                  <a:pt x="89" y="56"/>
                </a:lnTo>
                <a:lnTo>
                  <a:pt x="118" y="67"/>
                </a:lnTo>
                <a:lnTo>
                  <a:pt x="138" y="82"/>
                </a:lnTo>
                <a:lnTo>
                  <a:pt x="158" y="97"/>
                </a:lnTo>
                <a:lnTo>
                  <a:pt x="148" y="112"/>
                </a:lnTo>
                <a:lnTo>
                  <a:pt x="129" y="127"/>
                </a:lnTo>
                <a:lnTo>
                  <a:pt x="109" y="142"/>
                </a:lnTo>
                <a:lnTo>
                  <a:pt x="99" y="156"/>
                </a:lnTo>
                <a:lnTo>
                  <a:pt x="69" y="176"/>
                </a:lnTo>
                <a:lnTo>
                  <a:pt x="59" y="192"/>
                </a:lnTo>
                <a:lnTo>
                  <a:pt x="99" y="192"/>
                </a:lnTo>
                <a:lnTo>
                  <a:pt x="129" y="192"/>
                </a:lnTo>
                <a:lnTo>
                  <a:pt x="158" y="192"/>
                </a:lnTo>
                <a:lnTo>
                  <a:pt x="188" y="192"/>
                </a:lnTo>
                <a:lnTo>
                  <a:pt x="218" y="192"/>
                </a:lnTo>
                <a:lnTo>
                  <a:pt x="247" y="192"/>
                </a:lnTo>
                <a:lnTo>
                  <a:pt x="276" y="192"/>
                </a:lnTo>
                <a:lnTo>
                  <a:pt x="316" y="192"/>
                </a:lnTo>
                <a:lnTo>
                  <a:pt x="329" y="190"/>
                </a:lnTo>
              </a:path>
            </a:pathLst>
          </a:custGeom>
          <a:noFill/>
          <a:ln cap="rnd" w="507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1905120"/>
            <a:ext cx="1219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1143000"/>
            <a:ext cx="60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1447920"/>
            <a:ext cx="9144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1600200"/>
            <a:ext cx="1981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92440" y="2971800"/>
            <a:ext cx="523800" cy="306360"/>
          </a:xfrm>
          <a:custGeom>
            <a:avLst/>
            <a:gdLst/>
            <a:ahLst/>
            <a:rect l="l" t="t" r="r" b="b"/>
            <a:pathLst>
              <a:path w="330" h="193">
                <a:moveTo>
                  <a:pt x="245" y="0"/>
                </a:moveTo>
                <a:lnTo>
                  <a:pt x="188" y="0"/>
                </a:lnTo>
                <a:lnTo>
                  <a:pt x="158" y="0"/>
                </a:lnTo>
                <a:lnTo>
                  <a:pt x="118" y="0"/>
                </a:lnTo>
                <a:lnTo>
                  <a:pt x="69" y="0"/>
                </a:lnTo>
                <a:lnTo>
                  <a:pt x="29" y="0"/>
                </a:lnTo>
                <a:lnTo>
                  <a:pt x="0" y="0"/>
                </a:lnTo>
                <a:lnTo>
                  <a:pt x="20" y="11"/>
                </a:lnTo>
                <a:lnTo>
                  <a:pt x="49" y="26"/>
                </a:lnTo>
                <a:lnTo>
                  <a:pt x="69" y="41"/>
                </a:lnTo>
                <a:lnTo>
                  <a:pt x="89" y="56"/>
                </a:lnTo>
                <a:lnTo>
                  <a:pt x="118" y="67"/>
                </a:lnTo>
                <a:lnTo>
                  <a:pt x="138" y="82"/>
                </a:lnTo>
                <a:lnTo>
                  <a:pt x="158" y="97"/>
                </a:lnTo>
                <a:lnTo>
                  <a:pt x="148" y="112"/>
                </a:lnTo>
                <a:lnTo>
                  <a:pt x="129" y="127"/>
                </a:lnTo>
                <a:lnTo>
                  <a:pt x="109" y="142"/>
                </a:lnTo>
                <a:lnTo>
                  <a:pt x="99" y="156"/>
                </a:lnTo>
                <a:lnTo>
                  <a:pt x="69" y="176"/>
                </a:lnTo>
                <a:lnTo>
                  <a:pt x="59" y="192"/>
                </a:lnTo>
                <a:lnTo>
                  <a:pt x="99" y="192"/>
                </a:lnTo>
                <a:lnTo>
                  <a:pt x="129" y="192"/>
                </a:lnTo>
                <a:lnTo>
                  <a:pt x="158" y="192"/>
                </a:lnTo>
                <a:lnTo>
                  <a:pt x="188" y="192"/>
                </a:lnTo>
                <a:lnTo>
                  <a:pt x="218" y="192"/>
                </a:lnTo>
                <a:lnTo>
                  <a:pt x="247" y="192"/>
                </a:lnTo>
                <a:lnTo>
                  <a:pt x="276" y="192"/>
                </a:lnTo>
                <a:lnTo>
                  <a:pt x="316" y="192"/>
                </a:lnTo>
                <a:lnTo>
                  <a:pt x="329" y="190"/>
                </a:lnTo>
              </a:path>
            </a:pathLst>
          </a:custGeom>
          <a:noFill/>
          <a:ln cap="rnd" w="507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05320" y="3200400"/>
            <a:ext cx="1218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1280" y="2438280"/>
            <a:ext cx="609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2743200"/>
            <a:ext cx="24382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=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895480"/>
            <a:ext cx="1828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ject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3809880"/>
            <a:ext cx="48769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ll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447920" y="5410080"/>
            <a:ext cx="4267080" cy="1446840"/>
            <a:chOff x="1447920" y="5410080"/>
            <a:chExt cx="4267080" cy="1446840"/>
          </a:xfrm>
        </p:grpSpPr>
        <p:sp>
          <p:nvSpPr>
            <p:cNvPr id="100" name=""/>
            <p:cNvSpPr/>
            <p:nvPr/>
          </p:nvSpPr>
          <p:spPr>
            <a:xfrm>
              <a:off x="1447920" y="6276960"/>
              <a:ext cx="1218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 = 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35040" y="6048360"/>
              <a:ext cx="523800" cy="306360"/>
            </a:xfrm>
            <a:custGeom>
              <a:avLst/>
              <a:gdLst/>
              <a:ahLst/>
              <a:rect l="l" t="t" r="r" b="b"/>
              <a:pathLst>
                <a:path w="330" h="193">
                  <a:moveTo>
                    <a:pt x="245" y="0"/>
                  </a:moveTo>
                  <a:lnTo>
                    <a:pt x="188" y="0"/>
                  </a:lnTo>
                  <a:lnTo>
                    <a:pt x="158" y="0"/>
                  </a:lnTo>
                  <a:lnTo>
                    <a:pt x="118" y="0"/>
                  </a:lnTo>
                  <a:lnTo>
                    <a:pt x="69" y="0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0" y="11"/>
                  </a:lnTo>
                  <a:lnTo>
                    <a:pt x="49" y="26"/>
                  </a:lnTo>
                  <a:lnTo>
                    <a:pt x="69" y="41"/>
                  </a:lnTo>
                  <a:lnTo>
                    <a:pt x="89" y="56"/>
                  </a:lnTo>
                  <a:lnTo>
                    <a:pt x="118" y="67"/>
                  </a:lnTo>
                  <a:lnTo>
                    <a:pt x="138" y="82"/>
                  </a:lnTo>
                  <a:lnTo>
                    <a:pt x="158" y="97"/>
                  </a:lnTo>
                  <a:lnTo>
                    <a:pt x="148" y="112"/>
                  </a:lnTo>
                  <a:lnTo>
                    <a:pt x="129" y="127"/>
                  </a:lnTo>
                  <a:lnTo>
                    <a:pt x="109" y="142"/>
                  </a:lnTo>
                  <a:lnTo>
                    <a:pt x="99" y="156"/>
                  </a:lnTo>
                  <a:lnTo>
                    <a:pt x="69" y="176"/>
                  </a:lnTo>
                  <a:lnTo>
                    <a:pt x="59" y="192"/>
                  </a:lnTo>
                  <a:lnTo>
                    <a:pt x="99" y="192"/>
                  </a:lnTo>
                  <a:lnTo>
                    <a:pt x="129" y="192"/>
                  </a:lnTo>
                  <a:lnTo>
                    <a:pt x="158" y="192"/>
                  </a:lnTo>
                  <a:lnTo>
                    <a:pt x="188" y="192"/>
                  </a:lnTo>
                  <a:lnTo>
                    <a:pt x="218" y="192"/>
                  </a:lnTo>
                  <a:lnTo>
                    <a:pt x="247" y="192"/>
                  </a:lnTo>
                  <a:lnTo>
                    <a:pt x="276" y="192"/>
                  </a:lnTo>
                  <a:lnTo>
                    <a:pt x="316" y="192"/>
                  </a:lnTo>
                  <a:lnTo>
                    <a:pt x="329" y="190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23880" y="5514840"/>
              <a:ext cx="609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62320" y="5819760"/>
              <a:ext cx="152388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p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 b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     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73680" y="5943600"/>
              <a:ext cx="523800" cy="306360"/>
            </a:xfrm>
            <a:custGeom>
              <a:avLst/>
              <a:gdLst/>
              <a:ahLst/>
              <a:rect l="l" t="t" r="r" b="b"/>
              <a:pathLst>
                <a:path w="330" h="193">
                  <a:moveTo>
                    <a:pt x="245" y="0"/>
                  </a:moveTo>
                  <a:lnTo>
                    <a:pt x="188" y="0"/>
                  </a:lnTo>
                  <a:lnTo>
                    <a:pt x="158" y="0"/>
                  </a:lnTo>
                  <a:lnTo>
                    <a:pt x="118" y="0"/>
                  </a:lnTo>
                  <a:lnTo>
                    <a:pt x="69" y="0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0" y="11"/>
                  </a:lnTo>
                  <a:lnTo>
                    <a:pt x="49" y="26"/>
                  </a:lnTo>
                  <a:lnTo>
                    <a:pt x="69" y="41"/>
                  </a:lnTo>
                  <a:lnTo>
                    <a:pt x="89" y="56"/>
                  </a:lnTo>
                  <a:lnTo>
                    <a:pt x="118" y="67"/>
                  </a:lnTo>
                  <a:lnTo>
                    <a:pt x="138" y="82"/>
                  </a:lnTo>
                  <a:lnTo>
                    <a:pt x="158" y="97"/>
                  </a:lnTo>
                  <a:lnTo>
                    <a:pt x="148" y="112"/>
                  </a:lnTo>
                  <a:lnTo>
                    <a:pt x="129" y="127"/>
                  </a:lnTo>
                  <a:lnTo>
                    <a:pt x="109" y="142"/>
                  </a:lnTo>
                  <a:lnTo>
                    <a:pt x="99" y="156"/>
                  </a:lnTo>
                  <a:lnTo>
                    <a:pt x="69" y="176"/>
                  </a:lnTo>
                  <a:lnTo>
                    <a:pt x="59" y="192"/>
                  </a:lnTo>
                  <a:lnTo>
                    <a:pt x="99" y="192"/>
                  </a:lnTo>
                  <a:lnTo>
                    <a:pt x="129" y="192"/>
                  </a:lnTo>
                  <a:lnTo>
                    <a:pt x="158" y="192"/>
                  </a:lnTo>
                  <a:lnTo>
                    <a:pt x="188" y="192"/>
                  </a:lnTo>
                  <a:lnTo>
                    <a:pt x="218" y="192"/>
                  </a:lnTo>
                  <a:lnTo>
                    <a:pt x="247" y="192"/>
                  </a:lnTo>
                  <a:lnTo>
                    <a:pt x="276" y="192"/>
                  </a:lnTo>
                  <a:lnTo>
                    <a:pt x="316" y="192"/>
                  </a:lnTo>
                  <a:lnTo>
                    <a:pt x="329" y="190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86200" y="6172200"/>
              <a:ext cx="1219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 = 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62520" y="5410080"/>
              <a:ext cx="609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00600" y="5715000"/>
              <a:ext cx="91440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p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 a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8" name="hiker" descr=""/>
          <p:cNvPicPr/>
          <p:nvPr/>
        </p:nvPicPr>
        <p:blipFill>
          <a:blip r:embed="rId1"/>
          <a:stretch/>
        </p:blipFill>
        <p:spPr>
          <a:xfrm>
            <a:off x="7848720" y="533520"/>
            <a:ext cx="62856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Times New Roman"/>
              </a:rPr>
              <a:t>1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= a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Times New Roman"/>
              </a:rPr>
              <a:t>1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= 0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b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b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b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better solution to the original instance than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not be an optimal solution … a contradiction with the assumption that it is optim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hiker" descr=""/>
          <p:cNvPicPr/>
          <p:nvPr/>
        </p:nvPicPr>
        <p:blipFill>
          <a:blip r:embed="rId1"/>
          <a:stretch/>
        </p:blipFill>
        <p:spPr>
          <a:xfrm>
            <a:off x="7848720" y="533520"/>
            <a:ext cx="62856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Times New Roman"/>
              </a:rPr>
              <a:t>1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= a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Times New Roman"/>
              </a:rPr>
              <a:t>1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= 1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92468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, consider the cas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Follow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first decision the state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2, c-w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be an optimal solution to the knapsack instance given by the sta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2,c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-w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hiker" descr=""/>
          <p:cNvPicPr/>
          <p:nvPr/>
        </p:nvPicPr>
        <p:blipFill>
          <a:blip r:embed="rId1"/>
          <a:stretch/>
        </p:blipFill>
        <p:spPr>
          <a:xfrm>
            <a:off x="7848720" y="533520"/>
            <a:ext cx="62856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Times New Roman"/>
              </a:rPr>
              <a:t>1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= a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Times New Roman"/>
              </a:rPr>
              <a:t>1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= 1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4648320"/>
            <a:ext cx="85341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ot, this instance has a better solutio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68760" y="1676520"/>
            <a:ext cx="523800" cy="306360"/>
          </a:xfrm>
          <a:custGeom>
            <a:avLst/>
            <a:gdLst/>
            <a:ahLst/>
            <a:rect l="l" t="t" r="r" b="b"/>
            <a:pathLst>
              <a:path w="330" h="193">
                <a:moveTo>
                  <a:pt x="245" y="0"/>
                </a:moveTo>
                <a:lnTo>
                  <a:pt x="188" y="0"/>
                </a:lnTo>
                <a:lnTo>
                  <a:pt x="158" y="0"/>
                </a:lnTo>
                <a:lnTo>
                  <a:pt x="118" y="0"/>
                </a:lnTo>
                <a:lnTo>
                  <a:pt x="69" y="0"/>
                </a:lnTo>
                <a:lnTo>
                  <a:pt x="29" y="0"/>
                </a:lnTo>
                <a:lnTo>
                  <a:pt x="0" y="0"/>
                </a:lnTo>
                <a:lnTo>
                  <a:pt x="20" y="11"/>
                </a:lnTo>
                <a:lnTo>
                  <a:pt x="49" y="26"/>
                </a:lnTo>
                <a:lnTo>
                  <a:pt x="69" y="41"/>
                </a:lnTo>
                <a:lnTo>
                  <a:pt x="89" y="56"/>
                </a:lnTo>
                <a:lnTo>
                  <a:pt x="118" y="67"/>
                </a:lnTo>
                <a:lnTo>
                  <a:pt x="138" y="82"/>
                </a:lnTo>
                <a:lnTo>
                  <a:pt x="158" y="97"/>
                </a:lnTo>
                <a:lnTo>
                  <a:pt x="148" y="112"/>
                </a:lnTo>
                <a:lnTo>
                  <a:pt x="129" y="127"/>
                </a:lnTo>
                <a:lnTo>
                  <a:pt x="109" y="142"/>
                </a:lnTo>
                <a:lnTo>
                  <a:pt x="99" y="156"/>
                </a:lnTo>
                <a:lnTo>
                  <a:pt x="69" y="176"/>
                </a:lnTo>
                <a:lnTo>
                  <a:pt x="59" y="192"/>
                </a:lnTo>
                <a:lnTo>
                  <a:pt x="99" y="192"/>
                </a:lnTo>
                <a:lnTo>
                  <a:pt x="129" y="192"/>
                </a:lnTo>
                <a:lnTo>
                  <a:pt x="158" y="192"/>
                </a:lnTo>
                <a:lnTo>
                  <a:pt x="188" y="192"/>
                </a:lnTo>
                <a:lnTo>
                  <a:pt x="218" y="192"/>
                </a:lnTo>
                <a:lnTo>
                  <a:pt x="247" y="192"/>
                </a:lnTo>
                <a:lnTo>
                  <a:pt x="276" y="192"/>
                </a:lnTo>
                <a:lnTo>
                  <a:pt x="316" y="192"/>
                </a:lnTo>
                <a:lnTo>
                  <a:pt x="329" y="190"/>
                </a:lnTo>
              </a:path>
            </a:pathLst>
          </a:custGeom>
          <a:noFill/>
          <a:ln cap="rnd" w="507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1280" y="1905120"/>
            <a:ext cx="1219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57600" y="1143000"/>
            <a:ext cx="60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1447920"/>
            <a:ext cx="9144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1600200"/>
            <a:ext cx="1981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92440" y="2971800"/>
            <a:ext cx="523800" cy="306360"/>
          </a:xfrm>
          <a:custGeom>
            <a:avLst/>
            <a:gdLst/>
            <a:ahLst/>
            <a:rect l="l" t="t" r="r" b="b"/>
            <a:pathLst>
              <a:path w="330" h="193">
                <a:moveTo>
                  <a:pt x="245" y="0"/>
                </a:moveTo>
                <a:lnTo>
                  <a:pt x="188" y="0"/>
                </a:lnTo>
                <a:lnTo>
                  <a:pt x="158" y="0"/>
                </a:lnTo>
                <a:lnTo>
                  <a:pt x="118" y="0"/>
                </a:lnTo>
                <a:lnTo>
                  <a:pt x="69" y="0"/>
                </a:lnTo>
                <a:lnTo>
                  <a:pt x="29" y="0"/>
                </a:lnTo>
                <a:lnTo>
                  <a:pt x="0" y="0"/>
                </a:lnTo>
                <a:lnTo>
                  <a:pt x="20" y="11"/>
                </a:lnTo>
                <a:lnTo>
                  <a:pt x="49" y="26"/>
                </a:lnTo>
                <a:lnTo>
                  <a:pt x="69" y="41"/>
                </a:lnTo>
                <a:lnTo>
                  <a:pt x="89" y="56"/>
                </a:lnTo>
                <a:lnTo>
                  <a:pt x="118" y="67"/>
                </a:lnTo>
                <a:lnTo>
                  <a:pt x="138" y="82"/>
                </a:lnTo>
                <a:lnTo>
                  <a:pt x="158" y="97"/>
                </a:lnTo>
                <a:lnTo>
                  <a:pt x="148" y="112"/>
                </a:lnTo>
                <a:lnTo>
                  <a:pt x="129" y="127"/>
                </a:lnTo>
                <a:lnTo>
                  <a:pt x="109" y="142"/>
                </a:lnTo>
                <a:lnTo>
                  <a:pt x="99" y="156"/>
                </a:lnTo>
                <a:lnTo>
                  <a:pt x="69" y="176"/>
                </a:lnTo>
                <a:lnTo>
                  <a:pt x="59" y="192"/>
                </a:lnTo>
                <a:lnTo>
                  <a:pt x="99" y="192"/>
                </a:lnTo>
                <a:lnTo>
                  <a:pt x="129" y="192"/>
                </a:lnTo>
                <a:lnTo>
                  <a:pt x="158" y="192"/>
                </a:lnTo>
                <a:lnTo>
                  <a:pt x="188" y="192"/>
                </a:lnTo>
                <a:lnTo>
                  <a:pt x="218" y="192"/>
                </a:lnTo>
                <a:lnTo>
                  <a:pt x="247" y="192"/>
                </a:lnTo>
                <a:lnTo>
                  <a:pt x="276" y="192"/>
                </a:lnTo>
                <a:lnTo>
                  <a:pt x="316" y="192"/>
                </a:lnTo>
                <a:lnTo>
                  <a:pt x="329" y="190"/>
                </a:lnTo>
              </a:path>
            </a:pathLst>
          </a:custGeom>
          <a:noFill/>
          <a:ln cap="rnd" w="507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05320" y="3200400"/>
            <a:ext cx="1218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2438280"/>
            <a:ext cx="609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2743200"/>
            <a:ext cx="24382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= c- 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2895480"/>
            <a:ext cx="1828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ject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3809880"/>
            <a:ext cx="48769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ll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447920" y="5410080"/>
            <a:ext cx="4267080" cy="1446840"/>
            <a:chOff x="1447920" y="5410080"/>
            <a:chExt cx="4267080" cy="1446840"/>
          </a:xfrm>
        </p:grpSpPr>
        <p:sp>
          <p:nvSpPr>
            <p:cNvPr id="129" name=""/>
            <p:cNvSpPr/>
            <p:nvPr/>
          </p:nvSpPr>
          <p:spPr>
            <a:xfrm>
              <a:off x="1447920" y="6276960"/>
              <a:ext cx="1218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 = 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35040" y="6048360"/>
              <a:ext cx="523800" cy="306360"/>
            </a:xfrm>
            <a:custGeom>
              <a:avLst/>
              <a:gdLst/>
              <a:ahLst/>
              <a:rect l="l" t="t" r="r" b="b"/>
              <a:pathLst>
                <a:path w="330" h="193">
                  <a:moveTo>
                    <a:pt x="245" y="0"/>
                  </a:moveTo>
                  <a:lnTo>
                    <a:pt x="188" y="0"/>
                  </a:lnTo>
                  <a:lnTo>
                    <a:pt x="158" y="0"/>
                  </a:lnTo>
                  <a:lnTo>
                    <a:pt x="118" y="0"/>
                  </a:lnTo>
                  <a:lnTo>
                    <a:pt x="69" y="0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0" y="11"/>
                  </a:lnTo>
                  <a:lnTo>
                    <a:pt x="49" y="26"/>
                  </a:lnTo>
                  <a:lnTo>
                    <a:pt x="69" y="41"/>
                  </a:lnTo>
                  <a:lnTo>
                    <a:pt x="89" y="56"/>
                  </a:lnTo>
                  <a:lnTo>
                    <a:pt x="118" y="67"/>
                  </a:lnTo>
                  <a:lnTo>
                    <a:pt x="138" y="82"/>
                  </a:lnTo>
                  <a:lnTo>
                    <a:pt x="158" y="97"/>
                  </a:lnTo>
                  <a:lnTo>
                    <a:pt x="148" y="112"/>
                  </a:lnTo>
                  <a:lnTo>
                    <a:pt x="129" y="127"/>
                  </a:lnTo>
                  <a:lnTo>
                    <a:pt x="109" y="142"/>
                  </a:lnTo>
                  <a:lnTo>
                    <a:pt x="99" y="156"/>
                  </a:lnTo>
                  <a:lnTo>
                    <a:pt x="69" y="176"/>
                  </a:lnTo>
                  <a:lnTo>
                    <a:pt x="59" y="192"/>
                  </a:lnTo>
                  <a:lnTo>
                    <a:pt x="99" y="192"/>
                  </a:lnTo>
                  <a:lnTo>
                    <a:pt x="129" y="192"/>
                  </a:lnTo>
                  <a:lnTo>
                    <a:pt x="158" y="192"/>
                  </a:lnTo>
                  <a:lnTo>
                    <a:pt x="188" y="192"/>
                  </a:lnTo>
                  <a:lnTo>
                    <a:pt x="218" y="192"/>
                  </a:lnTo>
                  <a:lnTo>
                    <a:pt x="247" y="192"/>
                  </a:lnTo>
                  <a:lnTo>
                    <a:pt x="276" y="192"/>
                  </a:lnTo>
                  <a:lnTo>
                    <a:pt x="316" y="192"/>
                  </a:lnTo>
                  <a:lnTo>
                    <a:pt x="329" y="190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23880" y="5514840"/>
              <a:ext cx="609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62320" y="5819760"/>
              <a:ext cx="152388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p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 b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     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73680" y="5943600"/>
              <a:ext cx="523800" cy="306360"/>
            </a:xfrm>
            <a:custGeom>
              <a:avLst/>
              <a:gdLst/>
              <a:ahLst/>
              <a:rect l="l" t="t" r="r" b="b"/>
              <a:pathLst>
                <a:path w="330" h="193">
                  <a:moveTo>
                    <a:pt x="245" y="0"/>
                  </a:moveTo>
                  <a:lnTo>
                    <a:pt x="188" y="0"/>
                  </a:lnTo>
                  <a:lnTo>
                    <a:pt x="158" y="0"/>
                  </a:lnTo>
                  <a:lnTo>
                    <a:pt x="118" y="0"/>
                  </a:lnTo>
                  <a:lnTo>
                    <a:pt x="69" y="0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0" y="11"/>
                  </a:lnTo>
                  <a:lnTo>
                    <a:pt x="49" y="26"/>
                  </a:lnTo>
                  <a:lnTo>
                    <a:pt x="69" y="41"/>
                  </a:lnTo>
                  <a:lnTo>
                    <a:pt x="89" y="56"/>
                  </a:lnTo>
                  <a:lnTo>
                    <a:pt x="118" y="67"/>
                  </a:lnTo>
                  <a:lnTo>
                    <a:pt x="138" y="82"/>
                  </a:lnTo>
                  <a:lnTo>
                    <a:pt x="158" y="97"/>
                  </a:lnTo>
                  <a:lnTo>
                    <a:pt x="148" y="112"/>
                  </a:lnTo>
                  <a:lnTo>
                    <a:pt x="129" y="127"/>
                  </a:lnTo>
                  <a:lnTo>
                    <a:pt x="109" y="142"/>
                  </a:lnTo>
                  <a:lnTo>
                    <a:pt x="99" y="156"/>
                  </a:lnTo>
                  <a:lnTo>
                    <a:pt x="69" y="176"/>
                  </a:lnTo>
                  <a:lnTo>
                    <a:pt x="59" y="192"/>
                  </a:lnTo>
                  <a:lnTo>
                    <a:pt x="99" y="192"/>
                  </a:lnTo>
                  <a:lnTo>
                    <a:pt x="129" y="192"/>
                  </a:lnTo>
                  <a:lnTo>
                    <a:pt x="158" y="192"/>
                  </a:lnTo>
                  <a:lnTo>
                    <a:pt x="188" y="192"/>
                  </a:lnTo>
                  <a:lnTo>
                    <a:pt x="218" y="192"/>
                  </a:lnTo>
                  <a:lnTo>
                    <a:pt x="247" y="192"/>
                  </a:lnTo>
                  <a:lnTo>
                    <a:pt x="276" y="192"/>
                  </a:lnTo>
                  <a:lnTo>
                    <a:pt x="316" y="192"/>
                  </a:lnTo>
                  <a:lnTo>
                    <a:pt x="329" y="190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86200" y="6172200"/>
              <a:ext cx="1219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 = 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5410080"/>
              <a:ext cx="609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00600" y="5715000"/>
              <a:ext cx="91440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p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 a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7" name="hiker" descr=""/>
          <p:cNvPicPr/>
          <p:nvPr/>
        </p:nvPicPr>
        <p:blipFill>
          <a:blip r:embed="rId1"/>
          <a:stretch/>
        </p:blipFill>
        <p:spPr>
          <a:xfrm>
            <a:off x="7848720" y="533520"/>
            <a:ext cx="6285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Times New Roman"/>
              </a:rPr>
              <a:t>1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= a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Times New Roman"/>
              </a:rPr>
              <a:t>1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= 1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b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b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b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better solution to the original instance than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not be an optimal solution … a contradiction with the assumption that it is optim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ker" descr=""/>
          <p:cNvPicPr/>
          <p:nvPr/>
        </p:nvPicPr>
        <p:blipFill>
          <a:blip r:embed="rId1"/>
          <a:stretch/>
        </p:blipFill>
        <p:spPr>
          <a:xfrm>
            <a:off x="7848720" y="533520"/>
            <a:ext cx="62856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no matter what the first decision, the remaining decisions are optimal with respect to the state that results from this deci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inciple of optimal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olds and dynamic programming may be appl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hiker" descr=""/>
          <p:cNvPicPr/>
          <p:nvPr/>
        </p:nvPicPr>
        <p:blipFill>
          <a:blip r:embed="rId1"/>
          <a:stretch/>
        </p:blipFill>
        <p:spPr>
          <a:xfrm>
            <a:off x="7848720" y="533520"/>
            <a:ext cx="62856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ynamic Programming Recurre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(i,y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the profit value of the optimal solution to the knapsack instance defined by the stat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i,y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s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avai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capacity is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time being assume that we wish to determine only the value of the best 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r we will worry about determining the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that yield this maximum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 this assumption, our task is to determin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(1,c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ynamic Programming Recurre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n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value of the optimal solution to the knapsack instance defined by the sta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n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it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vail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ilable capacity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&lt;= 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n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&gt; 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n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ynamic Programming Recurre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&lt;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i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value of the optimal solution to the knapsack instance defined by the sta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i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m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ugh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avail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ilable capacity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in the optimal solution for the sta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i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first decision is to s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principle of optimality (we have shown that this principle holds for the knapsack problem), it follows tha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i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f(i+1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ynamic Programming Recurre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nly other possibility for 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 decision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as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arise only whe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y &gt;= 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principle of optimality, it follows tha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i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f(i+1,y-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+ 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the two cases, we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(i,y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f(i+1,y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ever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y &lt;  w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(i,y) = max{f(i+1,y), f(i+1,y-w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 + p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y &gt;= w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equence Of Decis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in the greedy method, the solution to a problem is viewed as the result of a sequence of deci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like the greedy method, decisions are not made in a greedy and binding mann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cursive Co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3452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/** @return f(i,y) *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ivate static 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,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i == n)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tur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y &lt; w[n]) ? 0 : p[n];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y &lt; w[i])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(i + 1, y);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h.max(f(i + 1, y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(i + 1, y - w[i]) + p[i]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cursion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0" y="2133720"/>
            <a:ext cx="9144000" cy="4470840"/>
            <a:chOff x="0" y="2133720"/>
            <a:chExt cx="9144000" cy="4470840"/>
          </a:xfrm>
        </p:grpSpPr>
        <p:sp>
          <p:nvSpPr>
            <p:cNvPr id="157" name=""/>
            <p:cNvSpPr/>
            <p:nvPr/>
          </p:nvSpPr>
          <p:spPr>
            <a:xfrm>
              <a:off x="4038480" y="2133720"/>
              <a:ext cx="1295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1,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23880" y="3048120"/>
              <a:ext cx="1295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2,c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752120" y="2590920"/>
              <a:ext cx="2590920" cy="533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19920" y="3048120"/>
              <a:ext cx="183024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2,c-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48320" y="2590920"/>
              <a:ext cx="2590560" cy="533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294920" y="3505320"/>
              <a:ext cx="685800" cy="533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14600" y="3962520"/>
              <a:ext cx="18288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86000" y="3505320"/>
              <a:ext cx="914400" cy="533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762120" y="4419720"/>
              <a:ext cx="45720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23880" y="4419720"/>
              <a:ext cx="30492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380520" y="5257800"/>
              <a:ext cx="30492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2120" y="5334120"/>
              <a:ext cx="228600" cy="304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523520" y="5257800"/>
              <a:ext cx="38124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81080" y="5334120"/>
              <a:ext cx="304920" cy="304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971800" y="4419720"/>
              <a:ext cx="380880" cy="533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81280" y="4419720"/>
              <a:ext cx="38124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819520" y="5257800"/>
              <a:ext cx="30456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24080" y="5334120"/>
              <a:ext cx="304920" cy="304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5562360" y="3505320"/>
              <a:ext cx="990360" cy="533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7400" y="3962520"/>
              <a:ext cx="1755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781680" y="3505320"/>
              <a:ext cx="990720" cy="533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4952880" y="4419720"/>
              <a:ext cx="45720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38680" y="4495680"/>
              <a:ext cx="30492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4648320" y="5257800"/>
              <a:ext cx="45720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81480" y="5334120"/>
              <a:ext cx="304920" cy="304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7315200" y="4419720"/>
              <a:ext cx="53352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001000" y="4495680"/>
              <a:ext cx="45720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6781320" y="5257800"/>
              <a:ext cx="38124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38880" y="5334120"/>
              <a:ext cx="381240" cy="304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38080" y="3886200"/>
              <a:ext cx="1295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3,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66880" y="3962520"/>
              <a:ext cx="18306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3,c-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24280" y="3962520"/>
              <a:ext cx="18306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3,c-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81680" y="3962520"/>
              <a:ext cx="23623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3,c-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1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–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" y="4800600"/>
              <a:ext cx="914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4,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90720" y="4800600"/>
              <a:ext cx="18302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4,c-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09680" y="4800600"/>
              <a:ext cx="12956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4,c-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0" y="5638680"/>
              <a:ext cx="914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5,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5638320" y="5181480"/>
              <a:ext cx="30492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95880" y="5257800"/>
              <a:ext cx="304920" cy="914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8077320" y="5181480"/>
              <a:ext cx="38088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534520" y="5257800"/>
              <a:ext cx="38088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3809520" y="5334120"/>
              <a:ext cx="30492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91120" y="5334120"/>
              <a:ext cx="304560" cy="304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81480" y="4800600"/>
              <a:ext cx="23623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4,c-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1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–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10080" y="6095880"/>
              <a:ext cx="23623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5,c-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1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–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3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–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he time required when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s are avail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0) = t(1) =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con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 &gt;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&lt;= 2t(n-1) +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con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= O(2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CLOCK43" descr=""/>
          <p:cNvPicPr/>
          <p:nvPr/>
        </p:nvPicPr>
        <p:blipFill>
          <a:blip r:embed="rId1"/>
          <a:stretch/>
        </p:blipFill>
        <p:spPr>
          <a:xfrm>
            <a:off x="7543800" y="228600"/>
            <a:ext cx="468360" cy="960480"/>
          </a:xfrm>
          <a:prstGeom prst="rect">
            <a:avLst/>
          </a:prstGeom>
          <a:ln w="0">
            <a:noFill/>
          </a:ln>
        </p:spPr>
      </p:pic>
      <p:grpSp>
        <p:nvGrpSpPr>
          <p:cNvPr id="205" name=""/>
          <p:cNvGrpSpPr/>
          <p:nvPr/>
        </p:nvGrpSpPr>
        <p:grpSpPr>
          <a:xfrm>
            <a:off x="304920" y="5486400"/>
            <a:ext cx="8839080" cy="1068840"/>
            <a:chOff x="304920" y="5486400"/>
            <a:chExt cx="8839080" cy="1068840"/>
          </a:xfrm>
        </p:grpSpPr>
        <p:sp>
          <p:nvSpPr>
            <p:cNvPr id="206" name=""/>
            <p:cNvSpPr/>
            <p:nvPr/>
          </p:nvSpPr>
          <p:spPr>
            <a:xfrm>
              <a:off x="304920" y="5486400"/>
              <a:ext cx="8839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olving dynamic programming recurrences recursively can be hazardous to run tim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7" name="ANIWARN" descr=""/>
            <p:cNvPicPr/>
            <p:nvPr/>
          </p:nvPicPr>
          <p:blipFill>
            <a:blip r:embed="rId2"/>
            <a:stretch/>
          </p:blipFill>
          <p:spPr>
            <a:xfrm>
              <a:off x="8153280" y="5638680"/>
              <a:ext cx="731880" cy="731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ducing Run Tim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621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runner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582480" cy="58284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0" y="2133720"/>
            <a:ext cx="9144000" cy="4470840"/>
            <a:chOff x="0" y="2133720"/>
            <a:chExt cx="9144000" cy="4470840"/>
          </a:xfrm>
        </p:grpSpPr>
        <p:sp>
          <p:nvSpPr>
            <p:cNvPr id="212" name=""/>
            <p:cNvSpPr/>
            <p:nvPr/>
          </p:nvSpPr>
          <p:spPr>
            <a:xfrm>
              <a:off x="4038480" y="2133720"/>
              <a:ext cx="1295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1,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523880" y="3048120"/>
              <a:ext cx="1295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2,c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1752120" y="2590920"/>
              <a:ext cx="2590920" cy="533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19920" y="3048120"/>
              <a:ext cx="183024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2,c-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648320" y="2590920"/>
              <a:ext cx="2590560" cy="533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1294920" y="3505320"/>
              <a:ext cx="685800" cy="533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14600" y="3962520"/>
              <a:ext cx="18288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286000" y="3505320"/>
              <a:ext cx="914400" cy="533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762120" y="4419720"/>
              <a:ext cx="45720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23880" y="4419720"/>
              <a:ext cx="30492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380520" y="5257800"/>
              <a:ext cx="30492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62120" y="5334120"/>
              <a:ext cx="228600" cy="304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523520" y="5257800"/>
              <a:ext cx="38124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981080" y="5334120"/>
              <a:ext cx="304920" cy="304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2971800" y="4419720"/>
              <a:ext cx="380880" cy="533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81280" y="4419720"/>
              <a:ext cx="38124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2819520" y="5257800"/>
              <a:ext cx="30456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24080" y="5334120"/>
              <a:ext cx="304920" cy="304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5562360" y="3505320"/>
              <a:ext cx="990360" cy="533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07400" y="3962520"/>
              <a:ext cx="1755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81680" y="3505320"/>
              <a:ext cx="990720" cy="533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4952880" y="4419720"/>
              <a:ext cx="45720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38680" y="4495680"/>
              <a:ext cx="30492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4648320" y="5257800"/>
              <a:ext cx="45720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81480" y="5334120"/>
              <a:ext cx="304920" cy="304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7315200" y="4419720"/>
              <a:ext cx="53352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001000" y="4495680"/>
              <a:ext cx="45720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6781320" y="5257800"/>
              <a:ext cx="38124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238880" y="5334120"/>
              <a:ext cx="381240" cy="304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38080" y="3886200"/>
              <a:ext cx="1295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3,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66880" y="3962520"/>
              <a:ext cx="18306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3,c-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724280" y="3962520"/>
              <a:ext cx="18306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3,c-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781680" y="3962520"/>
              <a:ext cx="23623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3,c-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1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–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8600" y="4800600"/>
              <a:ext cx="914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4,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990720" y="4800600"/>
              <a:ext cx="18302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4,c-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9680" y="4800600"/>
              <a:ext cx="12956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4,c-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0" y="5638680"/>
              <a:ext cx="914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5,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5638320" y="5181480"/>
              <a:ext cx="30492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95880" y="5257800"/>
              <a:ext cx="304920" cy="914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8077320" y="5181480"/>
              <a:ext cx="38088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534520" y="5257800"/>
              <a:ext cx="38088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3809520" y="5334120"/>
              <a:ext cx="30492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91120" y="5334120"/>
              <a:ext cx="304560" cy="304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81480" y="4800600"/>
              <a:ext cx="23623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4,c-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1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–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10080" y="6095880"/>
              <a:ext cx="23623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5,c-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1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–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3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–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recursion tree has up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i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each such node a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f(i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mput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nodes may compute the sam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i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save time by not recomputing already compute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i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 compute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i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in a diction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i, y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(i, y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computed recursively only when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(i,y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not in the diction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, the dictionary value is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CLOCK43" descr=""/>
          <p:cNvPicPr/>
          <p:nvPr/>
        </p:nvPicPr>
        <p:blipFill>
          <a:blip r:embed="rId1"/>
          <a:stretch/>
        </p:blipFill>
        <p:spPr>
          <a:xfrm>
            <a:off x="7543800" y="228600"/>
            <a:ext cx="468360" cy="96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teger We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that each weight is an inte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knapsack capacit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also be assumed to be an inte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i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&lt;= i &lt;= 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&lt;= y &lt;=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of inter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though level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recursion tree has up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i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s, at mo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+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 differen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i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teger Weights Dictionar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n arra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Array[][]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he diction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Array[1:n][0:c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Array[i][y] = -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(i,y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t yet compu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nitialization is done before the recursive method is invok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itialization take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c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o Recomputation Co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3452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ivate static 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,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fArray[i][y] &gt;= 0)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tur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rray[i][y]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i == n)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rray[i][y] =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y &lt; w[n]) ? 0 : p[n]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                 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Array[i][y];}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y &lt; w[i]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rray[i][y]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(i + 1, y);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rray[i][y]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h.max(f(i + 1, y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(i + 1, y - w[i]) + p[i]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tur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rray[i][y]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CANDLE09" descr=""/>
          <p:cNvPicPr/>
          <p:nvPr/>
        </p:nvPicPr>
        <p:blipFill>
          <a:blip r:embed="rId1"/>
          <a:stretch/>
        </p:blipFill>
        <p:spPr>
          <a:xfrm>
            <a:off x="8077320" y="228600"/>
            <a:ext cx="54900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= O(c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sis done in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m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ive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1010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10010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100032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6327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[10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50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=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n = 30303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CLOCK43" descr=""/>
          <p:cNvPicPr/>
          <p:nvPr/>
        </p:nvPicPr>
        <p:blipFill>
          <a:blip r:embed="rId1"/>
          <a:stretch/>
        </p:blipFill>
        <p:spPr>
          <a:xfrm>
            <a:off x="7620120" y="30492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7000"/>
          </a:bodyPr>
          <a:p>
            <a:pPr marL="229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ite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selected and 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ite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ot sel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68760" y="3200400"/>
            <a:ext cx="523800" cy="306360"/>
          </a:xfrm>
          <a:custGeom>
            <a:avLst/>
            <a:gdLst/>
            <a:ahLst/>
            <a:rect l="l" t="t" r="r" b="b"/>
            <a:pathLst>
              <a:path w="330" h="193">
                <a:moveTo>
                  <a:pt x="245" y="0"/>
                </a:moveTo>
                <a:lnTo>
                  <a:pt x="188" y="0"/>
                </a:lnTo>
                <a:lnTo>
                  <a:pt x="158" y="0"/>
                </a:lnTo>
                <a:lnTo>
                  <a:pt x="118" y="0"/>
                </a:lnTo>
                <a:lnTo>
                  <a:pt x="69" y="0"/>
                </a:lnTo>
                <a:lnTo>
                  <a:pt x="29" y="0"/>
                </a:lnTo>
                <a:lnTo>
                  <a:pt x="0" y="0"/>
                </a:lnTo>
                <a:lnTo>
                  <a:pt x="20" y="11"/>
                </a:lnTo>
                <a:lnTo>
                  <a:pt x="49" y="26"/>
                </a:lnTo>
                <a:lnTo>
                  <a:pt x="69" y="41"/>
                </a:lnTo>
                <a:lnTo>
                  <a:pt x="89" y="56"/>
                </a:lnTo>
                <a:lnTo>
                  <a:pt x="118" y="67"/>
                </a:lnTo>
                <a:lnTo>
                  <a:pt x="138" y="82"/>
                </a:lnTo>
                <a:lnTo>
                  <a:pt x="158" y="97"/>
                </a:lnTo>
                <a:lnTo>
                  <a:pt x="148" y="112"/>
                </a:lnTo>
                <a:lnTo>
                  <a:pt x="129" y="127"/>
                </a:lnTo>
                <a:lnTo>
                  <a:pt x="109" y="142"/>
                </a:lnTo>
                <a:lnTo>
                  <a:pt x="99" y="156"/>
                </a:lnTo>
                <a:lnTo>
                  <a:pt x="69" y="176"/>
                </a:lnTo>
                <a:lnTo>
                  <a:pt x="59" y="192"/>
                </a:lnTo>
                <a:lnTo>
                  <a:pt x="99" y="192"/>
                </a:lnTo>
                <a:lnTo>
                  <a:pt x="129" y="192"/>
                </a:lnTo>
                <a:lnTo>
                  <a:pt x="158" y="192"/>
                </a:lnTo>
                <a:lnTo>
                  <a:pt x="188" y="192"/>
                </a:lnTo>
                <a:lnTo>
                  <a:pt x="218" y="192"/>
                </a:lnTo>
                <a:lnTo>
                  <a:pt x="247" y="192"/>
                </a:lnTo>
                <a:lnTo>
                  <a:pt x="276" y="192"/>
                </a:lnTo>
                <a:lnTo>
                  <a:pt x="316" y="192"/>
                </a:lnTo>
                <a:lnTo>
                  <a:pt x="329" y="190"/>
                </a:lnTo>
              </a:path>
            </a:pathLst>
          </a:custGeom>
          <a:noFill/>
          <a:ln cap="rnd" w="507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429000"/>
            <a:ext cx="1219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2666880"/>
            <a:ext cx="60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2971800"/>
            <a:ext cx="167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3124080"/>
            <a:ext cx="1981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92440" y="4495680"/>
            <a:ext cx="523800" cy="306360"/>
          </a:xfrm>
          <a:custGeom>
            <a:avLst/>
            <a:gdLst/>
            <a:ahLst/>
            <a:rect l="l" t="t" r="r" b="b"/>
            <a:pathLst>
              <a:path w="330" h="193">
                <a:moveTo>
                  <a:pt x="245" y="0"/>
                </a:moveTo>
                <a:lnTo>
                  <a:pt x="188" y="0"/>
                </a:lnTo>
                <a:lnTo>
                  <a:pt x="158" y="0"/>
                </a:lnTo>
                <a:lnTo>
                  <a:pt x="118" y="0"/>
                </a:lnTo>
                <a:lnTo>
                  <a:pt x="69" y="0"/>
                </a:lnTo>
                <a:lnTo>
                  <a:pt x="29" y="0"/>
                </a:lnTo>
                <a:lnTo>
                  <a:pt x="0" y="0"/>
                </a:lnTo>
                <a:lnTo>
                  <a:pt x="20" y="11"/>
                </a:lnTo>
                <a:lnTo>
                  <a:pt x="49" y="26"/>
                </a:lnTo>
                <a:lnTo>
                  <a:pt x="69" y="41"/>
                </a:lnTo>
                <a:lnTo>
                  <a:pt x="89" y="56"/>
                </a:lnTo>
                <a:lnTo>
                  <a:pt x="118" y="67"/>
                </a:lnTo>
                <a:lnTo>
                  <a:pt x="138" y="82"/>
                </a:lnTo>
                <a:lnTo>
                  <a:pt x="158" y="97"/>
                </a:lnTo>
                <a:lnTo>
                  <a:pt x="148" y="112"/>
                </a:lnTo>
                <a:lnTo>
                  <a:pt x="129" y="127"/>
                </a:lnTo>
                <a:lnTo>
                  <a:pt x="109" y="142"/>
                </a:lnTo>
                <a:lnTo>
                  <a:pt x="99" y="156"/>
                </a:lnTo>
                <a:lnTo>
                  <a:pt x="69" y="176"/>
                </a:lnTo>
                <a:lnTo>
                  <a:pt x="59" y="192"/>
                </a:lnTo>
                <a:lnTo>
                  <a:pt x="99" y="192"/>
                </a:lnTo>
                <a:lnTo>
                  <a:pt x="129" y="192"/>
                </a:lnTo>
                <a:lnTo>
                  <a:pt x="158" y="192"/>
                </a:lnTo>
                <a:lnTo>
                  <a:pt x="188" y="192"/>
                </a:lnTo>
                <a:lnTo>
                  <a:pt x="218" y="192"/>
                </a:lnTo>
                <a:lnTo>
                  <a:pt x="247" y="192"/>
                </a:lnTo>
                <a:lnTo>
                  <a:pt x="276" y="192"/>
                </a:lnTo>
                <a:lnTo>
                  <a:pt x="316" y="192"/>
                </a:lnTo>
                <a:lnTo>
                  <a:pt x="329" y="190"/>
                </a:lnTo>
              </a:path>
            </a:pathLst>
          </a:custGeom>
          <a:noFill/>
          <a:ln cap="rnd" w="507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05320" y="4724280"/>
            <a:ext cx="1218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81280" y="3962520"/>
            <a:ext cx="609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4267080"/>
            <a:ext cx="24382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=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52480" y="4419720"/>
            <a:ext cx="1828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ject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5334120"/>
            <a:ext cx="48769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ll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6019920"/>
            <a:ext cx="6781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All profits and weights are posi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hiker" descr=""/>
          <p:cNvPicPr/>
          <p:nvPr/>
        </p:nvPicPr>
        <p:blipFill>
          <a:blip r:embed="rId1"/>
          <a:stretch/>
        </p:blipFill>
        <p:spPr>
          <a:xfrm>
            <a:off x="7848720" y="533520"/>
            <a:ext cx="6285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equence Of Decis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de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s in the ord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de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s in the ord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de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s in the ord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-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any other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DECISION" descr=""/>
          <p:cNvPicPr/>
          <p:nvPr/>
        </p:nvPicPr>
        <p:blipFill>
          <a:blip r:embed="rId1"/>
          <a:stretch/>
        </p:blipFill>
        <p:spPr>
          <a:xfrm>
            <a:off x="7391520" y="5335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oblem Sta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ate of the 0/1 knapsack problem is given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ights and profits of the available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apacity of the knaps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decision on one of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s is made, the problem state chan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m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no longer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maining knapsack capacity may be 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oblem Sta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at decisions are ma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order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itial state of the problem is described by the pair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1, c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s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available (the weights, profits and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implici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vailable knapsack capacity is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the first decision the state becomes one of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2, 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when the decision is to set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=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2, c-w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when the decision is to set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=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oblem Sta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at decisions are ma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order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n-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itial state of the problem is described by the pair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n, c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s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available (the weights, profits and first item index are implici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vailable knapsack capacity is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the first decision the state becomes one of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n-1, 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when the decision is to set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=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n-1, c-w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when the decision is to set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=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inciple Of Optimal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ptimal solution satisfies the following propert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tter what the first decision, the remaining decisions are optimal with respect to the state that results from this dec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80880" y="3962520"/>
            <a:ext cx="8763120" cy="1911960"/>
            <a:chOff x="380880" y="3962520"/>
            <a:chExt cx="8763120" cy="1911960"/>
          </a:xfrm>
        </p:grpSpPr>
        <p:pic>
          <p:nvPicPr>
            <p:cNvPr id="81" name="RED-BLIN" descr=""/>
            <p:cNvPicPr/>
            <p:nvPr/>
          </p:nvPicPr>
          <p:blipFill>
            <a:blip r:embed="rId1"/>
            <a:stretch/>
          </p:blipFill>
          <p:spPr>
            <a:xfrm>
              <a:off x="6248520" y="4724280"/>
              <a:ext cx="320400" cy="3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380880" y="3962520"/>
              <a:ext cx="8763120" cy="191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buClr>
                  <a:srgbClr val="0000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ynamic programming may be used only wh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he principle of optimality hold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decisions are ma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he ord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n optimal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follow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first decision the state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2, c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be an optimal solution to the knapsack instance given by the sta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2,c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hiker" descr=""/>
          <p:cNvPicPr/>
          <p:nvPr/>
        </p:nvPicPr>
        <p:blipFill>
          <a:blip r:embed="rId1"/>
          <a:stretch/>
        </p:blipFill>
        <p:spPr>
          <a:xfrm>
            <a:off x="7848720" y="228600"/>
            <a:ext cx="6285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23T17:00:48Z</cp:lastPrinted>
  <dcterms:modified xsi:type="dcterms:W3CDTF">2004-08-05T17:37:11Z</dcterms:modified>
  <cp:revision>176</cp:revision>
  <dc:subject/>
  <dc:title>Data Representation Methods</dc:title>
</cp:coreProperties>
</file>