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FFB428-2C9E-466B-8F16-1429628042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schedule is constructed by scheduling the jobs in the order they appear in the given job list (left to right); each job is scheduled on the machine on which it will complete earli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eight must be an integer, the precise expression for height is ceiling(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log</a:t>
            </a:r>
            <a:r>
              <a:rPr b="0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 (n+1)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80D-CB8B-4C84-AAAF-8EECFD51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3CE-9826-4313-92FE-6411F4C9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D70-CC65-4797-8EF5-A451DF7A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22E-CEE6-470B-962B-CCFCA461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56C-6B64-4D78-A0EE-EB2F2778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018-A768-40DC-83F6-046A9A25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575-1FD6-4B98-B730-CE154315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0AA-2C48-44C6-B220-D827662B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BA6-56DC-4487-925F-02F91E0E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3D3-B422-42FC-B4B8-8CE91380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875-CABF-4898-A78D-C11309DD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F70-2068-4FD4-BD20-357BEA8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772D-774E-4135-A48F-36C77989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ority Que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 of priority que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R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4857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SPOT-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485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Third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ourth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ifth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opera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ve max opera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rt methods of Chapte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max priority queue that is implemented as a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put operations are replaced by a heap initialization step tha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cal machines (drill press, cutter, sand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s/tasks to be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s to machines so that the time at which the last job completes is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time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, 2, 3, 5, 10, 7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343400"/>
            <a:ext cx="70102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181480"/>
            <a:ext cx="70102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6019920"/>
            <a:ext cx="701028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4520" y="41450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4880" y="4983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4880" y="582120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40080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2640" y="4121280"/>
            <a:ext cx="978120" cy="21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81168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2640" y="4959360"/>
            <a:ext cx="29232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6483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82640" y="5797440"/>
            <a:ext cx="44460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4100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959360"/>
            <a:ext cx="29232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6483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7560" y="4959360"/>
            <a:ext cx="90180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9840" y="5797440"/>
            <a:ext cx="212112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54100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73360" y="4121280"/>
            <a:ext cx="1587600" cy="21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38116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01960" y="4959360"/>
            <a:ext cx="295920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6483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time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bjectiv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nd schedules with minimum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2362320"/>
            <a:ext cx="70102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200400"/>
            <a:ext cx="70102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038480"/>
            <a:ext cx="701028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8200" y="21636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98560" y="300204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98560" y="3840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19112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6680" y="2139840"/>
            <a:ext cx="977760" cy="216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183024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6680" y="2978280"/>
            <a:ext cx="29196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6668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6680" y="3816360"/>
            <a:ext cx="44424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34290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6680" y="2978280"/>
            <a:ext cx="29196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66688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1240" y="2978280"/>
            <a:ext cx="9018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63880" y="3816360"/>
            <a:ext cx="212076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42900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7040" y="2139840"/>
            <a:ext cx="1587600" cy="216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183024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5640" y="2978280"/>
            <a:ext cx="29592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66688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ess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are scheduled in the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4, 10, 7, 6, 5, 3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, 10, 7, 6, 5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657600"/>
            <a:ext cx="67820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42900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4419720"/>
            <a:ext cx="67820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4760" y="4184640"/>
            <a:ext cx="393480" cy="39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5257800"/>
            <a:ext cx="678204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4760" y="5022720"/>
            <a:ext cx="393480" cy="39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4560" y="3359160"/>
            <a:ext cx="318780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297180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4560" y="4121280"/>
            <a:ext cx="21970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380988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4560" y="4959360"/>
            <a:ext cx="158760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6483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44760" y="4959360"/>
            <a:ext cx="158760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64832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54240" y="4121280"/>
            <a:ext cx="1511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380988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44960" y="4959360"/>
            <a:ext cx="12063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4960" y="3359160"/>
            <a:ext cx="128268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9718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867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time is 16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priority o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following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put an element into the priority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element with min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lement with min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LPT finish time is much closer to minimum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P-hard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mous class of problems for which no one has developed a polynomial 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no algorithm whos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consta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known for any NP-hard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includes thousands of real-worl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unlikely that any NP-hard problem can be solved by a polynomial 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P-hard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ven polynomial time algorithms with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ay) are not practical for lar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ust change our expectations of the algorithm that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develop fast heuristics for NP-har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hat gives a solution close to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in acceptable amount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is good heuristic for minimum finish tim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LPT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jobs into decreasing order of task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umber of jo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jobs in this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 to machine that becomes availabl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find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machines) finish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sing simpl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ne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schedule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 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priority queue has the finish times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finish times ar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chedule a job remove machine with minimum finish time from the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finish time of the selected machine and put the machine back into the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 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operations to initialize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t to schedule each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ut and remove min operation take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m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schedul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 + n log m) = O(n log (m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uffman C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in lossless com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used in conjunction with LZW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rom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Tree Defini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ee node has a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 any node is the minimum value in the subtree for which that node is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no descendent has a smaller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Tree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63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73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6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16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75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68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971800" y="24382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7080" y="243828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2096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116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45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02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8006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209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8862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39625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39625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minimum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Tree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63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73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16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116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75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68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971800" y="24382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243828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2096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16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5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02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006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209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38862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9625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39625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maximum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priority o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following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put an element into the priority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element wit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lement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Defini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240" y="21337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0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that is also a m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2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that is also a ma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5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ap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a heap is a complete binary tree, the height of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heap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371600" y="5280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2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94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66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638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210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82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354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98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70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64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214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786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358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50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74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69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197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60199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Heap Is Efficiently Represented As An Arra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41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ving Up And Down A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57200" y="1066680"/>
            <a:ext cx="7848720" cy="4207680"/>
            <a:chOff x="457200" y="1066680"/>
            <a:chExt cx="7848720" cy="4207680"/>
          </a:xfrm>
        </p:grpSpPr>
        <p:sp>
          <p:nvSpPr>
            <p:cNvPr id="447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5680" y="10666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19810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53080" y="19810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28195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6720" y="2895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76920" y="2895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24680" y="281952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200" y="4876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6520" y="4876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485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438280" y="3733920"/>
            <a:ext cx="526680" cy="1060200"/>
            <a:chOff x="2438280" y="3733920"/>
            <a:chExt cx="526680" cy="1060200"/>
          </a:xfrm>
        </p:grpSpPr>
        <p:sp>
          <p:nvSpPr>
            <p:cNvPr id="512" name=""/>
            <p:cNvSpPr/>
            <p:nvPr/>
          </p:nvSpPr>
          <p:spPr>
            <a:xfrm>
              <a:off x="24912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38280" y="43498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73636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371240" y="281952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3352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ood implementations are heaps and leftist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Empty, size, and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O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nd 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ize of the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Pu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heap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82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14600" y="4419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91120" y="1523880"/>
              <a:ext cx="83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57400" y="2514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24280" y="3733920"/>
            <a:ext cx="603000" cy="1136520"/>
            <a:chOff x="4724280" y="3733920"/>
            <a:chExt cx="603000" cy="1136520"/>
          </a:xfrm>
        </p:grpSpPr>
        <p:sp>
          <p:nvSpPr>
            <p:cNvPr id="855" name=""/>
            <p:cNvSpPr/>
            <p:nvPr/>
          </p:nvSpPr>
          <p:spPr>
            <a:xfrm>
              <a:off x="4724280" y="442620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5022360" y="373392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element is in the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86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4600" y="4419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91120" y="1523880"/>
              <a:ext cx="83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57400" y="2514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x elemen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lement key as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elements to be sorted into a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elements in priority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in priority queue is used, elements are extracted in ascending order of priority (or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ax priority queue is used, elements are extracted in descending order of priority (or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0f36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47920" y="60199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x elemen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0f36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91120" y="1447920"/>
            <a:ext cx="30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191120" y="1447920"/>
            <a:ext cx="30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33720" y="243828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954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five elements whose key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, 8, 2, 4,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 five elements into a max priority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fiv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max operations placing removed elements into the sorted array from right to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Remov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463680" y="1447920"/>
            <a:ext cx="7530840" cy="3346200"/>
            <a:chOff x="463680" y="1447920"/>
            <a:chExt cx="7530840" cy="3346200"/>
          </a:xfrm>
        </p:grpSpPr>
        <p:sp>
          <p:nvSpPr>
            <p:cNvPr id="1247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91120" y="1447920"/>
              <a:ext cx="304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33720" y="24382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954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Putting Into Max Priority Queu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528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552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irst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528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Second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28:13Z</dcterms:modified>
  <cp:revision>43</cp:revision>
  <dc:subject/>
  <dc:title>Data Representation Methods</dc:title>
</cp:coreProperties>
</file>