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3.gif" ContentType="image/gif"/>
  <Override PartName="/ppt/media/image5.gif" ContentType="image/gi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A8A0-367F-4710-B50A-1564DF2AF96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ins may be sorted or unsorted (the text uses sorted chai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ut that increases the number of pairs in the table involves an unsuccessful search followed by the addition of an element. An unsuccessful remove is essentially an unsuccessful search. A successful remove must also go to the end of the cluster and so is like an unsuccessful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0165-C6BF-4132-A510-EC937475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672C-0487-405A-BFC5-531DF6D3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48F7-4DD9-4387-B6AE-7B607036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9DD7-3A3C-4BC6-8967-D99EA1C7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33B7-F6EB-40BC-B96F-50D4BB2D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A015-4412-4C4A-9785-FD41EF06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D54C-9FF2-4F72-89BD-4137613A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6529-8BA7-4318-940C-325CA050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E8A8-DA5F-4528-897A-CD6CA8AD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4390-7DA7-4DE1-B609-DCF7057C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1018-FAA2-4861-8DA7-C934B4EF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8D7F-2FD5-44C1-BC06-B376B825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AA5D-F9B3-4C04-88A1-F4A207D57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verflow Handl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flow occurs when the home bucket for a new pai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key, elemen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fu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ay handle overflows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the hash table in some systematic fashion for a bucket that is not f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probing (linear open addressin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dratic pro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pro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 overflows by permitting each bucket to keep a list of all pairs for which it is the home buck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 linear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YELLOW-B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320400" cy="320760"/>
          </a:xfrm>
          <a:prstGeom prst="rect">
            <a:avLst/>
          </a:prstGeom>
          <a:ln w="0">
            <a:noFill/>
          </a:ln>
        </p:spPr>
      </p:pic>
      <p:pic>
        <p:nvPicPr>
          <p:cNvPr id="51" name="YELLOW-B" descr=""/>
          <p:cNvPicPr/>
          <p:nvPr/>
        </p:nvPicPr>
        <p:blipFill>
          <a:blip r:embed="rId2"/>
          <a:stretch/>
        </p:blipFill>
        <p:spPr>
          <a:xfrm>
            <a:off x="7162920" y="609480"/>
            <a:ext cx="32040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ash Table Desig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resizing of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ever loading density exceeds threshold 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/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our example), rehash into a table of approximately twice the current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 table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maximum number of pa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ore th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ing densit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4/5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b &gt;= 5/4*1000 = 12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ck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qual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ivi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be a prime number or an odd number with no prime divisors smaller th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38080" y="627840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near List Of Synonym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bucket keeps a linear list of all pairs for which it is the home bu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inear list may or may not be sorted by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inear list may be an array linear list or a ch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457200" y="1600200"/>
            <a:ext cx="28954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in pairs whose keys a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6, 12, 34, 29, 28, 11, 23, 7, 0, 33, 30, 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bucket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= key % 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57200" y="5335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orted Ch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343400" y="0"/>
            <a:ext cx="4260960" cy="6553080"/>
            <a:chOff x="4343400" y="0"/>
            <a:chExt cx="4260960" cy="6553080"/>
          </a:xfrm>
        </p:grpSpPr>
        <p:sp>
          <p:nvSpPr>
            <p:cNvPr id="613" name=""/>
            <p:cNvSpPr/>
            <p:nvPr/>
          </p:nvSpPr>
          <p:spPr>
            <a:xfrm>
              <a:off x="5035680" y="824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035680" y="4636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35680" y="844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35680" y="12254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35680" y="16066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495680" y="0"/>
              <a:ext cx="609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419720" y="15238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21480" y="82440"/>
              <a:ext cx="44424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78680" y="82440"/>
              <a:ext cx="29196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711840" y="82440"/>
              <a:ext cx="44460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169040" y="82440"/>
              <a:ext cx="29232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81480" y="2286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324480" y="2286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035680" y="1987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035680" y="23684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035680" y="27496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35680" y="3130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035680" y="35114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495680" y="3048120"/>
              <a:ext cx="609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8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21480" y="2368440"/>
              <a:ext cx="44424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78680" y="2368440"/>
              <a:ext cx="29196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11840" y="2368440"/>
              <a:ext cx="44460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169040" y="2368440"/>
              <a:ext cx="29232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1480" y="25146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324480" y="25146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721480" y="2749680"/>
              <a:ext cx="44424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178680" y="274968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181480" y="28954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035680" y="38307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35680" y="42116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721480" y="4211640"/>
              <a:ext cx="44424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181480" y="43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78680" y="421164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711840" y="4211640"/>
              <a:ext cx="44460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169040" y="421164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324480" y="43578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854840" y="4211640"/>
              <a:ext cx="44460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12040" y="4211640"/>
              <a:ext cx="29232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315200" y="43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35680" y="459252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35680" y="49737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35680" y="53546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35680" y="573552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035680" y="61167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343400" y="4495680"/>
              <a:ext cx="990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12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343400" y="6033960"/>
              <a:ext cx="914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16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721480" y="4578480"/>
              <a:ext cx="44424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178680" y="45784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711840" y="4578480"/>
              <a:ext cx="44460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169040" y="4578480"/>
              <a:ext cx="29232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81480" y="4724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324480" y="47242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721480" y="4973760"/>
              <a:ext cx="44424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178680" y="4973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81480" y="51195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721480" y="6116760"/>
              <a:ext cx="44424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81480" y="62625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178680" y="6116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715000" y="4495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791320" y="22860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705720" y="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705720" y="4495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70572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71500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705720" y="22860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791320" y="2666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91320" y="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715000" y="60199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715000" y="48769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84872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pected Performa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160" y="243792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lpha &gt;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ed chain leng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lph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~ 1 + alpha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&lt;= alph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lpha &lt;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~ 1 + alpha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lpha &gt;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ROBOT" descr=""/>
          <p:cNvPicPr/>
          <p:nvPr/>
        </p:nvPicPr>
        <p:blipFill>
          <a:blip r:embed="rId1"/>
          <a:stretch/>
        </p:blipFill>
        <p:spPr>
          <a:xfrm>
            <a:off x="7772400" y="304920"/>
            <a:ext cx="960480" cy="18856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838080" y="627840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java.util.Hashtab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orted ch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initia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= divisor = 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lpha &lt;= 0.7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loading density exceeds max permissible density, rehash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ewB = 2b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JAVA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56052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near Probing – Get And Pu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ivisor = 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umber of buckets)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= 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ome bucket = key % 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85800" y="3048120"/>
            <a:ext cx="7772400" cy="838080"/>
            <a:chOff x="685800" y="3048120"/>
            <a:chExt cx="7772400" cy="838080"/>
          </a:xfrm>
        </p:grpSpPr>
        <p:sp>
          <p:nvSpPr>
            <p:cNvPr id="55" name=""/>
            <p:cNvSpPr/>
            <p:nvPr/>
          </p:nvSpPr>
          <p:spPr>
            <a:xfrm>
              <a:off x="6858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30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002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574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146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718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290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862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3434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006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578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150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722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294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866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438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0010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1760" y="30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14600" y="30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3400" y="30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72200" y="3048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9246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572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in pairs whose keys a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6, 12, 34, 29, 28, 11, 23, 7, 0, 33, 30, 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2900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660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0100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near Probing – Remov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28195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move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85800" y="1600200"/>
            <a:ext cx="7848720" cy="840600"/>
            <a:chOff x="685800" y="1600200"/>
            <a:chExt cx="7848720" cy="840600"/>
          </a:xfrm>
        </p:grpSpPr>
        <p:grpSp>
          <p:nvGrpSpPr>
            <p:cNvPr id="93" name=""/>
            <p:cNvGrpSpPr/>
            <p:nvPr/>
          </p:nvGrpSpPr>
          <p:grpSpPr>
            <a:xfrm>
              <a:off x="685800" y="1600200"/>
              <a:ext cx="7772400" cy="838080"/>
              <a:chOff x="685800" y="1600200"/>
              <a:chExt cx="7772400" cy="838080"/>
            </a:xfrm>
          </p:grpSpPr>
          <p:sp>
            <p:nvSpPr>
              <p:cNvPr id="94" name=""/>
              <p:cNvSpPr/>
              <p:nvPr/>
            </p:nvSpPr>
            <p:spPr>
              <a:xfrm>
                <a:off x="6858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430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6002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0574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146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9718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4290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862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434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8006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2578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7150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1722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6294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866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5438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0010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1760" y="16002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14600" y="16002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343400" y="16002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72200" y="16002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924680" y="16002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342900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9588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294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5800" y="1981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150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866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1981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1972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1932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010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438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00200" y="1981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09480" y="3581280"/>
            <a:ext cx="7848720" cy="840960"/>
            <a:chOff x="609480" y="3581280"/>
            <a:chExt cx="7848720" cy="840960"/>
          </a:xfrm>
        </p:grpSpPr>
        <p:sp>
          <p:nvSpPr>
            <p:cNvPr id="129" name=""/>
            <p:cNvSpPr/>
            <p:nvPr/>
          </p:nvSpPr>
          <p:spPr>
            <a:xfrm>
              <a:off x="6094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6680" y="4038480"/>
              <a:ext cx="457200" cy="381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38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810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82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526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98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814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386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958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530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102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674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246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3828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6708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95880" y="3581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48720" y="3581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52680" y="3962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19920" y="3962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530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9480" y="3962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386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102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9880" y="3962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43400" y="3962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238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246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80880" y="4876920"/>
            <a:ext cx="78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cluster for pair (if any) to fill vacated buck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9480" y="5638680"/>
            <a:ext cx="7848720" cy="840960"/>
            <a:chOff x="609480" y="5638680"/>
            <a:chExt cx="7848720" cy="840960"/>
          </a:xfrm>
        </p:grpSpPr>
        <p:sp>
          <p:nvSpPr>
            <p:cNvPr id="164" name=""/>
            <p:cNvSpPr/>
            <p:nvPr/>
          </p:nvSpPr>
          <p:spPr>
            <a:xfrm>
              <a:off x="6094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666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23880" y="6095880"/>
              <a:ext cx="457200" cy="381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810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382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954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526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098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670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242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814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386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958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530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102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674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246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580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3828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6708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5880" y="5638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48720" y="5638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52680" y="6019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19920" y="6019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53080" y="6019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480" y="60199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6019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10280" y="6019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09880" y="60199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43400" y="6019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66680" y="6019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924680" y="6019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67480" y="6019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near Probing – remove(34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30477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cluster for pair (if any) to fill vacated bu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85800" y="990720"/>
            <a:ext cx="7848720" cy="840600"/>
            <a:chOff x="685800" y="990720"/>
            <a:chExt cx="7848720" cy="840600"/>
          </a:xfrm>
        </p:grpSpPr>
        <p:grpSp>
          <p:nvGrpSpPr>
            <p:cNvPr id="200" name=""/>
            <p:cNvGrpSpPr/>
            <p:nvPr/>
          </p:nvGrpSpPr>
          <p:grpSpPr>
            <a:xfrm>
              <a:off x="685800" y="990720"/>
              <a:ext cx="7772400" cy="838080"/>
              <a:chOff x="685800" y="990720"/>
              <a:chExt cx="7772400" cy="838080"/>
            </a:xfrm>
          </p:grpSpPr>
          <p:sp>
            <p:nvSpPr>
              <p:cNvPr id="201" name=""/>
              <p:cNvSpPr/>
              <p:nvPr/>
            </p:nvSpPr>
            <p:spPr>
              <a:xfrm>
                <a:off x="685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143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6002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0574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146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971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429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8862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434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8006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257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15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1722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6294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0866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543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001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61760" y="990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514600" y="990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3400" y="990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172200" y="990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924680" y="9907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3429000" y="1371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9588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294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5800" y="1371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150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866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86200" y="1371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19720" y="1371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19320" y="1371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010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438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00200" y="1371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09480" y="3962520"/>
            <a:ext cx="7848720" cy="840600"/>
            <a:chOff x="609480" y="3962520"/>
            <a:chExt cx="7848720" cy="840600"/>
          </a:xfrm>
        </p:grpSpPr>
        <p:sp>
          <p:nvSpPr>
            <p:cNvPr id="236" name=""/>
            <p:cNvSpPr/>
            <p:nvPr/>
          </p:nvSpPr>
          <p:spPr>
            <a:xfrm>
              <a:off x="6094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66680" y="4419720"/>
              <a:ext cx="457200" cy="38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238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810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382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954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526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098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670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242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814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386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958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530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102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674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246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580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382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670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958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848720" y="3962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52680" y="4343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19920" y="4343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530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9480" y="43434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386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102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09880" y="43434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34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43000" y="434340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9246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674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23880" y="4343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09480" y="5029200"/>
            <a:ext cx="7848720" cy="840600"/>
            <a:chOff x="609480" y="5029200"/>
            <a:chExt cx="7848720" cy="840600"/>
          </a:xfrm>
        </p:grpSpPr>
        <p:sp>
          <p:nvSpPr>
            <p:cNvPr id="271" name=""/>
            <p:cNvSpPr/>
            <p:nvPr/>
          </p:nvSpPr>
          <p:spPr>
            <a:xfrm>
              <a:off x="6094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23880" y="5486400"/>
              <a:ext cx="457200" cy="38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810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382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954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526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098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670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242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814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386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958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30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102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674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246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5800" y="5029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38280" y="5029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080" y="5029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95880" y="5029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48720" y="5029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526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19920" y="5410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5308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9480" y="5410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63868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1028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5410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4340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43000" y="541008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92468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46748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66680" y="5410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85800" y="1981080"/>
            <a:ext cx="7848720" cy="840960"/>
            <a:chOff x="685800" y="1981080"/>
            <a:chExt cx="7848720" cy="840960"/>
          </a:xfrm>
        </p:grpSpPr>
        <p:sp>
          <p:nvSpPr>
            <p:cNvPr id="306" name=""/>
            <p:cNvSpPr/>
            <p:nvPr/>
          </p:nvSpPr>
          <p:spPr>
            <a:xfrm>
              <a:off x="685800" y="2438280"/>
              <a:ext cx="457200" cy="381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43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002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74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146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718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29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862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434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006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578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15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722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294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866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5438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01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2120" y="1981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14600" y="1981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43400" y="1981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722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2468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2900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588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6294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150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0866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86200" y="2362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1972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1932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0010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438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00200" y="2362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near Probing – remove(29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240" y="30477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cluster for pair (if any) to fill vacated bu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85800" y="990720"/>
            <a:ext cx="7848720" cy="840600"/>
            <a:chOff x="685800" y="990720"/>
            <a:chExt cx="7848720" cy="840600"/>
          </a:xfrm>
        </p:grpSpPr>
        <p:grpSp>
          <p:nvGrpSpPr>
            <p:cNvPr id="342" name=""/>
            <p:cNvGrpSpPr/>
            <p:nvPr/>
          </p:nvGrpSpPr>
          <p:grpSpPr>
            <a:xfrm>
              <a:off x="685800" y="990720"/>
              <a:ext cx="7772400" cy="838080"/>
              <a:chOff x="685800" y="990720"/>
              <a:chExt cx="7772400" cy="838080"/>
            </a:xfrm>
          </p:grpSpPr>
          <p:sp>
            <p:nvSpPr>
              <p:cNvPr id="343" name=""/>
              <p:cNvSpPr/>
              <p:nvPr/>
            </p:nvSpPr>
            <p:spPr>
              <a:xfrm>
                <a:off x="685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143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6002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0574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5146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71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29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8862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3434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8006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257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15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1722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6294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0866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543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001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61760" y="990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514600" y="990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343400" y="990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172200" y="990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924680" y="9907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3429000" y="1371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9588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294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5800" y="1371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150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866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86200" y="1371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19720" y="1371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19320" y="1371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010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438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00200" y="1371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85800" y="1981080"/>
            <a:ext cx="7848720" cy="840960"/>
            <a:chOff x="685800" y="1981080"/>
            <a:chExt cx="7848720" cy="840960"/>
          </a:xfrm>
        </p:grpSpPr>
        <p:sp>
          <p:nvSpPr>
            <p:cNvPr id="378" name=""/>
            <p:cNvSpPr/>
            <p:nvPr/>
          </p:nvSpPr>
          <p:spPr>
            <a:xfrm>
              <a:off x="6858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43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002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0574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146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9718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29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862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434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8006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578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15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722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29400" y="2438280"/>
              <a:ext cx="457200" cy="381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866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438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01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2120" y="1981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14600" y="1981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43400" y="1981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722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92468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2900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9588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29400" y="236232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85800" y="2362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150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0866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2362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72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1932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0010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438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600200" y="2362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85800" y="3962520"/>
            <a:ext cx="7848720" cy="840600"/>
            <a:chOff x="685800" y="3962520"/>
            <a:chExt cx="7848720" cy="840600"/>
          </a:xfrm>
        </p:grpSpPr>
        <p:sp>
          <p:nvSpPr>
            <p:cNvPr id="413" name=""/>
            <p:cNvSpPr/>
            <p:nvPr/>
          </p:nvSpPr>
          <p:spPr>
            <a:xfrm>
              <a:off x="6858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430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02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574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5146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9718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4290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862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434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006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578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7150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1722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6294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86600" y="4419720"/>
              <a:ext cx="457200" cy="38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5438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0010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212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1460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4340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17220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246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290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0958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2940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85800" y="4343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1500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086600" y="434340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86200" y="4343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19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193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0100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4380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00200" y="4343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685800" y="4800600"/>
            <a:ext cx="7848720" cy="840600"/>
            <a:chOff x="685800" y="4800600"/>
            <a:chExt cx="7848720" cy="840600"/>
          </a:xfrm>
        </p:grpSpPr>
        <p:sp>
          <p:nvSpPr>
            <p:cNvPr id="448" name=""/>
            <p:cNvSpPr/>
            <p:nvPr/>
          </p:nvSpPr>
          <p:spPr>
            <a:xfrm>
              <a:off x="6858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1430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002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574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146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9718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290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8862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3434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006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2578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150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722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294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0866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543800" y="5257800"/>
              <a:ext cx="457200" cy="38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0010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212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1460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34340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72200" y="4800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4680" y="4800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29000" y="518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9588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62940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85800" y="5181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71500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86600" y="51814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86200" y="5181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19720" y="518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219320" y="518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00100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08660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00200" y="51814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85800" y="5715000"/>
            <a:ext cx="7848720" cy="840600"/>
            <a:chOff x="685800" y="5715000"/>
            <a:chExt cx="7848720" cy="840600"/>
          </a:xfrm>
        </p:grpSpPr>
        <p:sp>
          <p:nvSpPr>
            <p:cNvPr id="483" name=""/>
            <p:cNvSpPr/>
            <p:nvPr/>
          </p:nvSpPr>
          <p:spPr>
            <a:xfrm>
              <a:off x="6858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1430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600200" y="6172200"/>
              <a:ext cx="457200" cy="38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574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146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718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290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862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434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8006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578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150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1722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6294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866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5438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0010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212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51460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34340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722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92468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29000" y="6095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9588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6294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5800" y="6095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15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086600" y="6095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86200" y="6095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419720" y="6095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219320" y="6095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001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0866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543800" y="6095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erformance Of Linear Prob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28600" y="44956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st-case get/put/remove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pairs in the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happens when all pairs are in the same clu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3skel" descr=""/>
          <p:cNvPicPr/>
          <p:nvPr/>
        </p:nvPicPr>
        <p:blipFill>
          <a:blip r:embed="rId1"/>
          <a:stretch/>
        </p:blipFill>
        <p:spPr>
          <a:xfrm>
            <a:off x="3429000" y="1066680"/>
            <a:ext cx="1851120" cy="1451160"/>
          </a:xfrm>
          <a:prstGeom prst="rect">
            <a:avLst/>
          </a:prstGeom>
          <a:ln w="0">
            <a:noFill/>
          </a:ln>
        </p:spPr>
      </p:pic>
      <p:grpSp>
        <p:nvGrpSpPr>
          <p:cNvPr id="520" name=""/>
          <p:cNvGrpSpPr/>
          <p:nvPr/>
        </p:nvGrpSpPr>
        <p:grpSpPr>
          <a:xfrm>
            <a:off x="685800" y="2819520"/>
            <a:ext cx="7848720" cy="840600"/>
            <a:chOff x="685800" y="2819520"/>
            <a:chExt cx="7848720" cy="840600"/>
          </a:xfrm>
        </p:grpSpPr>
        <p:grpSp>
          <p:nvGrpSpPr>
            <p:cNvPr id="521" name=""/>
            <p:cNvGrpSpPr/>
            <p:nvPr/>
          </p:nvGrpSpPr>
          <p:grpSpPr>
            <a:xfrm>
              <a:off x="685800" y="2819520"/>
              <a:ext cx="7772400" cy="838080"/>
              <a:chOff x="685800" y="2819520"/>
              <a:chExt cx="7772400" cy="838080"/>
            </a:xfrm>
          </p:grpSpPr>
          <p:sp>
            <p:nvSpPr>
              <p:cNvPr id="522" name=""/>
              <p:cNvSpPr/>
              <p:nvPr/>
            </p:nvSpPr>
            <p:spPr>
              <a:xfrm>
                <a:off x="6858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1430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6002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0574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5146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9718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4290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8862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3434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006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2578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7150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1722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6294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0866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5438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0010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61760" y="2819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514600" y="2819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343400" y="2819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172200" y="28195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924680" y="28195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>
              <a:off x="342900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09588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6294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858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50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866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862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41972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21932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0010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5438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00200" y="3200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pected Performa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28600" y="28951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4000"/>
          </a:bodyPr>
          <a:p>
            <a:pPr marL="82080" indent="-82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lpha = loading density = (number of pairs)/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200" indent="-684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lpha = 12/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2080" indent="-82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pected number of buckets examined in a successful search whe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2080" indent="-82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pected number of buckets examined in a unsuccessful search whe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2080" indent="-82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to put and remove governed b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2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ROBOT" descr=""/>
          <p:cNvPicPr/>
          <p:nvPr/>
        </p:nvPicPr>
        <p:blipFill>
          <a:blip r:embed="rId1"/>
          <a:stretch/>
        </p:blipFill>
        <p:spPr>
          <a:xfrm>
            <a:off x="7772400" y="228600"/>
            <a:ext cx="960480" cy="1886040"/>
          </a:xfrm>
          <a:prstGeom prst="rect">
            <a:avLst/>
          </a:prstGeom>
          <a:ln w="0">
            <a:noFill/>
          </a:ln>
        </p:spPr>
      </p:pic>
      <p:grpSp>
        <p:nvGrpSpPr>
          <p:cNvPr id="559" name=""/>
          <p:cNvGrpSpPr/>
          <p:nvPr/>
        </p:nvGrpSpPr>
        <p:grpSpPr>
          <a:xfrm>
            <a:off x="380880" y="1981080"/>
            <a:ext cx="7848720" cy="840600"/>
            <a:chOff x="380880" y="1981080"/>
            <a:chExt cx="7848720" cy="840600"/>
          </a:xfrm>
        </p:grpSpPr>
        <p:grpSp>
          <p:nvGrpSpPr>
            <p:cNvPr id="560" name=""/>
            <p:cNvGrpSpPr/>
            <p:nvPr/>
          </p:nvGrpSpPr>
          <p:grpSpPr>
            <a:xfrm>
              <a:off x="380880" y="1981080"/>
              <a:ext cx="7772400" cy="838080"/>
              <a:chOff x="380880" y="1981080"/>
              <a:chExt cx="7772400" cy="838080"/>
            </a:xfrm>
          </p:grpSpPr>
          <p:sp>
            <p:nvSpPr>
              <p:cNvPr id="561" name=""/>
              <p:cNvSpPr/>
              <p:nvPr/>
            </p:nvSpPr>
            <p:spPr>
              <a:xfrm>
                <a:off x="3808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380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2952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7524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2096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6668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1240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5812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0384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4956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9528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100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8672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3244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7816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2388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960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56840" y="1981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09680" y="1981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038480" y="1981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867280" y="1981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619760" y="19810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3124080" y="2361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790960" y="2361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24480" y="2361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80880" y="2361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10080" y="2361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781680" y="2361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581280" y="2361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114800" y="2361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14400" y="2361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696080" y="2361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38880" y="2361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295280" y="23619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pected Performa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51055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~ ½(1 + 1/(1 – alpha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~ ½(1 + 1/(1 – alpha)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 &lt;= alpha &lt;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ROBOT" descr=""/>
          <p:cNvPicPr/>
          <p:nvPr/>
        </p:nvPicPr>
        <p:blipFill>
          <a:blip r:embed="rId1"/>
          <a:stretch/>
        </p:blipFill>
        <p:spPr>
          <a:xfrm>
            <a:off x="7772400" y="304920"/>
            <a:ext cx="960480" cy="188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8" name=""/>
          <p:cNvGraphicFramePr/>
          <p:nvPr/>
        </p:nvGraphicFramePr>
        <p:xfrm>
          <a:off x="1447920" y="2878200"/>
          <a:ext cx="6858000" cy="397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878200"/>
                    <a:ext cx="6858000" cy="39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838080" y="627840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15000" y="419112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lpha &lt;= 0.75 is recommen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ash Table Desig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 requirements are given, determine maximum permissible loading dens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ant a successful search to make no more th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ares (expect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~ ½(1 + 1/(1 – alpha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lpha &lt;= 18/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ant an unsuccessful search to make no more th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s (expected).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~ ½(1 + 1/(1 – alpha)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lpha &lt;= 4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lpha &lt;= min{18/19, 4/5} = 4/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627840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4-08-05T15:20:33Z</dcterms:modified>
  <cp:revision>294</cp:revision>
  <dc:subject/>
  <dc:title>Data Representation Methods</dc:title>
</cp:coreProperties>
</file>