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046C-A623-4E07-8326-03A7037F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6C7F-2EE7-4A11-8592-DBBE9D54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3287-4011-49FA-B374-1A495C1B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940C-27AF-4BD6-9ACB-B89C62C4E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F60B-56DF-4F3E-8D39-23033A5A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D584-E44D-4E33-AB6B-0F3FD8EE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63E2-BC97-493B-8401-9CA43F8C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D6F5-A234-4D91-9C8A-E25EB028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AA42-F97F-47AE-8AB4-0D0E4480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DED7-A998-413C-8CF1-C43216FB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1684-F381-4EB8-B8F4-A5E43A5F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F3B9-16C5-4960-A6D5-545FD01C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2AC9-6522-41B3-AF43-70CCB64AA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 1 conflic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darshan Narasimhan narasim@cise.ufl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ment 1 posted to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missions electronically checked for similar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2T16:05:40Z</dcterms:created>
  <dc:creator>Preferred Customer</dc:creator>
  <dc:description/>
  <dc:language>en-US</dc:language>
  <cp:lastModifiedBy>sahni</cp:lastModifiedBy>
  <dcterms:modified xsi:type="dcterms:W3CDTF">2003-09-09T17:54:26Z</dcterms:modified>
  <cp:revision>4</cp:revision>
  <dc:subject/>
  <dc:title>Announcements</dc:title>
</cp:coreProperties>
</file>