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D612A8D-6CB1-4A23-B631-63BE7229F89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() values may be computed easily using a postorder travers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E3A7-BBF0-4E0F-92E4-A09AA813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B521-A723-4177-B435-8117BEB5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E829-8E6E-4B1E-931E-A638E6F5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DC4C-C364-41F0-964F-38D6018E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EE33-F235-49C5-9BC1-0F4116AF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A23A-5D36-4166-8613-C7E19B74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4C5B-F856-4101-B1DB-2B4A0C8F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F683-5597-4E5F-B8B5-FA22A1FC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0FE5-F731-4431-BDC3-004E1774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3271-3270-48D9-86E3-C135EDCD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0ABF-B128-4B44-A4C5-A768B97E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92A7-8936-42FB-8203-7E92A91B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07FE-1069-40C5-B7F8-967EE0FFF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53341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array =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-, 1, 2, 3, 4, 5, 6, 7, 8, 9, 10, 1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63680" y="1454040"/>
            <a:ext cx="7530840" cy="3363120"/>
            <a:chOff x="463680" y="1454040"/>
            <a:chExt cx="7530840" cy="3363120"/>
          </a:xfrm>
        </p:grpSpPr>
        <p:sp>
          <p:nvSpPr>
            <p:cNvPr id="51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884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9768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9768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4476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2742840" y="373392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38280" y="4419720"/>
              <a:ext cx="533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67080" y="1523880"/>
              <a:ext cx="83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354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00400" y="3657600"/>
              <a:ext cx="4572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33720" y="2514600"/>
              <a:ext cx="761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5740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05320" y="4419720"/>
            <a:ext cx="53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21080" y="4349880"/>
            <a:ext cx="444240" cy="444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57400" y="25146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676520" y="5638680"/>
            <a:ext cx="5790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home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460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057400" y="25146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04920" y="5638680"/>
            <a:ext cx="8610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e, move to next lower array 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878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514600" y="434340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57400" y="25146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143000" y="56386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home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514600" y="434340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43000" y="56386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home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14600" y="434340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143000" y="56386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home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514600" y="434340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143000" y="56386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home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14600" y="434340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43000" y="56386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117880" y="25146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04920" y="4878360"/>
            <a:ext cx="8458200" cy="18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of heap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subtrees with root at level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= 2 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j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for each subtree is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O(h-j+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CLOCK43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04920" y="1523880"/>
            <a:ext cx="8458200" cy="18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for level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btrees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= 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j-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h-j+1) = t(j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(1) + t(2) + … + t(h-1) = O(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CLOCK43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6094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ed binary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do everything a heap can do and in the same asymptotic complex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meld two leftist tree priority queues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53337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at rightmost array position that has a ch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25146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5943600"/>
            <a:ext cx="7696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tended Binary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1066680" y="22860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ny binary tree and add an external node wherever there is an empty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is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xtend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 Binary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n Extended Binary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210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282840" y="4425840"/>
            <a:ext cx="29232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7214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083440" y="34354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35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208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378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98756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259092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200400" y="365760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304560" y="47242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38080" y="480060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1523880" y="47242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981080" y="4800600"/>
            <a:ext cx="1526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48640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781680" y="2819520"/>
            <a:ext cx="1447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12128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18796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4190760" y="4648320"/>
            <a:ext cx="533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29200" y="4648320"/>
            <a:ext cx="304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371600" y="6095880"/>
            <a:ext cx="6019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external nodes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Function </a:t>
            </a: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s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304920" y="20570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n extended binary tree, 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length of a shortest path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n external node in the subtree rooted 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s()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Values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35080" y="1454040"/>
            <a:ext cx="8140680" cy="4102200"/>
            <a:chOff x="235080" y="1454040"/>
            <a:chExt cx="8140680" cy="4102200"/>
          </a:xfrm>
        </p:grpSpPr>
        <p:sp>
          <p:nvSpPr>
            <p:cNvPr id="729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521080" y="4425840"/>
              <a:ext cx="29196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282840" y="4425840"/>
              <a:ext cx="29232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721480" y="4425840"/>
              <a:ext cx="29196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083440" y="34354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3508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92088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37808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98756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2590920" y="37339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200400" y="365760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304560" y="4724280"/>
              <a:ext cx="2286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38080" y="4800600"/>
              <a:ext cx="2286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523880" y="4724280"/>
              <a:ext cx="1526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981080" y="4800600"/>
              <a:ext cx="152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486400" y="37339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81680" y="2819520"/>
              <a:ext cx="1447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121280" y="518796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187960" y="518796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4190760" y="4648320"/>
              <a:ext cx="53316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029200" y="46483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s()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Values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5210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282840" y="4425840"/>
            <a:ext cx="29232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7214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083440" y="34354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35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9208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378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98756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259092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200400" y="365760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304560" y="47242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38080" y="480060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1523880" y="47242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981080" y="4800600"/>
            <a:ext cx="1526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48640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781680" y="2819520"/>
            <a:ext cx="1447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12128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18796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4190760" y="4648320"/>
            <a:ext cx="533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029200" y="4648320"/>
            <a:ext cx="304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1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897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964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598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114800" y="5181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181480" y="5181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7150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077320" y="3429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70772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53652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perties Of </a:t>
            </a: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s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304920" y="20570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n external node, t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(x) 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wis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(x) = min {s(leftChild(x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(rightChild(x))}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eight Biased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304920" y="20570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nary tree is a (height biased) leftist tree iff for every internal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(leftChild(x)) &gt;= s(rightChild(x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 Leftist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5210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282840" y="4425840"/>
            <a:ext cx="29232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7214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8083440" y="34354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35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208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378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98756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259092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200400" y="365760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304560" y="47242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838080" y="480060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1523880" y="47242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981080" y="4800600"/>
            <a:ext cx="1526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48640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781680" y="2819520"/>
            <a:ext cx="1447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12128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18796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4190760" y="4648320"/>
            <a:ext cx="533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029200" y="4648320"/>
            <a:ext cx="304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11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897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964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2598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114800" y="5181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181480" y="5181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7150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077320" y="3429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70772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53652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ftist Trees--Property 1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304920" y="20570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leftist tree, the rightmost path is a shortest root to external node path and the length of this 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(roo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04560" y="53341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next lower array 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79640" y="3306600"/>
            <a:ext cx="62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25146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 Leftist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5210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282840" y="4425840"/>
            <a:ext cx="29232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7214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083440" y="34354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5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9208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378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98756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259092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200400" y="365760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304560" y="47242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838080" y="480060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1523880" y="47242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981080" y="4800600"/>
            <a:ext cx="1526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48640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781680" y="2819520"/>
            <a:ext cx="1447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12128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18796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4190760" y="4648320"/>
            <a:ext cx="533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029200" y="4648320"/>
            <a:ext cx="304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11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897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964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2598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114800" y="5181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181480" y="5181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7150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8077320" y="3429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70772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53652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914400" y="6172200"/>
            <a:ext cx="6324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 of rightmost 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ftist Trees—Property 2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380880" y="20570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internal nodes is at le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s(root)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-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level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roug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(roo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ve no external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(root) &lt;= log(n+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 Leftist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5210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282840" y="4425840"/>
            <a:ext cx="29232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7214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8083440" y="34354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35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9208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378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98756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59092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200400" y="365760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304560" y="47242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838080" y="480060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1523880" y="47242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981080" y="4800600"/>
            <a:ext cx="1526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48640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781680" y="2819520"/>
            <a:ext cx="1447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12128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18796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4190760" y="4648320"/>
            <a:ext cx="533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029200" y="4648320"/>
            <a:ext cx="304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11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97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964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2598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114800" y="5181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181480" y="5181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7150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8077320" y="3429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70772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53652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57200" y="5943600"/>
            <a:ext cx="8458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no external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ftist Trees—Property 3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380880" y="20570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 of rightmost 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 of nodes in a leftist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s from Properties 1 and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ftist Trees As Priority Queu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52280" y="2362320"/>
            <a:ext cx="8458200" cy="28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 leftist tree … leftist tree that is a min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as a min priority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leftist tree … leftist tree that is a max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as a max priority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 Min Leftist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70772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53652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me Min Leftist Tree Oper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04920" y="1981080"/>
            <a:ext cx="86104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move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eld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itialize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remove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s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meld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 Ope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(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425840" y="1987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2924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6358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3017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05424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4165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92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835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2742840" y="2286000"/>
            <a:ext cx="1676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876920" y="2286000"/>
            <a:ext cx="1828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1599840" y="3352680"/>
            <a:ext cx="762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666880" y="33526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5791320" y="34290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H="1">
            <a:off x="990720" y="41911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676520" y="4191120"/>
            <a:ext cx="3045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883040" y="4807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5181120" y="426708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45200" y="4906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888200" y="4906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936320" y="48308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35468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10752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46948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345400" y="3002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765120" y="3002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479120" y="2011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 Ope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(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425840" y="1987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2924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6358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3017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05424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4165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92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835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>
            <a:off x="2742840" y="2286000"/>
            <a:ext cx="1676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876920" y="2286000"/>
            <a:ext cx="1828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1599840" y="3352680"/>
            <a:ext cx="762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666880" y="33526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5791320" y="34290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990720" y="41911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676520" y="4191120"/>
            <a:ext cx="3045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883040" y="4807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5181120" y="426708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45200" y="4906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888200" y="4906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936320" y="48308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35468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10752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46948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345400" y="3002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765120" y="3002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479120" y="2011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5800" y="5715000"/>
            <a:ext cx="7620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single node min leftist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397640" y="5721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526880" y="5745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 Ope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(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425840" y="1987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2924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6358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3017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05424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4165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92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835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742840" y="2286000"/>
            <a:ext cx="1676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876920" y="2286000"/>
            <a:ext cx="1828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1599840" y="3352680"/>
            <a:ext cx="762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666880" y="33526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5791320" y="34290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990720" y="41911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676520" y="4191120"/>
            <a:ext cx="3045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883040" y="4807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>
            <a:off x="5181120" y="426708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745200" y="4906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88200" y="4906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936320" y="48308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35468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10752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46948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345400" y="3002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765120" y="3002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479120" y="2011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85800" y="5487840"/>
            <a:ext cx="76201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single node min leftist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ld the two min leftist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397640" y="5721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526880" y="5745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79640" y="3306600"/>
            <a:ext cx="62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25146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M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70772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53652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M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70772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53652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57200" y="5181480"/>
            <a:ext cx="7238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the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M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70772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53652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57200" y="5181480"/>
            <a:ext cx="72388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the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ld the two sub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463680" y="2444760"/>
            <a:ext cx="7607160" cy="2349360"/>
            <a:chOff x="463680" y="2444760"/>
            <a:chExt cx="7607160" cy="2349360"/>
          </a:xfrm>
        </p:grpSpPr>
        <p:sp>
          <p:nvSpPr>
            <p:cNvPr id="1208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707720" y="42973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1168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53652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6262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6795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781680" y="2819520"/>
              <a:ext cx="9907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3" name=""/>
          <p:cNvSpPr/>
          <p:nvPr/>
        </p:nvSpPr>
        <p:spPr>
          <a:xfrm>
            <a:off x="152280" y="5410080"/>
            <a:ext cx="8001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erse only the rightmost paths so as to get logarithmic perform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063880" y="1301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07280" y="1301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073160" y="2139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825640" y="2139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187960" y="2139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63680" y="3206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606680" y="3206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1371240" y="1676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438280" y="1676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5562720" y="1752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762120" y="2514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447920" y="2514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654440" y="3130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H="1">
            <a:off x="4952520" y="2590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16600" y="3230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659600" y="3230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707720" y="3154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126080" y="2163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878920" y="2163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240880" y="2163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11680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53652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6240" y="2139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679520" y="2163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781680" y="1676520"/>
            <a:ext cx="9907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80880" y="4191120"/>
            <a:ext cx="8001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ld right subtree of tree with smaller root and all of other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063880" y="15303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407280" y="1530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073160" y="23684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825640" y="23684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1879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63680" y="3435480"/>
            <a:ext cx="44424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606680" y="3435480"/>
            <a:ext cx="44424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1371240" y="19051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438280" y="19051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5562720" y="19810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762120" y="27432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447920" y="27432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654440" y="3359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H="1">
            <a:off x="4952520" y="28195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16600" y="3459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659600" y="3459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707720" y="33829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126080" y="2392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878920" y="2392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240880" y="2392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116800" y="1554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536520" y="1554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626240" y="23684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679520" y="2392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28600" y="4343400"/>
            <a:ext cx="8001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ld right subtree of tree with smaller root and all of other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063880" y="15303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073160" y="23684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825640" y="23684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63680" y="3435480"/>
            <a:ext cx="44424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606680" y="3435480"/>
            <a:ext cx="44424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1371240" y="19051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762120" y="27432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447920" y="27432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16600" y="3459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659600" y="3459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126080" y="2392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878920" y="2392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116800" y="1554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664080" y="145404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71700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28600" y="4343400"/>
            <a:ext cx="8001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ld right subtree of tree with smaller root and all of other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438280" y="190512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063880" y="15303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116800" y="1554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664080" y="145404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71700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28600" y="4343400"/>
            <a:ext cx="800100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ld right subtree of tree with smaller root and all of other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subtree of 6 is empty. So, result of melding right subtree of tree with smaller root and other tree is the other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0" y="4876920"/>
            <a:ext cx="7467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p left and right subtree 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(left) &lt; s(righ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0" y="23623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melded subtree right subtree of smaller ro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4" name=""/>
          <p:cNvGrpSpPr/>
          <p:nvPr/>
        </p:nvGrpSpPr>
        <p:grpSpPr>
          <a:xfrm>
            <a:off x="2063880" y="1454040"/>
            <a:ext cx="2044440" cy="520920"/>
            <a:chOff x="2063880" y="1454040"/>
            <a:chExt cx="2044440" cy="520920"/>
          </a:xfrm>
        </p:grpSpPr>
        <p:sp>
          <p:nvSpPr>
            <p:cNvPr id="1315" name=""/>
            <p:cNvSpPr/>
            <p:nvPr/>
          </p:nvSpPr>
          <p:spPr>
            <a:xfrm>
              <a:off x="2063880" y="15303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116800" y="15541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664080" y="14540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717000" y="1477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9" name=""/>
          <p:cNvGrpSpPr/>
          <p:nvPr/>
        </p:nvGrpSpPr>
        <p:grpSpPr>
          <a:xfrm>
            <a:off x="3054240" y="3130560"/>
            <a:ext cx="1047960" cy="1504800"/>
            <a:chOff x="3054240" y="3130560"/>
            <a:chExt cx="1047960" cy="1504800"/>
          </a:xfrm>
        </p:grpSpPr>
        <p:sp>
          <p:nvSpPr>
            <p:cNvPr id="1320" name=""/>
            <p:cNvSpPr/>
            <p:nvPr/>
          </p:nvSpPr>
          <p:spPr>
            <a:xfrm>
              <a:off x="3054240" y="313056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107520" y="31543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657600" y="4191120"/>
              <a:ext cx="444600" cy="444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732840" y="41911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276720" y="3581280"/>
              <a:ext cx="6094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7245360" y="5111640"/>
            <a:ext cx="749160" cy="1511280"/>
            <a:chOff x="7245360" y="5111640"/>
            <a:chExt cx="749160" cy="1511280"/>
          </a:xfrm>
        </p:grpSpPr>
        <p:sp>
          <p:nvSpPr>
            <p:cNvPr id="1326" name=""/>
            <p:cNvSpPr/>
            <p:nvPr/>
          </p:nvSpPr>
          <p:spPr>
            <a:xfrm>
              <a:off x="7550280" y="51116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603200" y="5135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245360" y="6178680"/>
              <a:ext cx="444600" cy="444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298280" y="62024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7467120" y="556272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5416560" y="1378080"/>
            <a:ext cx="2806560" cy="2349360"/>
            <a:chOff x="5416560" y="1378080"/>
            <a:chExt cx="2806560" cy="2349360"/>
          </a:xfrm>
        </p:grpSpPr>
        <p:sp>
          <p:nvSpPr>
            <p:cNvPr id="1333" name=""/>
            <p:cNvSpPr/>
            <p:nvPr/>
          </p:nvSpPr>
          <p:spPr>
            <a:xfrm>
              <a:off x="7016760" y="1378080"/>
              <a:ext cx="44460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026040" y="221616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778880" y="22161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416560" y="328284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59560" y="328284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H="1">
              <a:off x="6324120" y="1752480"/>
              <a:ext cx="7621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391520" y="1752480"/>
              <a:ext cx="5331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5715000" y="25909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400800" y="2590920"/>
              <a:ext cx="30492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4694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6124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079320" y="22399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831800" y="22399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069680" y="14018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473960" y="32828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526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7695720" y="2666880"/>
              <a:ext cx="22860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0" name=""/>
          <p:cNvGrpSpPr/>
          <p:nvPr/>
        </p:nvGrpSpPr>
        <p:grpSpPr>
          <a:xfrm>
            <a:off x="463680" y="1530360"/>
            <a:ext cx="3568680" cy="2349360"/>
            <a:chOff x="463680" y="1530360"/>
            <a:chExt cx="3568680" cy="2349360"/>
          </a:xfrm>
        </p:grpSpPr>
        <p:sp>
          <p:nvSpPr>
            <p:cNvPr id="1351" name=""/>
            <p:cNvSpPr/>
            <p:nvPr/>
          </p:nvSpPr>
          <p:spPr>
            <a:xfrm>
              <a:off x="2063880" y="153036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073160" y="236844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63680" y="3435480"/>
              <a:ext cx="44424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606680" y="3435480"/>
              <a:ext cx="44424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>
              <a:off x="1371240" y="19051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762120" y="27432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447920" y="27432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16600" y="34592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659600" y="34592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126080" y="23922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116800" y="15541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58776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640680" y="1706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2828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336120" y="27734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H="1">
              <a:off x="3504960" y="213372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0" y="457200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melded subtree right subtree of smaller ro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0" y="5867280"/>
            <a:ext cx="67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p left and right subtree 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(left) &lt; s(righ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79640" y="3306600"/>
            <a:ext cx="62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3720" y="25146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70" name=""/>
          <p:cNvGrpSpPr/>
          <p:nvPr/>
        </p:nvGrpSpPr>
        <p:grpSpPr>
          <a:xfrm>
            <a:off x="2063880" y="1378080"/>
            <a:ext cx="2197080" cy="2273040"/>
            <a:chOff x="2063880" y="1378080"/>
            <a:chExt cx="2197080" cy="2273040"/>
          </a:xfrm>
        </p:grpSpPr>
        <p:sp>
          <p:nvSpPr>
            <p:cNvPr id="1371" name=""/>
            <p:cNvSpPr/>
            <p:nvPr/>
          </p:nvSpPr>
          <p:spPr>
            <a:xfrm>
              <a:off x="3816360" y="13780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597040" y="2216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2971800" y="1828800"/>
              <a:ext cx="9144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063880" y="3206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2362320" y="2666880"/>
              <a:ext cx="3808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116800" y="3230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650320" y="22399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945600" y="14018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" name=""/>
          <p:cNvSpPr/>
          <p:nvPr/>
        </p:nvSpPr>
        <p:spPr>
          <a:xfrm>
            <a:off x="152280" y="6172200"/>
            <a:ext cx="7467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p left and right subtree 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(left) &lt; s(righ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52280" y="525780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melded subtree right subtree of smaller ro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4273560" y="2292480"/>
            <a:ext cx="2806560" cy="2349360"/>
            <a:chOff x="4273560" y="2292480"/>
            <a:chExt cx="2806560" cy="2349360"/>
          </a:xfrm>
        </p:grpSpPr>
        <p:sp>
          <p:nvSpPr>
            <p:cNvPr id="1382" name=""/>
            <p:cNvSpPr/>
            <p:nvPr/>
          </p:nvSpPr>
          <p:spPr>
            <a:xfrm>
              <a:off x="5873760" y="2292480"/>
              <a:ext cx="444600" cy="444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883040" y="3130560"/>
              <a:ext cx="44460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635880" y="313056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273560" y="4197240"/>
              <a:ext cx="44460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416560" y="4197240"/>
              <a:ext cx="44460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5181120" y="2666880"/>
              <a:ext cx="7621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248520" y="2666880"/>
              <a:ext cx="5331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>
              <a:off x="4572000" y="35053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257800" y="3505320"/>
              <a:ext cx="30492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326480" y="42210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469480" y="42210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936320" y="31543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688800" y="31543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926680" y="23162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30960" y="4197240"/>
              <a:ext cx="44460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383880" y="42210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6552720" y="3581280"/>
              <a:ext cx="22860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4191120" y="1752480"/>
            <a:ext cx="16761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81636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6451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2971800" y="18288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111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H="1">
            <a:off x="5409720" y="289548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164920" y="3459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6980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945600" y="14018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673360" y="213984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82640" y="29782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435480" y="2978280"/>
            <a:ext cx="44424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073160" y="40449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216160" y="40449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H="1">
            <a:off x="1980720" y="2514600"/>
            <a:ext cx="762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3048120" y="2514600"/>
            <a:ext cx="5331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H="1">
            <a:off x="1371600" y="335268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057400" y="335268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1126080" y="4068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269080" y="4068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735920" y="3002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488400" y="3002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726280" y="2163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130560" y="40449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183480" y="4068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H="1">
            <a:off x="3352320" y="342900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191120" y="1752480"/>
            <a:ext cx="16761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In O(n) Tim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0866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node min leftist trees and place them in a 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edly remove two min leftist trees from the FIFO queue, meld them, and put the resulting min leftist tree into the 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cess terminates when on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n leftist tree remains in the 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is is the same as for heap initialization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79640" y="3306600"/>
            <a:ext cx="62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25146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79640" y="3306600"/>
            <a:ext cx="62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33720" y="25146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79640" y="3306600"/>
            <a:ext cx="62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33720" y="25146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057400" y="25146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76520" y="5638680"/>
            <a:ext cx="5790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home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4-08-05T16:29:13Z</dcterms:modified>
  <cp:revision>54</cp:revision>
  <dc:subject/>
  <dc:title>Data Representation Methods</dc:title>
</cp:coreProperties>
</file>