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E595-8732-467F-A289-EE28657FF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BFF8-AD97-47CE-8334-AAADB796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9B22-C5B6-4FA9-B4A1-9CD47633D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D496-A940-4EA4-997D-15D036D41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2B81-5EFD-482B-974F-58AE894A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7AE4-B219-45ED-A556-4CE36483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4A86-9396-49CF-9264-D5024AF1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4514-1830-424B-BF89-1F255428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4AAB-77C5-4F43-8F2A-DCFB0570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DF5B-8F07-48B2-9212-70891F04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CA00-7200-4C37-B88A-CBA9AB82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A4E4-E04F-4345-8AFE-89748964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E22A-2E58-48CB-8403-EA9B0488E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gnment 2 pos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BM Day—Monday Oct.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 lecture on Web site (Lec 1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yback during class Mon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f1" descr=""/>
          <p:cNvPicPr/>
          <p:nvPr/>
        </p:nvPicPr>
        <p:blipFill>
          <a:blip r:embed="rId1"/>
          <a:stretch/>
        </p:blipFill>
        <p:spPr>
          <a:xfrm>
            <a:off x="2666880" y="457200"/>
            <a:ext cx="468180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f2" descr=""/>
          <p:cNvPicPr/>
          <p:nvPr/>
        </p:nvPicPr>
        <p:blipFill>
          <a:blip r:embed="rId1"/>
          <a:stretch/>
        </p:blipFill>
        <p:spPr>
          <a:xfrm>
            <a:off x="2514600" y="228600"/>
            <a:ext cx="472284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3" descr=""/>
          <p:cNvPicPr/>
          <p:nvPr/>
        </p:nvPicPr>
        <p:blipFill>
          <a:blip r:embed="rId1"/>
          <a:stretch/>
        </p:blipFill>
        <p:spPr>
          <a:xfrm>
            <a:off x="2362320" y="266760"/>
            <a:ext cx="4959360" cy="65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3T12:15:38Z</dcterms:created>
  <dc:creator>sahni</dc:creator>
  <dc:description/>
  <dc:language>en-US</dc:language>
  <cp:lastModifiedBy>sahni</cp:lastModifiedBy>
  <dcterms:modified xsi:type="dcterms:W3CDTF">2003-10-03T12:15:48Z</dcterms:modified>
  <cp:revision>1</cp:revision>
  <dc:subject/>
  <dc:title>Announcements</dc:title>
</cp:coreProperties>
</file>