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1E3B-9E39-439E-9F1E-C49EFB0E7E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doesn’t actually find closest pair with 1 point in A and other in B. Rather, it does this only if such a pair is the closest overall pai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dd in the initial sort time for the sort by x and sort by y lists, the overall time remains O(n log 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0BF-C839-4591-BE5D-D070B534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EE1-2DB4-4979-BA4A-FCDB8951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E84-0141-4B94-8003-BEF7749B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062-86F1-4D2B-93FD-6477DD5A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472-4073-406D-89E1-CE83BFC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1B6-D345-47F1-8FA4-FA559041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895-601F-4F78-9E7C-B04DFB60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A9B-D1C6-4FAE-9E35-E3A85D8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4CC-902F-4FF7-92D7-3CEBB957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82D-DCC9-4840-98E1-10EAC61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4AE-3085-4B15-8CFD-C19E7E5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CF7-2727-4E41-8D8D-534CE82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FE44-690A-48B4-874E-E61CA1BAF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5345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ascending ke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ir Traffic Contro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66560" y="880920"/>
            <a:ext cx="8143920" cy="3272040"/>
            <a:chOff x="466560" y="880920"/>
            <a:chExt cx="8143920" cy="327204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573120" y="880920"/>
              <a:ext cx="12412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6053040" y="914400"/>
              <a:ext cx="25574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193920" y="1066680"/>
              <a:ext cx="19116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466560" y="2057400"/>
              <a:ext cx="21243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209760" y="2286000"/>
              <a:ext cx="21243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181560" y="3352680"/>
              <a:ext cx="212436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725400" y="2862360"/>
              <a:ext cx="12416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4230720" y="3319560"/>
              <a:ext cx="124128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2203560" y="3200400"/>
              <a:ext cx="191124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42670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-- Locations of airplanes flying in the neighborhood of a busy airport 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be sure that no two planes get closer than a given threshold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of points, determine the distance between the points in the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pair with the minimum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mall, use simpl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point set into two roughly equal par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such that one point i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other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hree closest pairs computed, select the one with least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73160" y="1454040"/>
            <a:ext cx="7302600" cy="2882880"/>
            <a:chOff x="1073160" y="1454040"/>
            <a:chExt cx="7302600" cy="2882880"/>
          </a:xfrm>
        </p:grpSpPr>
        <p:sp>
          <p:nvSpPr>
            <p:cNvPr id="209" name=""/>
            <p:cNvSpPr/>
            <p:nvPr/>
          </p:nvSpPr>
          <p:spPr>
            <a:xfrm>
              <a:off x="1073160" y="14540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2640" y="1911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484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7560" y="2749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924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40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56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2139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9560" y="1606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49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64080" y="2368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82840" y="1758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73760" y="2901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30760" y="34354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30760" y="2521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5360" y="2825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025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904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8680" y="3664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so that point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f points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losest pai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236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237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distance between the points in this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losest pai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267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42240" y="3200400"/>
            <a:ext cx="1255680" cy="992160"/>
          </a:xfrm>
          <a:custGeom>
            <a:avLst/>
            <a:gdLst/>
            <a:ahLst/>
            <a:rect l="l" t="t" r="r" b="b"/>
            <a:pathLst>
              <a:path w="791" h="625">
                <a:moveTo>
                  <a:pt x="571" y="0"/>
                </a:moveTo>
                <a:lnTo>
                  <a:pt x="512" y="31"/>
                </a:lnTo>
                <a:lnTo>
                  <a:pt x="480" y="43"/>
                </a:lnTo>
                <a:lnTo>
                  <a:pt x="374" y="56"/>
                </a:lnTo>
                <a:lnTo>
                  <a:pt x="288" y="81"/>
                </a:lnTo>
                <a:lnTo>
                  <a:pt x="256" y="94"/>
                </a:lnTo>
                <a:lnTo>
                  <a:pt x="224" y="132"/>
                </a:lnTo>
                <a:lnTo>
                  <a:pt x="192" y="132"/>
                </a:lnTo>
                <a:lnTo>
                  <a:pt x="160" y="145"/>
                </a:lnTo>
                <a:lnTo>
                  <a:pt x="118" y="170"/>
                </a:lnTo>
                <a:lnTo>
                  <a:pt x="86" y="170"/>
                </a:lnTo>
                <a:lnTo>
                  <a:pt x="22" y="183"/>
                </a:lnTo>
                <a:lnTo>
                  <a:pt x="0" y="183"/>
                </a:lnTo>
                <a:lnTo>
                  <a:pt x="0" y="221"/>
                </a:lnTo>
                <a:lnTo>
                  <a:pt x="0" y="258"/>
                </a:lnTo>
                <a:lnTo>
                  <a:pt x="0" y="359"/>
                </a:lnTo>
                <a:lnTo>
                  <a:pt x="0" y="447"/>
                </a:lnTo>
                <a:lnTo>
                  <a:pt x="0" y="485"/>
                </a:lnTo>
                <a:lnTo>
                  <a:pt x="11" y="523"/>
                </a:lnTo>
                <a:lnTo>
                  <a:pt x="43" y="611"/>
                </a:lnTo>
                <a:lnTo>
                  <a:pt x="107" y="611"/>
                </a:lnTo>
                <a:lnTo>
                  <a:pt x="139" y="624"/>
                </a:lnTo>
                <a:lnTo>
                  <a:pt x="224" y="624"/>
                </a:lnTo>
                <a:lnTo>
                  <a:pt x="246" y="624"/>
                </a:lnTo>
                <a:lnTo>
                  <a:pt x="331" y="624"/>
                </a:lnTo>
                <a:lnTo>
                  <a:pt x="363" y="624"/>
                </a:lnTo>
                <a:lnTo>
                  <a:pt x="406" y="624"/>
                </a:lnTo>
                <a:lnTo>
                  <a:pt x="448" y="624"/>
                </a:lnTo>
                <a:lnTo>
                  <a:pt x="512" y="624"/>
                </a:lnTo>
                <a:lnTo>
                  <a:pt x="576" y="624"/>
                </a:lnTo>
                <a:lnTo>
                  <a:pt x="598" y="611"/>
                </a:lnTo>
                <a:lnTo>
                  <a:pt x="683" y="599"/>
                </a:lnTo>
                <a:lnTo>
                  <a:pt x="715" y="599"/>
                </a:lnTo>
                <a:lnTo>
                  <a:pt x="736" y="573"/>
                </a:lnTo>
                <a:lnTo>
                  <a:pt x="758" y="548"/>
                </a:lnTo>
                <a:lnTo>
                  <a:pt x="779" y="510"/>
                </a:lnTo>
                <a:lnTo>
                  <a:pt x="779" y="459"/>
                </a:lnTo>
                <a:lnTo>
                  <a:pt x="779" y="384"/>
                </a:lnTo>
                <a:lnTo>
                  <a:pt x="779" y="346"/>
                </a:lnTo>
                <a:lnTo>
                  <a:pt x="779" y="308"/>
                </a:lnTo>
                <a:lnTo>
                  <a:pt x="790" y="270"/>
                </a:lnTo>
                <a:lnTo>
                  <a:pt x="790" y="232"/>
                </a:lnTo>
                <a:lnTo>
                  <a:pt x="790" y="195"/>
                </a:lnTo>
                <a:lnTo>
                  <a:pt x="790" y="157"/>
                </a:lnTo>
                <a:lnTo>
                  <a:pt x="779" y="119"/>
                </a:lnTo>
                <a:lnTo>
                  <a:pt x="747" y="94"/>
                </a:lnTo>
                <a:lnTo>
                  <a:pt x="715" y="69"/>
                </a:lnTo>
                <a:lnTo>
                  <a:pt x="683" y="56"/>
                </a:lnTo>
                <a:lnTo>
                  <a:pt x="571" y="0"/>
                </a:lnTo>
                <a:lnTo>
                  <a:pt x="571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distance between the points in this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315200" y="3581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358128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= min{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301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302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2240" y="3200400"/>
            <a:ext cx="1255680" cy="992160"/>
          </a:xfrm>
          <a:custGeom>
            <a:avLst/>
            <a:gdLst/>
            <a:ahLst/>
            <a:rect l="l" t="t" r="r" b="b"/>
            <a:pathLst>
              <a:path w="791" h="625">
                <a:moveTo>
                  <a:pt x="571" y="0"/>
                </a:moveTo>
                <a:lnTo>
                  <a:pt x="512" y="31"/>
                </a:lnTo>
                <a:lnTo>
                  <a:pt x="480" y="43"/>
                </a:lnTo>
                <a:lnTo>
                  <a:pt x="374" y="56"/>
                </a:lnTo>
                <a:lnTo>
                  <a:pt x="288" y="81"/>
                </a:lnTo>
                <a:lnTo>
                  <a:pt x="256" y="94"/>
                </a:lnTo>
                <a:lnTo>
                  <a:pt x="224" y="132"/>
                </a:lnTo>
                <a:lnTo>
                  <a:pt x="192" y="132"/>
                </a:lnTo>
                <a:lnTo>
                  <a:pt x="160" y="145"/>
                </a:lnTo>
                <a:lnTo>
                  <a:pt x="118" y="170"/>
                </a:lnTo>
                <a:lnTo>
                  <a:pt x="86" y="170"/>
                </a:lnTo>
                <a:lnTo>
                  <a:pt x="22" y="183"/>
                </a:lnTo>
                <a:lnTo>
                  <a:pt x="0" y="183"/>
                </a:lnTo>
                <a:lnTo>
                  <a:pt x="0" y="221"/>
                </a:lnTo>
                <a:lnTo>
                  <a:pt x="0" y="258"/>
                </a:lnTo>
                <a:lnTo>
                  <a:pt x="0" y="359"/>
                </a:lnTo>
                <a:lnTo>
                  <a:pt x="0" y="447"/>
                </a:lnTo>
                <a:lnTo>
                  <a:pt x="0" y="485"/>
                </a:lnTo>
                <a:lnTo>
                  <a:pt x="11" y="523"/>
                </a:lnTo>
                <a:lnTo>
                  <a:pt x="43" y="611"/>
                </a:lnTo>
                <a:lnTo>
                  <a:pt x="107" y="611"/>
                </a:lnTo>
                <a:lnTo>
                  <a:pt x="139" y="624"/>
                </a:lnTo>
                <a:lnTo>
                  <a:pt x="224" y="624"/>
                </a:lnTo>
                <a:lnTo>
                  <a:pt x="246" y="624"/>
                </a:lnTo>
                <a:lnTo>
                  <a:pt x="331" y="624"/>
                </a:lnTo>
                <a:lnTo>
                  <a:pt x="363" y="624"/>
                </a:lnTo>
                <a:lnTo>
                  <a:pt x="406" y="624"/>
                </a:lnTo>
                <a:lnTo>
                  <a:pt x="448" y="624"/>
                </a:lnTo>
                <a:lnTo>
                  <a:pt x="512" y="624"/>
                </a:lnTo>
                <a:lnTo>
                  <a:pt x="576" y="624"/>
                </a:lnTo>
                <a:lnTo>
                  <a:pt x="598" y="611"/>
                </a:lnTo>
                <a:lnTo>
                  <a:pt x="683" y="599"/>
                </a:lnTo>
                <a:lnTo>
                  <a:pt x="715" y="599"/>
                </a:lnTo>
                <a:lnTo>
                  <a:pt x="736" y="573"/>
                </a:lnTo>
                <a:lnTo>
                  <a:pt x="758" y="548"/>
                </a:lnTo>
                <a:lnTo>
                  <a:pt x="779" y="510"/>
                </a:lnTo>
                <a:lnTo>
                  <a:pt x="779" y="459"/>
                </a:lnTo>
                <a:lnTo>
                  <a:pt x="779" y="384"/>
                </a:lnTo>
                <a:lnTo>
                  <a:pt x="779" y="346"/>
                </a:lnTo>
                <a:lnTo>
                  <a:pt x="779" y="308"/>
                </a:lnTo>
                <a:lnTo>
                  <a:pt x="790" y="270"/>
                </a:lnTo>
                <a:lnTo>
                  <a:pt x="790" y="232"/>
                </a:lnTo>
                <a:lnTo>
                  <a:pt x="790" y="195"/>
                </a:lnTo>
                <a:lnTo>
                  <a:pt x="790" y="157"/>
                </a:lnTo>
                <a:lnTo>
                  <a:pt x="779" y="119"/>
                </a:lnTo>
                <a:lnTo>
                  <a:pt x="747" y="94"/>
                </a:lnTo>
                <a:lnTo>
                  <a:pt x="715" y="69"/>
                </a:lnTo>
                <a:lnTo>
                  <a:pt x="683" y="56"/>
                </a:lnTo>
                <a:lnTo>
                  <a:pt x="571" y="0"/>
                </a:lnTo>
                <a:lnTo>
                  <a:pt x="571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pair with one point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othe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istan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15200" y="3581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s lie with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ividing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073160" y="1454040"/>
            <a:ext cx="7302600" cy="2882880"/>
            <a:chOff x="1073160" y="1454040"/>
            <a:chExt cx="7302600" cy="2882880"/>
          </a:xfrm>
        </p:grpSpPr>
        <p:sp>
          <p:nvSpPr>
            <p:cNvPr id="335" name=""/>
            <p:cNvSpPr/>
            <p:nvPr/>
          </p:nvSpPr>
          <p:spPr>
            <a:xfrm>
              <a:off x="1073160" y="14540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82640" y="1911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848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5484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7560" y="2749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24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640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56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7440" y="2139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9560" y="1606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49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64080" y="2368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82840" y="1758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3760" y="2901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0760" y="34354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30760" y="2521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45360" y="2825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025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6904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8680" y="3664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se reg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poi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82640" y="19112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8480" y="19875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54840" y="19875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7560" y="27496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640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356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7440" y="21398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9560" y="16066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44960" y="29782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64080" y="23684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82840" y="17589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73760" y="29019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30760" y="34354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45360" y="28256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2560" y="35114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904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664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8640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e paired only with those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with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52280" y="51814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hat are to be paired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x 2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tangl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paring re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6172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in this rectangle are at lea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1240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24382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elements, determin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mallest element. That is, determine the element whose rank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score on a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k = ceil(n/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salary of Computer Scient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eople whose salary is in the bott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First find salary a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9360" y="20638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6560" y="20638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9360" y="25210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6560" y="25210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9360" y="305424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6560" y="305424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2280" y="51814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comparing reg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57913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umber of pairs to check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6|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31240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24382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orted b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list of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orted b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list of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se two lists, the required pairs of poin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tructed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 &lt;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CLOCK43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ime to find the closest pair (excluding the time to create the two sorted lists)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CLOCK43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By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the element with desired 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ele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stanc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election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s done in quick s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k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ocation of the pivot following the partiti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=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sired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&lt;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termin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smallest eleme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&gt;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termin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-rank(pivot)-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smallest eleme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&amp;C Sele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004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 and 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059440"/>
            <a:ext cx="716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pivot)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3716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elemen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133720"/>
            <a:ext cx="5943600" cy="655200"/>
            <a:chOff x="914400" y="2133720"/>
            <a:chExt cx="5943600" cy="655200"/>
          </a:xfrm>
        </p:grpSpPr>
        <p:grpSp>
          <p:nvGrpSpPr>
            <p:cNvPr id="61" name=""/>
            <p:cNvGrpSpPr/>
            <p:nvPr/>
          </p:nvGrpSpPr>
          <p:grpSpPr>
            <a:xfrm>
              <a:off x="914400" y="2209680"/>
              <a:ext cx="5943600" cy="579240"/>
              <a:chOff x="914400" y="2209680"/>
              <a:chExt cx="5943600" cy="5792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758960" y="2209680"/>
                <a:ext cx="5099040" cy="519120"/>
                <a:chOff x="1758960" y="2209680"/>
                <a:chExt cx="5099040" cy="519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58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8129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161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701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6733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7273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305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1845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77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65440" y="2209680"/>
                  <a:ext cx="6256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44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022640" y="2209680"/>
                  <a:ext cx="7016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5021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561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593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133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165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705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8737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9277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330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3849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914400" y="2209680"/>
                <a:ext cx="457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914400" y="2133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3962520"/>
            <a:ext cx="6019920" cy="595080"/>
            <a:chOff x="838080" y="3962520"/>
            <a:chExt cx="6019920" cy="595080"/>
          </a:xfrm>
        </p:grpSpPr>
        <p:sp>
          <p:nvSpPr>
            <p:cNvPr id="88" name=""/>
            <p:cNvSpPr/>
            <p:nvPr/>
          </p:nvSpPr>
          <p:spPr>
            <a:xfrm>
              <a:off x="58737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89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2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161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701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733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273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5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45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77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1760" y="4038480"/>
              <a:ext cx="62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44960" y="412128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8960" y="403848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93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37040" y="4038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65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05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277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09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4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44960" y="4121280"/>
              <a:ext cx="44460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8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3880" y="403848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3962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&amp;C Sele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=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=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we s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&lt;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&lt;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i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’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&gt;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&gt;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i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k-rank(pivot)-1)’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90720" y="1066680"/>
            <a:ext cx="6019200" cy="595080"/>
            <a:chOff x="990720" y="1066680"/>
            <a:chExt cx="6019200" cy="595080"/>
          </a:xfrm>
        </p:grpSpPr>
        <p:sp>
          <p:nvSpPr>
            <p:cNvPr id="116" name=""/>
            <p:cNvSpPr/>
            <p:nvPr/>
          </p:nvSpPr>
          <p:spPr>
            <a:xfrm>
              <a:off x="60260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12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65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84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24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256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96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828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68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00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94040" y="1142640"/>
              <a:ext cx="62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7240" y="1225440"/>
              <a:ext cx="44424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1240" y="1142640"/>
              <a:ext cx="70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16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9320" y="1142640"/>
              <a:ext cx="62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88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28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0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32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37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1225440"/>
              <a:ext cx="44424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6160" y="1142640"/>
              <a:ext cx="70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1066680"/>
              <a:ext cx="456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 case arises when the partition to be searched always has all bu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performanc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 case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hosen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/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 (last group may have a few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edian element in each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edian of the group med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dian is found us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CLOCK43" descr=""/>
          <p:cNvPicPr/>
          <p:nvPr/>
        </p:nvPicPr>
        <p:blipFill>
          <a:blip r:embed="rId1"/>
          <a:stretch/>
        </p:blipFill>
        <p:spPr>
          <a:xfrm>
            <a:off x="838188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osest Pair Of Po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in 2D, find the pair that are clos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73160" y="2825640"/>
            <a:ext cx="7302600" cy="2882880"/>
            <a:chOff x="1073160" y="2825640"/>
            <a:chExt cx="7302600" cy="2882880"/>
          </a:xfrm>
        </p:grpSpPr>
        <p:sp>
          <p:nvSpPr>
            <p:cNvPr id="147" name=""/>
            <p:cNvSpPr/>
            <p:nvPr/>
          </p:nvSpPr>
          <p:spPr>
            <a:xfrm>
              <a:off x="1073160" y="28256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82640" y="3282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8480" y="33591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81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7560" y="4121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24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640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56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3968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95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4960" y="43498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64080" y="3740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2840" y="3130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4273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7240" y="45021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30760" y="3892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5360" y="4197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2560" y="4883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44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78680" y="5035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637080" y="4075200"/>
            <a:ext cx="919080" cy="828720"/>
          </a:xfrm>
          <a:custGeom>
            <a:avLst/>
            <a:gdLst/>
            <a:ahLst/>
            <a:rect l="l" t="t" r="r" b="b"/>
            <a:pathLst>
              <a:path w="579" h="522">
                <a:moveTo>
                  <a:pt x="13" y="169"/>
                </a:moveTo>
                <a:lnTo>
                  <a:pt x="11" y="216"/>
                </a:lnTo>
                <a:lnTo>
                  <a:pt x="0" y="249"/>
                </a:lnTo>
                <a:lnTo>
                  <a:pt x="0" y="283"/>
                </a:lnTo>
                <a:lnTo>
                  <a:pt x="0" y="317"/>
                </a:lnTo>
                <a:lnTo>
                  <a:pt x="11" y="351"/>
                </a:lnTo>
                <a:lnTo>
                  <a:pt x="23" y="385"/>
                </a:lnTo>
                <a:lnTo>
                  <a:pt x="45" y="419"/>
                </a:lnTo>
                <a:lnTo>
                  <a:pt x="79" y="453"/>
                </a:lnTo>
                <a:lnTo>
                  <a:pt x="113" y="487"/>
                </a:lnTo>
                <a:lnTo>
                  <a:pt x="147" y="510"/>
                </a:lnTo>
                <a:lnTo>
                  <a:pt x="193" y="521"/>
                </a:lnTo>
                <a:lnTo>
                  <a:pt x="227" y="521"/>
                </a:lnTo>
                <a:lnTo>
                  <a:pt x="261" y="521"/>
                </a:lnTo>
                <a:lnTo>
                  <a:pt x="317" y="521"/>
                </a:lnTo>
                <a:lnTo>
                  <a:pt x="351" y="521"/>
                </a:lnTo>
                <a:lnTo>
                  <a:pt x="385" y="521"/>
                </a:lnTo>
                <a:lnTo>
                  <a:pt x="430" y="521"/>
                </a:lnTo>
                <a:lnTo>
                  <a:pt x="476" y="521"/>
                </a:lnTo>
                <a:lnTo>
                  <a:pt x="521" y="510"/>
                </a:lnTo>
                <a:lnTo>
                  <a:pt x="544" y="476"/>
                </a:lnTo>
                <a:lnTo>
                  <a:pt x="566" y="442"/>
                </a:lnTo>
                <a:lnTo>
                  <a:pt x="578" y="408"/>
                </a:lnTo>
                <a:lnTo>
                  <a:pt x="578" y="374"/>
                </a:lnTo>
                <a:lnTo>
                  <a:pt x="578" y="340"/>
                </a:lnTo>
                <a:lnTo>
                  <a:pt x="578" y="306"/>
                </a:lnTo>
                <a:lnTo>
                  <a:pt x="555" y="272"/>
                </a:lnTo>
                <a:lnTo>
                  <a:pt x="544" y="227"/>
                </a:lnTo>
                <a:lnTo>
                  <a:pt x="532" y="193"/>
                </a:lnTo>
                <a:lnTo>
                  <a:pt x="521" y="159"/>
                </a:lnTo>
                <a:lnTo>
                  <a:pt x="510" y="125"/>
                </a:lnTo>
                <a:lnTo>
                  <a:pt x="498" y="91"/>
                </a:lnTo>
                <a:lnTo>
                  <a:pt x="453" y="34"/>
                </a:lnTo>
                <a:lnTo>
                  <a:pt x="419" y="12"/>
                </a:lnTo>
                <a:lnTo>
                  <a:pt x="385" y="0"/>
                </a:lnTo>
                <a:lnTo>
                  <a:pt x="340" y="0"/>
                </a:lnTo>
                <a:lnTo>
                  <a:pt x="306" y="0"/>
                </a:lnTo>
                <a:lnTo>
                  <a:pt x="272" y="0"/>
                </a:lnTo>
                <a:lnTo>
                  <a:pt x="238" y="0"/>
                </a:lnTo>
                <a:lnTo>
                  <a:pt x="204" y="12"/>
                </a:lnTo>
                <a:lnTo>
                  <a:pt x="147" y="23"/>
                </a:lnTo>
                <a:lnTo>
                  <a:pt x="102" y="23"/>
                </a:lnTo>
                <a:lnTo>
                  <a:pt x="57" y="34"/>
                </a:lnTo>
                <a:lnTo>
                  <a:pt x="23" y="68"/>
                </a:lnTo>
                <a:lnTo>
                  <a:pt x="11" y="102"/>
                </a:lnTo>
                <a:lnTo>
                  <a:pt x="13" y="169"/>
                </a:lnTo>
                <a:lnTo>
                  <a:pt x="13" y="1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11040" y="1225440"/>
            <a:ext cx="8445600" cy="2121120"/>
            <a:chOff x="311040" y="1225440"/>
            <a:chExt cx="8445600" cy="2121120"/>
          </a:xfrm>
        </p:grpSpPr>
        <p:sp>
          <p:nvSpPr>
            <p:cNvPr id="170" name=""/>
            <p:cNvSpPr/>
            <p:nvPr/>
          </p:nvSpPr>
          <p:spPr>
            <a:xfrm>
              <a:off x="311040" y="1225440"/>
              <a:ext cx="8445600" cy="2121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35280" y="17589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4040" y="26733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21280" y="1682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7240" y="2825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35880" y="19112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83440" y="13780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3360" y="29782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8280" y="2063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0560" y="16066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8840" y="24447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7760" y="30542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1640" y="1682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7280" y="2825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31160" y="27496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4560" y="2063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6040" y="13017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11240" y="31305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35680" y="29782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lan to drill holes in a metal she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holes are too close, the sheet will tear during dril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that no two holes are closer than a threshold distance (e.g., holes are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in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DRILL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3650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6:23Z</dcterms:modified>
  <cp:revision>157</cp:revision>
  <dc:subject/>
  <dc:title>Data Representation Methods</dc:title>
</cp:coreProperties>
</file>