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1CF-FAB9-44DD-9443-00A5F931BA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 entries of initial cost matrix are set to zero. Remaining non-edge entries need to have a suitabl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verify principle of optimality when setting up recurrence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40C-5411-4DD3-8F90-64BC3684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3B4-E975-4838-BE38-D46A7352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66B-4045-4FA0-8B72-BE6E3340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BED-990F-42CB-AC7B-B6EF361C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B27-75AD-4EF7-8DB9-3B562722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07A-280A-4C7F-BD44-C0FDE0D7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EB3-2F64-4C25-A1C0-A211B445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CFD-F4E8-400A-82AE-07177B2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5AB-08D4-44D2-A81B-B04700CD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410-7EF4-4953-922A-2034ECC9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49A-93EE-4021-B365-54287C67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2C1-8CE8-46A9-8ED5-4C3845FE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BDC7-5B30-45D4-8861-FE0018ED8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l-Pairs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directed weighted graph, find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467480" y="1066680"/>
            <a:ext cx="320760" cy="320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143000" y="3581280"/>
            <a:ext cx="7121520" cy="3033720"/>
            <a:chOff x="1143000" y="3581280"/>
            <a:chExt cx="7121520" cy="3033720"/>
          </a:xfrm>
        </p:grpSpPr>
        <p:sp>
          <p:nvSpPr>
            <p:cNvPr id="53" name=""/>
            <p:cNvSpPr/>
            <p:nvPr/>
          </p:nvSpPr>
          <p:spPr>
            <a:xfrm>
              <a:off x="1225440" y="4349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79080" y="4327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5440" y="5949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7908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54240" y="4349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07880" y="4327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8280" y="5949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3192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8480" y="5035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32120" y="5013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83240" y="4044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36880" y="4022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8880" y="5949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3252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4800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6520" y="6171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6520" y="4571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0200" y="4800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599840" y="4800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724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676520" y="5257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352320" y="5486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6171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29200" y="5333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505320" y="4266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4419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4114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50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5120" y="4724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9520" y="4952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885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57800" y="4952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4495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50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5486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6095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1480" y="6095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8080" y="3657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7440" y="5416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51080" y="5394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8520" y="5714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095880" y="4419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4800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or may not go through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shortest path does not go throug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largest permissibl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ediate vertex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o the pa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47920" y="4952880"/>
            <a:ext cx="5715000" cy="1342080"/>
            <a:chOff x="1447920" y="4952880"/>
            <a:chExt cx="5715000" cy="1342080"/>
          </a:xfrm>
        </p:grpSpPr>
        <p:sp>
          <p:nvSpPr>
            <p:cNvPr id="284" name=""/>
            <p:cNvSpPr/>
            <p:nvPr/>
          </p:nvSpPr>
          <p:spPr>
            <a:xfrm>
              <a:off x="694044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3036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724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62720"/>
              <a:ext cx="2473560" cy="56808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9720" y="520380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7920" y="571500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5638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4952880"/>
              <a:ext cx="761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 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80520" y="12171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st path goes through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05120" y="1905120"/>
            <a:ext cx="5715000" cy="1341720"/>
            <a:chOff x="1905120" y="1905120"/>
            <a:chExt cx="5715000" cy="1341720"/>
          </a:xfrm>
        </p:grpSpPr>
        <p:sp>
          <p:nvSpPr>
            <p:cNvPr id="295" name=""/>
            <p:cNvSpPr/>
            <p:nvPr/>
          </p:nvSpPr>
          <p:spPr>
            <a:xfrm>
              <a:off x="739764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756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5444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09680" y="2514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6920" y="2155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5120" y="2666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91520" y="2590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48320" y="1905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04920" y="342756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assum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repeated because no cycle has negativ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permissible intermediate vertex 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905120" y="1447920"/>
            <a:ext cx="5715000" cy="1341720"/>
            <a:chOff x="1905120" y="1447920"/>
            <a:chExt cx="5715000" cy="1341720"/>
          </a:xfrm>
        </p:grpSpPr>
        <p:sp>
          <p:nvSpPr>
            <p:cNvPr id="306" name=""/>
            <p:cNvSpPr/>
            <p:nvPr/>
          </p:nvSpPr>
          <p:spPr>
            <a:xfrm>
              <a:off x="73976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756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44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09680" y="20574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6920" y="16984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5120" y="2209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2133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83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04920" y="3427560"/>
            <a:ext cx="8458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must be a short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hat goes through no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1600200"/>
            <a:ext cx="2541600" cy="399960"/>
          </a:xfrm>
          <a:custGeom>
            <a:avLst/>
            <a:gdLst/>
            <a:ahLst/>
            <a:rect l="l" t="t" r="r" b="b"/>
            <a:pathLst>
              <a:path w="1601" h="252">
                <a:moveTo>
                  <a:pt x="18" y="210"/>
                </a:moveTo>
                <a:lnTo>
                  <a:pt x="0" y="160"/>
                </a:lnTo>
                <a:lnTo>
                  <a:pt x="12" y="125"/>
                </a:lnTo>
                <a:lnTo>
                  <a:pt x="57" y="114"/>
                </a:lnTo>
                <a:lnTo>
                  <a:pt x="92" y="114"/>
                </a:lnTo>
                <a:lnTo>
                  <a:pt x="183" y="125"/>
                </a:lnTo>
                <a:lnTo>
                  <a:pt x="217" y="125"/>
                </a:lnTo>
                <a:lnTo>
                  <a:pt x="252" y="102"/>
                </a:lnTo>
                <a:lnTo>
                  <a:pt x="343" y="91"/>
                </a:lnTo>
                <a:lnTo>
                  <a:pt x="412" y="114"/>
                </a:lnTo>
                <a:lnTo>
                  <a:pt x="446" y="102"/>
                </a:lnTo>
                <a:lnTo>
                  <a:pt x="514" y="91"/>
                </a:lnTo>
                <a:lnTo>
                  <a:pt x="560" y="57"/>
                </a:lnTo>
                <a:lnTo>
                  <a:pt x="594" y="68"/>
                </a:lnTo>
                <a:lnTo>
                  <a:pt x="629" y="91"/>
                </a:lnTo>
                <a:lnTo>
                  <a:pt x="697" y="114"/>
                </a:lnTo>
                <a:lnTo>
                  <a:pt x="789" y="125"/>
                </a:lnTo>
                <a:lnTo>
                  <a:pt x="823" y="114"/>
                </a:lnTo>
                <a:lnTo>
                  <a:pt x="846" y="80"/>
                </a:lnTo>
                <a:lnTo>
                  <a:pt x="926" y="80"/>
                </a:lnTo>
                <a:lnTo>
                  <a:pt x="1017" y="102"/>
                </a:lnTo>
                <a:lnTo>
                  <a:pt x="1063" y="102"/>
                </a:lnTo>
                <a:lnTo>
                  <a:pt x="1097" y="91"/>
                </a:lnTo>
                <a:lnTo>
                  <a:pt x="1120" y="57"/>
                </a:lnTo>
                <a:lnTo>
                  <a:pt x="1154" y="11"/>
                </a:lnTo>
                <a:lnTo>
                  <a:pt x="1188" y="0"/>
                </a:lnTo>
                <a:lnTo>
                  <a:pt x="1188" y="34"/>
                </a:lnTo>
                <a:lnTo>
                  <a:pt x="1188" y="68"/>
                </a:lnTo>
                <a:lnTo>
                  <a:pt x="1223" y="102"/>
                </a:lnTo>
                <a:lnTo>
                  <a:pt x="1257" y="137"/>
                </a:lnTo>
                <a:lnTo>
                  <a:pt x="1280" y="171"/>
                </a:lnTo>
                <a:lnTo>
                  <a:pt x="1303" y="217"/>
                </a:lnTo>
                <a:lnTo>
                  <a:pt x="1371" y="228"/>
                </a:lnTo>
                <a:lnTo>
                  <a:pt x="1463" y="240"/>
                </a:lnTo>
                <a:lnTo>
                  <a:pt x="1531" y="240"/>
                </a:lnTo>
                <a:lnTo>
                  <a:pt x="1565" y="251"/>
                </a:lnTo>
                <a:lnTo>
                  <a:pt x="1600" y="251"/>
                </a:lnTo>
              </a:path>
            </a:pathLst>
          </a:custGeom>
          <a:noFill/>
          <a:ln cap="rnd" w="507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472428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replace curr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with a shor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o get an even shor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905120" y="1447920"/>
            <a:ext cx="5715000" cy="1341720"/>
            <a:chOff x="1905120" y="1447920"/>
            <a:chExt cx="5715000" cy="1341720"/>
          </a:xfrm>
        </p:grpSpPr>
        <p:sp>
          <p:nvSpPr>
            <p:cNvPr id="319" name=""/>
            <p:cNvSpPr/>
            <p:nvPr/>
          </p:nvSpPr>
          <p:spPr>
            <a:xfrm>
              <a:off x="73976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756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544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20574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16984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2209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91520" y="2133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483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04920" y="3427560"/>
            <a:ext cx="8458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must be a short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hat goes through no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length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k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length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k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c(i,k,k-1) + c(k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560" y="3124080"/>
            <a:ext cx="8458200" cy="28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equation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comput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1, 2, 3, …,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76520" y="1447920"/>
            <a:ext cx="5715000" cy="1090800"/>
            <a:chOff x="1676520" y="1447920"/>
            <a:chExt cx="5715000" cy="1090800"/>
          </a:xfrm>
        </p:grpSpPr>
        <p:sp>
          <p:nvSpPr>
            <p:cNvPr id="331" name=""/>
            <p:cNvSpPr/>
            <p:nvPr/>
          </p:nvSpPr>
          <p:spPr>
            <a:xfrm>
              <a:off x="716904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896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2584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1080" y="1806480"/>
              <a:ext cx="2473560" cy="56808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48320" y="1447920"/>
              <a:ext cx="2525760" cy="58068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195876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62920" y="188280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Shortest Path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j,k) = min{c(i,j,k-1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k,k-1) + c(k,j,k-1)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04920" y="4343400"/>
            <a:ext cx="8229600" cy="960480"/>
            <a:chOff x="304920" y="4343400"/>
            <a:chExt cx="8229600" cy="960480"/>
          </a:xfrm>
        </p:grpSpPr>
        <p:sp>
          <p:nvSpPr>
            <p:cNvPr id="341" name=""/>
            <p:cNvSpPr/>
            <p:nvPr/>
          </p:nvSpPr>
          <p:spPr>
            <a:xfrm>
              <a:off x="304920" y="449568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 complexity is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O(n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CLOCK43" descr=""/>
            <p:cNvPicPr/>
            <p:nvPr/>
          </p:nvPicPr>
          <p:blipFill>
            <a:blip r:embed="rId1"/>
            <a:stretch/>
          </p:blipFill>
          <p:spPr>
            <a:xfrm>
              <a:off x="7924680" y="4343400"/>
              <a:ext cx="4683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30492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is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 Re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only in the computat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62120" y="2286000"/>
            <a:ext cx="6933960" cy="3733920"/>
            <a:chOff x="762120" y="2286000"/>
            <a:chExt cx="6933960" cy="3733920"/>
          </a:xfrm>
        </p:grpSpPr>
        <p:sp>
          <p:nvSpPr>
            <p:cNvPr id="347" name=""/>
            <p:cNvSpPr/>
            <p:nvPr/>
          </p:nvSpPr>
          <p:spPr>
            <a:xfrm>
              <a:off x="3054240" y="3359160"/>
              <a:ext cx="2273400" cy="2273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8320" y="2819520"/>
              <a:ext cx="0" cy="320040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8280" y="5029200"/>
              <a:ext cx="350532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86200" y="228600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olumn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5880" y="472428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row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11440" y="3892680"/>
              <a:ext cx="139680" cy="1396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0384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39625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7920" y="39625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2120" y="373392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(i,j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80880" y="60199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 Re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k,j,k) = min{c(k,j,k-1), c(k,k,k-1) + c(k,j,k-1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min{c(k,j,k-1), 0 + c(k,j,k-1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c(k,j,k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c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Shortest Path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j) = min{c(i,j), c(i,k) + c(k,j)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343400"/>
            <a:ext cx="7620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4343400"/>
            <a:ext cx="79246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= c(i,j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termination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= c(i,j,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2120" y="5257800"/>
            <a:ext cx="7924680" cy="960480"/>
            <a:chOff x="762120" y="5257800"/>
            <a:chExt cx="7924680" cy="960480"/>
          </a:xfrm>
        </p:grpSpPr>
        <p:sp>
          <p:nvSpPr>
            <p:cNvPr id="365" name=""/>
            <p:cNvSpPr/>
            <p:nvPr/>
          </p:nvSpPr>
          <p:spPr>
            <a:xfrm>
              <a:off x="762120" y="5410080"/>
              <a:ext cx="7924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 complexity is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heta(n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CLOCK43" descr=""/>
            <p:cNvPicPr/>
            <p:nvPr/>
          </p:nvPicPr>
          <p:blipFill>
            <a:blip r:embed="rId1"/>
            <a:stretch/>
          </p:blipFill>
          <p:spPr>
            <a:xfrm>
              <a:off x="7848720" y="5257800"/>
              <a:ext cx="4683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"/>
          <p:cNvSpPr/>
          <p:nvPr/>
        </p:nvSpPr>
        <p:spPr>
          <a:xfrm>
            <a:off x="762120" y="601992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is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ing The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80520" y="9885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argest vertex on the 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ortest path has no intermediate verte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342900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(i,j) &gt; c(i,k) + c(k,j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kay(i,j) = k; c(i,j) = c(i,k) + c(k,j)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jkstra’s Single Source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ijkstra’s algorith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, once with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as the source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8080" y="3200400"/>
            <a:ext cx="7121520" cy="3033720"/>
            <a:chOff x="838080" y="3200400"/>
            <a:chExt cx="7121520" cy="3033720"/>
          </a:xfrm>
        </p:grpSpPr>
        <p:sp>
          <p:nvSpPr>
            <p:cNvPr id="102" name=""/>
            <p:cNvSpPr/>
            <p:nvPr/>
          </p:nvSpPr>
          <p:spPr>
            <a:xfrm>
              <a:off x="92052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4160" y="3946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0520" y="5568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7416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932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2960" y="3946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7336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2700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73560" y="4654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27200" y="4632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8320" y="3663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31960" y="3641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396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760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4419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57909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41907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5280" y="441936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294920" y="441936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3434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371600" y="487620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047400" y="510516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79096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24280" y="495288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00400" y="38858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03848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37335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0200" y="43434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45720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3504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4572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8480" y="51051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160" y="57150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560" y="571500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5029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3160" y="327636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3200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92520" y="50353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4616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3600" y="533376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4267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790960" y="40384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44193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7    5   1    -    -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 -    -    4    -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7    -    -    9    9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5    -    -    -    -   16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4    -    -     - 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-    -     -    1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    -    -    -   -     -    -   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-    -    2    4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71600" y="762120"/>
            <a:ext cx="7121520" cy="3033720"/>
            <a:chOff x="1371600" y="762120"/>
            <a:chExt cx="7121520" cy="3033720"/>
          </a:xfrm>
        </p:grpSpPr>
        <p:sp>
          <p:nvSpPr>
            <p:cNvPr id="375" name=""/>
            <p:cNvSpPr/>
            <p:nvPr/>
          </p:nvSpPr>
          <p:spPr>
            <a:xfrm>
              <a:off x="1454040" y="1530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076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540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0768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82840" y="1530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364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68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052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7080" y="2216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072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11840" y="1225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65480" y="1203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074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6112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6520" y="1981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05120" y="33526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5120" y="17524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8800" y="198108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828440" y="198108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7600" y="190512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905120" y="243792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580920" y="266688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7600" y="33526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7800" y="251460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733920" y="144756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6600" y="160020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6000" y="1295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19051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81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00600" y="1066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6400" y="2133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91120" y="16765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0" y="2666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09680" y="32767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10080" y="327672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6600" y="25909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06680" y="83808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86000" y="7621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260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9680" y="2575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77120" y="289548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3800" y="1828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324480" y="160020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77120" y="1981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343400" y="46483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itial Cost Matrix c(*,*) = c(*,*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al Cost Matrix c(*,*) = c(*,*,n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980720" y="14479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   6    5    1  10  13  14  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   0  15    8    4   7    8   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2   7    0  13    9   9  10 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5   5  20    0    9 12  13 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   9  11    4    0   3    4   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  9   8     4  13   0    1   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  8   7     3  12   6    0   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  11 10    6  15   2    3   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ay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97144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540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07680" y="2346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540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0768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828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36480" y="2346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68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6052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70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607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1184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65480" y="20415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074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6112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4191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28195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828440" y="28195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57600" y="27432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905120" y="32767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580920" y="35053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4191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35268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733920" y="22856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4382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2743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29718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1905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2971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3505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09680" y="41148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4114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34290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2485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06680" y="1676520"/>
            <a:ext cx="6886440" cy="2363760"/>
          </a:xfrm>
          <a:custGeom>
            <a:avLst/>
            <a:gdLst/>
            <a:ahLst/>
            <a:rect l="l" t="t" r="r" b="b"/>
            <a:pathLst>
              <a:path w="4338" h="1489">
                <a:moveTo>
                  <a:pt x="4268" y="1488"/>
                </a:moveTo>
                <a:lnTo>
                  <a:pt x="4314" y="1449"/>
                </a:lnTo>
                <a:lnTo>
                  <a:pt x="4314" y="1403"/>
                </a:lnTo>
                <a:lnTo>
                  <a:pt x="4325" y="1347"/>
                </a:lnTo>
                <a:lnTo>
                  <a:pt x="4337" y="1301"/>
                </a:lnTo>
                <a:lnTo>
                  <a:pt x="4337" y="1256"/>
                </a:lnTo>
                <a:lnTo>
                  <a:pt x="4337" y="1200"/>
                </a:lnTo>
                <a:lnTo>
                  <a:pt x="4337" y="1154"/>
                </a:lnTo>
                <a:lnTo>
                  <a:pt x="4337" y="1086"/>
                </a:lnTo>
                <a:lnTo>
                  <a:pt x="4337" y="1018"/>
                </a:lnTo>
                <a:lnTo>
                  <a:pt x="4325" y="962"/>
                </a:lnTo>
                <a:lnTo>
                  <a:pt x="4303" y="905"/>
                </a:lnTo>
                <a:lnTo>
                  <a:pt x="4280" y="849"/>
                </a:lnTo>
                <a:lnTo>
                  <a:pt x="4246" y="792"/>
                </a:lnTo>
                <a:lnTo>
                  <a:pt x="4212" y="736"/>
                </a:lnTo>
                <a:lnTo>
                  <a:pt x="4178" y="690"/>
                </a:lnTo>
                <a:lnTo>
                  <a:pt x="4155" y="656"/>
                </a:lnTo>
                <a:lnTo>
                  <a:pt x="4121" y="622"/>
                </a:lnTo>
                <a:lnTo>
                  <a:pt x="4099" y="588"/>
                </a:lnTo>
                <a:lnTo>
                  <a:pt x="4065" y="554"/>
                </a:lnTo>
                <a:lnTo>
                  <a:pt x="4020" y="498"/>
                </a:lnTo>
                <a:lnTo>
                  <a:pt x="3986" y="475"/>
                </a:lnTo>
                <a:lnTo>
                  <a:pt x="3963" y="441"/>
                </a:lnTo>
                <a:lnTo>
                  <a:pt x="3929" y="407"/>
                </a:lnTo>
                <a:lnTo>
                  <a:pt x="3884" y="351"/>
                </a:lnTo>
                <a:lnTo>
                  <a:pt x="3861" y="317"/>
                </a:lnTo>
                <a:lnTo>
                  <a:pt x="3827" y="283"/>
                </a:lnTo>
                <a:lnTo>
                  <a:pt x="3793" y="249"/>
                </a:lnTo>
                <a:lnTo>
                  <a:pt x="3748" y="215"/>
                </a:lnTo>
                <a:lnTo>
                  <a:pt x="3714" y="181"/>
                </a:lnTo>
                <a:lnTo>
                  <a:pt x="3680" y="170"/>
                </a:lnTo>
                <a:lnTo>
                  <a:pt x="3623" y="124"/>
                </a:lnTo>
                <a:lnTo>
                  <a:pt x="3578" y="102"/>
                </a:lnTo>
                <a:lnTo>
                  <a:pt x="3544" y="90"/>
                </a:lnTo>
                <a:lnTo>
                  <a:pt x="3487" y="68"/>
                </a:lnTo>
                <a:lnTo>
                  <a:pt x="3442" y="68"/>
                </a:lnTo>
                <a:lnTo>
                  <a:pt x="3397" y="56"/>
                </a:lnTo>
                <a:lnTo>
                  <a:pt x="3340" y="45"/>
                </a:lnTo>
                <a:lnTo>
                  <a:pt x="3283" y="45"/>
                </a:lnTo>
                <a:lnTo>
                  <a:pt x="3249" y="45"/>
                </a:lnTo>
                <a:lnTo>
                  <a:pt x="3216" y="45"/>
                </a:lnTo>
                <a:lnTo>
                  <a:pt x="3148" y="34"/>
                </a:lnTo>
                <a:lnTo>
                  <a:pt x="3102" y="34"/>
                </a:lnTo>
                <a:lnTo>
                  <a:pt x="3068" y="34"/>
                </a:lnTo>
                <a:lnTo>
                  <a:pt x="3034" y="34"/>
                </a:lnTo>
                <a:lnTo>
                  <a:pt x="2989" y="34"/>
                </a:lnTo>
                <a:lnTo>
                  <a:pt x="2921" y="34"/>
                </a:lnTo>
                <a:lnTo>
                  <a:pt x="2887" y="34"/>
                </a:lnTo>
                <a:lnTo>
                  <a:pt x="2853" y="34"/>
                </a:lnTo>
                <a:lnTo>
                  <a:pt x="2808" y="34"/>
                </a:lnTo>
                <a:lnTo>
                  <a:pt x="2763" y="34"/>
                </a:lnTo>
                <a:lnTo>
                  <a:pt x="2729" y="34"/>
                </a:lnTo>
                <a:lnTo>
                  <a:pt x="2683" y="34"/>
                </a:lnTo>
                <a:lnTo>
                  <a:pt x="2638" y="34"/>
                </a:lnTo>
                <a:lnTo>
                  <a:pt x="2604" y="22"/>
                </a:lnTo>
                <a:lnTo>
                  <a:pt x="2559" y="22"/>
                </a:lnTo>
                <a:lnTo>
                  <a:pt x="2525" y="22"/>
                </a:lnTo>
                <a:lnTo>
                  <a:pt x="2491" y="22"/>
                </a:lnTo>
                <a:lnTo>
                  <a:pt x="2412" y="22"/>
                </a:lnTo>
                <a:lnTo>
                  <a:pt x="2344" y="22"/>
                </a:lnTo>
                <a:lnTo>
                  <a:pt x="2298" y="22"/>
                </a:lnTo>
                <a:lnTo>
                  <a:pt x="2253" y="22"/>
                </a:lnTo>
                <a:lnTo>
                  <a:pt x="2196" y="22"/>
                </a:lnTo>
                <a:lnTo>
                  <a:pt x="2151" y="22"/>
                </a:lnTo>
                <a:lnTo>
                  <a:pt x="2083" y="22"/>
                </a:lnTo>
                <a:lnTo>
                  <a:pt x="2015" y="22"/>
                </a:lnTo>
                <a:lnTo>
                  <a:pt x="1947" y="22"/>
                </a:lnTo>
                <a:lnTo>
                  <a:pt x="1891" y="22"/>
                </a:lnTo>
                <a:lnTo>
                  <a:pt x="1834" y="22"/>
                </a:lnTo>
                <a:lnTo>
                  <a:pt x="1766" y="22"/>
                </a:lnTo>
                <a:lnTo>
                  <a:pt x="1709" y="22"/>
                </a:lnTo>
                <a:lnTo>
                  <a:pt x="1653" y="22"/>
                </a:lnTo>
                <a:lnTo>
                  <a:pt x="1608" y="22"/>
                </a:lnTo>
                <a:lnTo>
                  <a:pt x="1540" y="22"/>
                </a:lnTo>
                <a:lnTo>
                  <a:pt x="1483" y="22"/>
                </a:lnTo>
                <a:lnTo>
                  <a:pt x="1415" y="22"/>
                </a:lnTo>
                <a:lnTo>
                  <a:pt x="1336" y="22"/>
                </a:lnTo>
                <a:lnTo>
                  <a:pt x="1257" y="22"/>
                </a:lnTo>
                <a:lnTo>
                  <a:pt x="1189" y="22"/>
                </a:lnTo>
                <a:lnTo>
                  <a:pt x="1132" y="22"/>
                </a:lnTo>
                <a:lnTo>
                  <a:pt x="1064" y="22"/>
                </a:lnTo>
                <a:lnTo>
                  <a:pt x="985" y="22"/>
                </a:lnTo>
                <a:lnTo>
                  <a:pt x="928" y="22"/>
                </a:lnTo>
                <a:lnTo>
                  <a:pt x="883" y="22"/>
                </a:lnTo>
                <a:lnTo>
                  <a:pt x="849" y="22"/>
                </a:lnTo>
                <a:lnTo>
                  <a:pt x="792" y="22"/>
                </a:lnTo>
                <a:lnTo>
                  <a:pt x="713" y="11"/>
                </a:lnTo>
                <a:lnTo>
                  <a:pt x="656" y="11"/>
                </a:lnTo>
                <a:lnTo>
                  <a:pt x="622" y="11"/>
                </a:lnTo>
                <a:lnTo>
                  <a:pt x="577" y="0"/>
                </a:lnTo>
                <a:lnTo>
                  <a:pt x="543" y="0"/>
                </a:lnTo>
                <a:lnTo>
                  <a:pt x="498" y="0"/>
                </a:lnTo>
                <a:lnTo>
                  <a:pt x="441" y="0"/>
                </a:lnTo>
                <a:lnTo>
                  <a:pt x="407" y="0"/>
                </a:lnTo>
                <a:lnTo>
                  <a:pt x="362" y="11"/>
                </a:lnTo>
                <a:lnTo>
                  <a:pt x="317" y="11"/>
                </a:lnTo>
                <a:lnTo>
                  <a:pt x="283" y="22"/>
                </a:lnTo>
                <a:lnTo>
                  <a:pt x="249" y="34"/>
                </a:lnTo>
                <a:lnTo>
                  <a:pt x="203" y="56"/>
                </a:lnTo>
                <a:lnTo>
                  <a:pt x="158" y="79"/>
                </a:lnTo>
                <a:lnTo>
                  <a:pt x="124" y="102"/>
                </a:lnTo>
                <a:lnTo>
                  <a:pt x="90" y="136"/>
                </a:lnTo>
                <a:lnTo>
                  <a:pt x="56" y="170"/>
                </a:lnTo>
                <a:lnTo>
                  <a:pt x="34" y="215"/>
                </a:lnTo>
                <a:lnTo>
                  <a:pt x="11" y="249"/>
                </a:lnTo>
                <a:lnTo>
                  <a:pt x="0" y="283"/>
                </a:lnTo>
                <a:lnTo>
                  <a:pt x="0" y="328"/>
                </a:lnTo>
                <a:lnTo>
                  <a:pt x="0" y="362"/>
                </a:lnTo>
                <a:lnTo>
                  <a:pt x="0" y="396"/>
                </a:lnTo>
                <a:lnTo>
                  <a:pt x="0" y="43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260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9680" y="3413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77120" y="3733920"/>
            <a:ext cx="16002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43800" y="26668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324480" y="2438280"/>
            <a:ext cx="4572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819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28800" y="28195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05120" y="4191120"/>
            <a:ext cx="12952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05120" y="3276720"/>
            <a:ext cx="2895480" cy="8380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7800" y="3352680"/>
            <a:ext cx="76212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324480" y="2438280"/>
            <a:ext cx="457200" cy="99072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86600" y="24382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67080" y="1523880"/>
            <a:ext cx="46483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7)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72000" y="2971800"/>
            <a:ext cx="2971800" cy="519120"/>
            <a:chOff x="4572000" y="2971800"/>
            <a:chExt cx="2971800" cy="519120"/>
          </a:xfrm>
        </p:grpSpPr>
        <p:sp>
          <p:nvSpPr>
            <p:cNvPr id="486" name=""/>
            <p:cNvSpPr/>
            <p:nvPr/>
          </p:nvSpPr>
          <p:spPr>
            <a:xfrm>
              <a:off x="4572000" y="2971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67280" y="29718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2920" y="2971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76920" y="3200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48520" y="3200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267080" y="35053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8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48320" y="4114800"/>
            <a:ext cx="4267080" cy="519120"/>
            <a:chOff x="4648320" y="4114800"/>
            <a:chExt cx="4267080" cy="519120"/>
          </a:xfrm>
        </p:grpSpPr>
        <p:sp>
          <p:nvSpPr>
            <p:cNvPr id="493" name=""/>
            <p:cNvSpPr/>
            <p:nvPr/>
          </p:nvSpPr>
          <p:spPr>
            <a:xfrm>
              <a:off x="464832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60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38880" y="41148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52880" y="4343400"/>
              <a:ext cx="990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24480" y="4343400"/>
              <a:ext cx="990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3452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0120" y="4343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267080" y="46483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5)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495680" y="5410080"/>
            <a:ext cx="4267440" cy="519120"/>
            <a:chOff x="4495680" y="5410080"/>
            <a:chExt cx="4267440" cy="519120"/>
          </a:xfrm>
        </p:grpSpPr>
        <p:sp>
          <p:nvSpPr>
            <p:cNvPr id="502" name=""/>
            <p:cNvSpPr/>
            <p:nvPr/>
          </p:nvSpPr>
          <p:spPr>
            <a:xfrm>
              <a:off x="44956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30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438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00600" y="563868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34320" y="56386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24680" y="56386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64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67280" y="563868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343400" y="2209680"/>
            <a:ext cx="4267080" cy="519120"/>
            <a:chOff x="4343400" y="2209680"/>
            <a:chExt cx="4267080" cy="519120"/>
          </a:xfrm>
        </p:grpSpPr>
        <p:sp>
          <p:nvSpPr>
            <p:cNvPr id="515" name=""/>
            <p:cNvSpPr/>
            <p:nvPr/>
          </p:nvSpPr>
          <p:spPr>
            <a:xfrm>
              <a:off x="43434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08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15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48320" y="243828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81680" y="243828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296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72400" y="2438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41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15000" y="24382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4343400" y="28195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4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419720" y="3505320"/>
            <a:ext cx="3581280" cy="519120"/>
            <a:chOff x="4419720" y="3505320"/>
            <a:chExt cx="3581280" cy="519120"/>
          </a:xfrm>
        </p:grpSpPr>
        <p:sp>
          <p:nvSpPr>
            <p:cNvPr id="526" name=""/>
            <p:cNvSpPr/>
            <p:nvPr/>
          </p:nvSpPr>
          <p:spPr>
            <a:xfrm>
              <a:off x="44197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913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81680" y="3505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72200" y="3733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201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62920" y="373392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24280" y="3505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05520" y="3733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344840" y="40384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4,5)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419720" y="4648320"/>
            <a:ext cx="4572000" cy="519120"/>
            <a:chOff x="4419720" y="4648320"/>
            <a:chExt cx="4572000" cy="519120"/>
          </a:xfrm>
        </p:grpSpPr>
        <p:sp>
          <p:nvSpPr>
            <p:cNvPr id="536" name=""/>
            <p:cNvSpPr/>
            <p:nvPr/>
          </p:nvSpPr>
          <p:spPr>
            <a:xfrm>
              <a:off x="441972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7240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29200" y="487692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62920" y="4876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104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53280" y="48769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1500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5880" y="487692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42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422600" y="51814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4,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421160" y="5791320"/>
            <a:ext cx="3962520" cy="519120"/>
            <a:chOff x="4421160" y="5791320"/>
            <a:chExt cx="3962520" cy="519120"/>
          </a:xfrm>
        </p:grpSpPr>
        <p:sp>
          <p:nvSpPr>
            <p:cNvPr id="548" name=""/>
            <p:cNvSpPr/>
            <p:nvPr/>
          </p:nvSpPr>
          <p:spPr>
            <a:xfrm>
              <a:off x="44211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3640" y="5791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43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54880" y="6019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02440" y="5791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45240" y="60199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069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87840" y="601992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608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211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73640" y="2133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1643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54880" y="2362320"/>
            <a:ext cx="609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02440" y="2133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45240" y="2362320"/>
            <a:ext cx="5335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1069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87840" y="2362320"/>
            <a:ext cx="6098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2608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4000" y="27432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2,5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497480" y="3352680"/>
            <a:ext cx="3200400" cy="519120"/>
            <a:chOff x="4497480" y="3352680"/>
            <a:chExt cx="3200400" cy="519120"/>
          </a:xfrm>
        </p:grpSpPr>
        <p:sp>
          <p:nvSpPr>
            <p:cNvPr id="571" name=""/>
            <p:cNvSpPr/>
            <p:nvPr/>
          </p:nvSpPr>
          <p:spPr>
            <a:xfrm>
              <a:off x="449748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878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7856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69080" y="35812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66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9440" y="3581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8328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020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94000" y="3809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5,8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3440" y="4343400"/>
            <a:ext cx="2514600" cy="519120"/>
            <a:chOff x="4573440" y="4343400"/>
            <a:chExt cx="2514600" cy="519120"/>
          </a:xfrm>
        </p:grpSpPr>
        <p:sp>
          <p:nvSpPr>
            <p:cNvPr id="581" name=""/>
            <p:cNvSpPr/>
            <p:nvPr/>
          </p:nvSpPr>
          <p:spPr>
            <a:xfrm>
              <a:off x="4573440" y="4343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641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908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71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49960" y="457200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59240" y="4343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4194000" y="48006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8,7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497480" y="5410080"/>
            <a:ext cx="3352680" cy="519120"/>
            <a:chOff x="4497480" y="5410080"/>
            <a:chExt cx="3352680" cy="519120"/>
          </a:xfrm>
        </p:grpSpPr>
        <p:sp>
          <p:nvSpPr>
            <p:cNvPr id="590" name=""/>
            <p:cNvSpPr/>
            <p:nvPr/>
          </p:nvSpPr>
          <p:spPr>
            <a:xfrm>
              <a:off x="44974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878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9276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308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73640" y="56386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32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020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692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12080" y="56386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649760" y="2209680"/>
            <a:ext cx="3352680" cy="519120"/>
            <a:chOff x="4649760" y="2209680"/>
            <a:chExt cx="3352680" cy="519120"/>
          </a:xfrm>
        </p:grpSpPr>
        <p:sp>
          <p:nvSpPr>
            <p:cNvPr id="603" name=""/>
            <p:cNvSpPr/>
            <p:nvPr/>
          </p:nvSpPr>
          <p:spPr>
            <a:xfrm>
              <a:off x="46497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404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45040" y="2209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834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6280" y="24382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546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5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64360" y="2438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265640" y="29718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8,6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73440" y="3581280"/>
            <a:ext cx="2819520" cy="519120"/>
            <a:chOff x="4573440" y="3581280"/>
            <a:chExt cx="2819520" cy="519120"/>
          </a:xfrm>
        </p:grpSpPr>
        <p:sp>
          <p:nvSpPr>
            <p:cNvPr id="614" name=""/>
            <p:cNvSpPr/>
            <p:nvPr/>
          </p:nvSpPr>
          <p:spPr>
            <a:xfrm>
              <a:off x="45734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6416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908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36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592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7836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208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4880" y="38098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265640" y="41148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6,7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649760" y="4724280"/>
            <a:ext cx="2286000" cy="519120"/>
            <a:chOff x="4649760" y="4724280"/>
            <a:chExt cx="2286000" cy="519120"/>
          </a:xfrm>
        </p:grpSpPr>
        <p:sp>
          <p:nvSpPr>
            <p:cNvPr id="624" name=""/>
            <p:cNvSpPr/>
            <p:nvPr/>
          </p:nvSpPr>
          <p:spPr>
            <a:xfrm>
              <a:off x="46497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404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5040" y="4724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499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355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546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548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put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blic static 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putPath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does not output first vertex (i) o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 == j)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ay[i][j] == 0)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no intermediate vertices o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(j + " 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kay[i][j] is an intermediate vertex on th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Path(i, kay[i][j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Path(kay[i][j], j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output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umber of vertices on shortest pa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CLOCK43" descr=""/>
          <p:cNvPicPr/>
          <p:nvPr/>
        </p:nvPicPr>
        <p:blipFill>
          <a:blip r:embed="rId1"/>
          <a:stretch/>
        </p:blipFill>
        <p:spPr>
          <a:xfrm>
            <a:off x="8381880" y="5335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only when no edge has a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OBOT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960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so long as there is no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re is a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shortest paths aren’t 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vertex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 a cycle whose length 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ach time you go around this cycl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tha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 shorter than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r to code, smaller overh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n as Floyd’s shortest paths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decide the highest intermediate vertex (i.e., largest vertex number) on the shortest path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hortest pa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, 2, 6, 3, 8, 5, 7, 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decision is that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intermediate vertex on the shortest path and no intermediate vertex is lar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decide the highest intermediate vertex on the pa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5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problem of finding the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problem of finding the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ith no restrictions on intermediate vert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6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7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j,n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vertex is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43000" y="3824280"/>
            <a:ext cx="7121520" cy="3033720"/>
            <a:chOff x="1143000" y="3824280"/>
            <a:chExt cx="7121520" cy="3033720"/>
          </a:xfrm>
        </p:grpSpPr>
        <p:sp>
          <p:nvSpPr>
            <p:cNvPr id="186" name=""/>
            <p:cNvSpPr/>
            <p:nvPr/>
          </p:nvSpPr>
          <p:spPr>
            <a:xfrm>
              <a:off x="12254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790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25440" y="6192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7908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542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078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782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319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8480" y="5278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32120" y="525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3240" y="4287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36880" y="42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788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325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5043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6414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6520" y="4814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200" y="5043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599840" y="5043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4967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676520" y="5500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352320" y="5729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6414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5576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05320" y="4509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4662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357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4967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9520" y="51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1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51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2520" y="4738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43400" y="5729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1080" y="6338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1480" y="6338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0" y="5653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8080" y="3900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38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7440" y="565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108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48520" y="5957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4890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095880" y="4662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5043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j,0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ertex is lar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c(i,j,0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ength of a single-edge path from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43000" y="3824280"/>
            <a:ext cx="7121520" cy="3033720"/>
            <a:chOff x="1143000" y="3824280"/>
            <a:chExt cx="7121520" cy="3033720"/>
          </a:xfrm>
        </p:grpSpPr>
        <p:sp>
          <p:nvSpPr>
            <p:cNvPr id="235" name=""/>
            <p:cNvSpPr/>
            <p:nvPr/>
          </p:nvSpPr>
          <p:spPr>
            <a:xfrm>
              <a:off x="12254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790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5440" y="6192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7908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542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78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82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19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8480" y="5278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32120" y="525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3240" y="4287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36880" y="42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88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325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7920" y="5043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520" y="6414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814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0200" y="5043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599840" y="5043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4967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676520" y="5500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352320" y="5729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6414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29200" y="5576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05320" y="4509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4662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57400" y="4357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430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5120" y="4967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19520" y="51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72000" y="41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57800" y="51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2520" y="4738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3400" y="5729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6338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6338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5653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8080" y="3900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7400" y="38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97440" y="565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108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5957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15200" y="4890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4662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5043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01:47Z</dcterms:modified>
  <cp:revision>188</cp:revision>
  <dc:subject/>
  <dc:title>Data Representation Methods</dc:title>
</cp:coreProperties>
</file>