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D0C-87DF-4556-8B11-DBA235BA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BF0-A261-40CD-8031-E08FE29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A54-BCD6-4F1D-974F-4F45A000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432-2C41-4AEE-B28C-84190417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3F8-C5D6-4EED-AF93-F99CE84E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17F-BDA7-49D9-8ED9-63E5A3DD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71E-0FA5-4BAE-898A-30D2E5F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61C-6472-4C63-A9BB-865A29C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E10-9DAE-4A74-A5A0-4B45AE15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778-2195-4BED-B0BB-8B58D10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7C9-BAB7-4E5B-82CE-49190D5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B31-FF31-4EF8-84B6-7B444EF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4543-3793-43F1-8D91-F640062C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Sept. 2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1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FREE FOOD!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ed by IEEE and H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ational Instruments"/>
          <p:cNvPicPr/>
          <p:nvPr/>
        </p:nvPicPr>
        <p:blipFill>
          <a:blip r:embed="rId1"/>
          <a:stretch/>
        </p:blipFill>
        <p:spPr>
          <a:xfrm>
            <a:off x="2590920" y="304920"/>
            <a:ext cx="426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9:53:34Z</dcterms:created>
  <dc:creator>monica</dc:creator>
  <dc:description/>
  <dc:language>en-US</dc:language>
  <cp:lastModifiedBy>monica</cp:lastModifiedBy>
  <dcterms:modified xsi:type="dcterms:W3CDTF">2002-09-16T19:54:30Z</dcterms:modified>
  <cp:revision>2</cp:revision>
  <dc:subject/>
  <dc:title>    Information Session Monday Sept. 23rd NEB 100 6:15 pm  -FREE FOOD!-     </dc:title>
</cp:coreProperties>
</file>